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BF8-60C5-4070-8242-C14BDDD5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0C6-B66D-468D-A006-C54272F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9B4-8856-4C86-B13E-70E1ECB7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08A-3F2E-45D8-8CA0-2B5DCC2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6A3-7690-42D6-98FA-1D30A3F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622-D9B8-4E99-B76E-58EAB43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DEB-5187-4F2A-BF35-32C783E3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4CF-FD21-4C36-A4A3-2E30EA77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8B7-D03E-4577-9E63-8571A87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85A-0AAD-45D3-AC5C-C6E5135B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921-FB64-4326-A9C4-37F28A0B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5E7-66BB-4651-9FA6-6066A11B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D91-967D-44DE-AC93-CBAB0DB4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Presentation2.ppt" TargetMode="External"/><Relationship Id="rId4" Type="http://schemas.openxmlformats.org/officeDocument/2006/relationships/hyperlink" Target="file:///Presentation3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609480"/>
            <a:ext cx="314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COMPA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1480" y="1828800"/>
            <a:ext cx="90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ss is known as the sailors friend. As there were no 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sea, sailors often get lost so the compass is something that gu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il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34704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ow it was fou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5520" y="40035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he modifi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9:47:28Z</dcterms:created>
  <dc:creator>Win98 user</dc:creator>
  <dc:description/>
  <dc:language>en-US</dc:language>
  <cp:lastModifiedBy>Win98 user</cp:lastModifiedBy>
  <dcterms:modified xsi:type="dcterms:W3CDTF">2004-03-30T10:07:41Z</dcterms:modified>
  <cp:revision>3</cp:revision>
  <dc:subject/>
  <dc:title>PowerPoint Presentation</dc:title>
</cp:coreProperties>
</file>