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EF1-4143-4D21-A159-90216A6C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6B6-8DDA-4150-9E2B-D3DD905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DFC-D2E4-46F1-B168-50302610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8FC-AC88-4369-8621-A922D55E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0D7-34BC-4279-A6C9-322EA3E0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92D-EC84-4816-A3C1-1895657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978-7B7B-4904-BA8D-F96AB2E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8EC-237F-4D3E-90AC-3F921A7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D7A-51A6-4D13-AD32-2D28BD08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84C-D893-423F-927B-E2D74FB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679-7CD4-43FA-9B10-563E038B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7A2-F3E5-4F10-B07F-AC5B4E4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045-E3DA-47B4-86CF-16F1063E5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066680"/>
            <a:ext cx="708660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5:51Z</dcterms:created>
  <dc:creator>peicai</dc:creator>
  <dc:description/>
  <dc:language>en-US</dc:language>
  <cp:lastModifiedBy>peicai</cp:lastModifiedBy>
  <dcterms:modified xsi:type="dcterms:W3CDTF">2003-05-29T18:57:39Z</dcterms:modified>
  <cp:revision>1</cp:revision>
  <dc:subject/>
  <dc:title>PowerPoint Presentation</dc:title>
</cp:coreProperties>
</file>