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ANISES.WAV" ContentType="audio/x-wav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AF8-FA3B-437D-B65A-EB277CBE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7AD-1479-4ABA-84D0-F554E30B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872-8AFF-4969-AE9A-6CA2741C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6F6-FBFA-4352-AA9C-F6623512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4E5-D6D7-49F0-9EA5-0577552D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9602-1955-428D-A1DE-C03BCEF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D13A-E9EA-4C6D-9EAE-FD9B5FD5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961-9DF8-435D-9004-F72D655C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271-D905-4949-96A9-79F6ACC1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5762-B0A7-4432-B3A9-22F83AFC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92A-B76E-46AE-812B-C022778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932-8C47-4135-8FDA-424AE35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74A-DF98-4383-A936-C570481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3733-4EDE-4FF0-90EA-8AD70D86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5B1-2C8F-47C3-BE62-B786B29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ABA9-3E5A-4C6E-A521-3222969D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20CB-099E-42D6-B5AA-7E131F31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03B4-9388-48C1-85A3-0CD85D8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4A6-6487-4D14-BC2F-58BE7B24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CB9-3799-4878-BDEF-13C54462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98B-91ED-4050-B29E-62424C8E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737-FC01-476D-AFBB-FE379A4D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DEC-F32A-4DBA-A414-B523052B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2F8-0838-4B9B-AD49-FA13DADD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4BE-F869-4F31-9496-6D73038FB74F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68D5-F50A-40A1-BC0F-7C8811736A22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scal.wav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ANIS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scal.wav" TargetMode="Externa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ANIS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ANIS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ANISES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NISES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ANISES.WAV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NIS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447920" y="914400"/>
            <a:ext cx="68580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ascal’s Triangle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d 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inomial Expans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elim Y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1523880"/>
            <a:ext cx="74674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2x+13)(2x+13)(2x+13)(2x+1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2x+13)(2x+13)(2x+13)(2x+13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We don’t have time to expand something like that do w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, I don’t, no matter what I’ll find an easi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14600" y="1981080"/>
            <a:ext cx="4286160" cy="121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No Way!!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82520" y="137160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66"/>
                </a:solidFill>
                <a:latin typeface="Tahoma"/>
              </a:rPr>
              <a:t>What do we hav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"/>
          </p:cNvPr>
          <p:cNvSpPr/>
          <p:nvPr/>
        </p:nvSpPr>
        <p:spPr>
          <a:xfrm>
            <a:off x="2397960" y="2666880"/>
            <a:ext cx="536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I think the best way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xpand this kind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Pascal’s 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6240" y="556272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4c3da"/>
                </a:solidFill>
                <a:latin typeface="Tahoma"/>
              </a:rPr>
              <a:t>His way is about a triangle he ma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238880" y="533520"/>
            <a:ext cx="1035000" cy="2225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295280" y="2362320"/>
            <a:ext cx="793800" cy="2409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  <p:sndAc>
      <p:stSnd>
        <p:snd r:embed="rId4" name="ANIS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663560" y="1724040"/>
            <a:ext cx="3048120" cy="2635200"/>
            <a:chOff x="1663560" y="1724040"/>
            <a:chExt cx="3048120" cy="2635200"/>
          </a:xfrm>
        </p:grpSpPr>
        <p:sp>
          <p:nvSpPr>
            <p:cNvPr id="196" name=""/>
            <p:cNvSpPr/>
            <p:nvPr/>
          </p:nvSpPr>
          <p:spPr>
            <a:xfrm>
              <a:off x="4191120" y="3902040"/>
              <a:ext cx="52056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3560" y="1724040"/>
              <a:ext cx="1792440" cy="192276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or example,  this 4 is the sum of 1 and 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30480" y="3422520"/>
            <a:ext cx="1041480" cy="457200"/>
            <a:chOff x="3930480" y="3422520"/>
            <a:chExt cx="1041480" cy="457200"/>
          </a:xfrm>
        </p:grpSpPr>
        <p:sp>
          <p:nvSpPr>
            <p:cNvPr id="199" name=""/>
            <p:cNvSpPr/>
            <p:nvPr/>
          </p:nvSpPr>
          <p:spPr>
            <a:xfrm>
              <a:off x="4451400" y="3422520"/>
              <a:ext cx="520560" cy="457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30480" y="3422520"/>
              <a:ext cx="520920" cy="457200"/>
            </a:xfrm>
            <a:prstGeom prst="ellipse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88000" y="5335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8640" y="19810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017800"/>
            <a:ext cx="2651400" cy="16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99cc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ff33"/>
                </a:solidFill>
                <a:latin typeface="Tahoma"/>
              </a:rPr>
              <a:t>Notice the number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ff33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66ff33"/>
                </a:solidFill>
                <a:latin typeface="Tahoma"/>
              </a:rPr>
              <a:t>the sum of the numb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ff33"/>
                </a:solidFill>
                <a:latin typeface="Tahoma"/>
              </a:rPr>
              <a:t>directly abov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067200" y="4172040"/>
            <a:ext cx="2057400" cy="419040"/>
            <a:chOff x="3067200" y="4172040"/>
            <a:chExt cx="2057400" cy="419040"/>
          </a:xfrm>
        </p:grpSpPr>
        <p:sp>
          <p:nvSpPr>
            <p:cNvPr id="205" name=""/>
            <p:cNvSpPr/>
            <p:nvPr/>
          </p:nvSpPr>
          <p:spPr>
            <a:xfrm>
              <a:off x="3067200" y="4172040"/>
              <a:ext cx="457200" cy="419040"/>
            </a:xfrm>
            <a:prstGeom prst="ellipse">
              <a:avLst/>
            </a:prstGeom>
            <a:solidFill>
              <a:srgbClr val="e2feb8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7400" y="4172040"/>
              <a:ext cx="457200" cy="419040"/>
            </a:xfrm>
            <a:prstGeom prst="ellipse">
              <a:avLst/>
            </a:prstGeom>
            <a:solidFill>
              <a:srgbClr val="e2feb8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39680" y="0"/>
            <a:ext cx="1792440" cy="2288520"/>
          </a:xfrm>
          <a:prstGeom prst="rect">
            <a:avLst/>
          </a:prstGeom>
          <a:solidFill>
            <a:srgbClr val="e2feb8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Let’s see what else is interesting about this triangl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3840" y="76212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</a:t>
            </a:r>
            <a:r>
              <a:rPr b="0" lang="en-US" sz="1600" spc="-1" strike="noStrike">
                <a:solidFill>
                  <a:srgbClr val="9933ff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dc529"/>
                </a:solidFill>
                <a:latin typeface="Tahoma"/>
              </a:rPr>
              <a:t>3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dc529"/>
                </a:solidFill>
                <a:latin typeface="Tahoma"/>
              </a:rPr>
              <a:t>3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9933ff"/>
                </a:solidFill>
                <a:latin typeface="Tahoma"/>
              </a:rPr>
              <a:t> 7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019400" y="339840"/>
            <a:ext cx="4746600" cy="6362640"/>
            <a:chOff x="4019400" y="339840"/>
            <a:chExt cx="4746600" cy="6362640"/>
          </a:xfrm>
        </p:grpSpPr>
        <p:sp>
          <p:nvSpPr>
            <p:cNvPr id="210" name=""/>
            <p:cNvSpPr/>
            <p:nvPr/>
          </p:nvSpPr>
          <p:spPr>
            <a:xfrm>
              <a:off x="6114600" y="2017800"/>
              <a:ext cx="2651400" cy="1618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99cc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66ff33"/>
                  </a:solidFill>
                  <a:latin typeface="Tahoma"/>
                </a:rPr>
                <a:t>Did you notice the numbers are symmetrical along this line?  An example is shown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19400" y="339840"/>
              <a:ext cx="0" cy="6362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84160" y="563400"/>
            <a:ext cx="4272840" cy="1363680"/>
            <a:chOff x="4484160" y="563400"/>
            <a:chExt cx="4272840" cy="1363680"/>
          </a:xfrm>
        </p:grpSpPr>
        <p:sp>
          <p:nvSpPr>
            <p:cNvPr id="213" name=""/>
            <p:cNvSpPr/>
            <p:nvPr/>
          </p:nvSpPr>
          <p:spPr>
            <a:xfrm>
              <a:off x="4493520" y="563400"/>
              <a:ext cx="426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The numbers start and end with 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484160" y="1238400"/>
              <a:ext cx="10018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4484160" y="1238400"/>
              <a:ext cx="1001880" cy="68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  <p:sndAc>
      <p:stSnd>
        <p:snd r:embed="rId2" name="ANIS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4840" y="0"/>
            <a:ext cx="61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But there more.  Much more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8800" y="22096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082960"/>
            <a:ext cx="52498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6   and so on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48960" y="977760"/>
            <a:ext cx="7767360" cy="337320"/>
          </a:xfrm>
          <a:prstGeom prst="rect">
            <a:avLst/>
          </a:prstGeom>
          <a:solidFill>
            <a:srgbClr val="fdc52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ok very closely at the triangle numbers and the coeffic</a:t>
            </a:r>
            <a:r>
              <a:rPr b="0" lang="en-US" sz="1600" spc="-1" strike="noStrike">
                <a:solidFill>
                  <a:srgbClr val="9933ff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s of the expa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64000" y="1568520"/>
            <a:ext cx="32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Did you notice that they match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97720" y="1783080"/>
            <a:ext cx="156312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example</a:t>
            </a:r>
            <a:r>
              <a:rPr b="0" i="1" lang="tr-TR" sz="2400" spc="-1" strike="noStrike">
                <a:solidFill>
                  <a:srgbClr val="0066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04760" y="2240640"/>
            <a:ext cx="10159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ff33"/>
                </a:solidFill>
                <a:latin typeface="Tahoma"/>
              </a:rPr>
              <a:t>Thes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38520" y="2638440"/>
            <a:ext cx="2514600" cy="714240"/>
          </a:xfrm>
          <a:prstGeom prst="line">
            <a:avLst/>
          </a:prstGeom>
          <a:ln w="1260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3200400"/>
            <a:ext cx="333360" cy="30492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00600" y="2638440"/>
            <a:ext cx="3152880" cy="561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67080" y="2638440"/>
            <a:ext cx="368640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3200400"/>
            <a:ext cx="333360" cy="304920"/>
          </a:xfrm>
          <a:prstGeom prst="ellipse">
            <a:avLst/>
          </a:prstGeom>
          <a:noFill/>
          <a:ln w="12600">
            <a:solidFill>
              <a:srgbClr val="0066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38640" y="3200400"/>
            <a:ext cx="333360" cy="304920"/>
          </a:xfrm>
          <a:prstGeom prst="ellipse">
            <a:avLst/>
          </a:prstGeom>
          <a:noFill/>
          <a:ln w="12600">
            <a:solidFill>
              <a:srgbClr val="0066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17200" y="2863440"/>
            <a:ext cx="18403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Match to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efficients  of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48320" y="3504960"/>
            <a:ext cx="18813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x+1)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53080" y="3841920"/>
            <a:ext cx="463320" cy="730080"/>
            <a:chOff x="6553080" y="3841920"/>
            <a:chExt cx="463320" cy="730080"/>
          </a:xfrm>
        </p:grpSpPr>
        <p:sp>
          <p:nvSpPr>
            <p:cNvPr id="232" name=""/>
            <p:cNvSpPr/>
            <p:nvPr/>
          </p:nvSpPr>
          <p:spPr>
            <a:xfrm>
              <a:off x="6553080" y="3841920"/>
              <a:ext cx="304920" cy="73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857640" y="3841920"/>
              <a:ext cx="158760" cy="73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644880" y="4571640"/>
            <a:ext cx="5248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.x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6553080" y="3809880"/>
            <a:ext cx="1143000" cy="457200"/>
            <a:chOff x="6553080" y="3809880"/>
            <a:chExt cx="1143000" cy="457200"/>
          </a:xfrm>
        </p:grpSpPr>
        <p:sp>
          <p:nvSpPr>
            <p:cNvPr id="236" name=""/>
            <p:cNvSpPr/>
            <p:nvPr/>
          </p:nvSpPr>
          <p:spPr>
            <a:xfrm>
              <a:off x="6553080" y="3809880"/>
              <a:ext cx="1143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15200" y="380988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781680" y="3809880"/>
            <a:ext cx="1143000" cy="457200"/>
            <a:chOff x="6781680" y="3809880"/>
            <a:chExt cx="1143000" cy="457200"/>
          </a:xfrm>
        </p:grpSpPr>
        <p:sp>
          <p:nvSpPr>
            <p:cNvPr id="239" name=""/>
            <p:cNvSpPr/>
            <p:nvPr/>
          </p:nvSpPr>
          <p:spPr>
            <a:xfrm>
              <a:off x="6781680" y="3809880"/>
              <a:ext cx="1143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6600" y="3809880"/>
              <a:ext cx="8380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495680" y="3505320"/>
            <a:ext cx="2057400" cy="12189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3505320"/>
            <a:ext cx="266724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3505320"/>
            <a:ext cx="304812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040" y="4190760"/>
            <a:ext cx="4582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67120" y="4235040"/>
            <a:ext cx="4582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tr-TR" sz="1600" spc="-1" strike="noStrike">
                <a:solidFill>
                  <a:srgbClr val="000000"/>
                </a:solidFill>
                <a:latin typeface="Tahoma"/>
              </a:rPr>
              <a:t>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64160" y="4571640"/>
            <a:ext cx="573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+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772040" y="4527720"/>
            <a:ext cx="181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96080" y="4527720"/>
            <a:ext cx="7632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59120" y="4571640"/>
            <a:ext cx="41220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781680" y="3809880"/>
            <a:ext cx="1676520" cy="838440"/>
            <a:chOff x="6781680" y="3809880"/>
            <a:chExt cx="1676520" cy="838440"/>
          </a:xfrm>
        </p:grpSpPr>
        <p:sp>
          <p:nvSpPr>
            <p:cNvPr id="251" name=""/>
            <p:cNvSpPr/>
            <p:nvPr/>
          </p:nvSpPr>
          <p:spPr>
            <a:xfrm>
              <a:off x="6781680" y="3809880"/>
              <a:ext cx="1676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48680" y="3809880"/>
              <a:ext cx="11095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600960" y="4572000"/>
            <a:ext cx="333360" cy="304920"/>
          </a:xfrm>
          <a:prstGeom prst="ellipse">
            <a:avLst/>
          </a:prstGeom>
          <a:noFill/>
          <a:ln w="12600">
            <a:solidFill>
              <a:srgbClr val="0066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39040" y="4572000"/>
            <a:ext cx="333360" cy="304920"/>
          </a:xfrm>
          <a:prstGeom prst="ellipse">
            <a:avLst/>
          </a:prstGeom>
          <a:noFill/>
          <a:ln w="12600">
            <a:solidFill>
              <a:srgbClr val="0066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53440" y="4572000"/>
            <a:ext cx="333360" cy="30492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 advTm="10000">
    <p:random/>
    <p:sndAc>
      <p:stSnd>
        <p:snd r:embed="rId1" name="ANIS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038200" y="2009880"/>
            <a:ext cx="3544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1360" y="2462040"/>
            <a:ext cx="2149560" cy="3020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So if the exponent is 5 then the expansion will have how many terms?   </a:t>
            </a:r>
            <a:r>
              <a:rPr b="0" i="1" lang="en-GB" sz="2400" spc="-1" strike="noStrike">
                <a:solidFill>
                  <a:srgbClr val="99ff99"/>
                </a:solidFill>
                <a:latin typeface="Tahoma"/>
              </a:rPr>
              <a:t>Before you click, think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60200" y="0"/>
            <a:ext cx="5916600" cy="3958560"/>
            <a:chOff x="160200" y="0"/>
            <a:chExt cx="5916600" cy="3958560"/>
          </a:xfrm>
        </p:grpSpPr>
        <p:sp>
          <p:nvSpPr>
            <p:cNvPr id="260" name=""/>
            <p:cNvSpPr/>
            <p:nvPr/>
          </p:nvSpPr>
          <p:spPr>
            <a:xfrm>
              <a:off x="160200" y="0"/>
              <a:ext cx="368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Can you see that if the exponent is  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ahoma"/>
                </a:rPr>
                <a:t>2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then there are  three term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200" y="1063800"/>
              <a:ext cx="3921120" cy="28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x+1)</a:t>
              </a:r>
              <a:r>
                <a:rPr b="0" lang="en-US" sz="2400" spc="-1" strike="noStrike" baseline="30000">
                  <a:solidFill>
                    <a:srgbClr val="0066ff"/>
                  </a:solidFill>
                  <a:latin typeface="Tahoma"/>
                </a:rPr>
                <a:t>2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= </a:t>
              </a:r>
              <a:r>
                <a:rPr b="1" lang="en-US" sz="24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</a:t>
              </a:r>
              <a:r>
                <a:rPr b="0" lang="en-US" sz="24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 + </a:t>
              </a:r>
              <a:r>
                <a:rPr b="1" lang="en-US" sz="24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d the coefficients are found here, the line with three numb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And the second number is the same as </a:t>
              </a:r>
              <a:r>
                <a:rPr b="0" i="1" lang="en-US" sz="1600" spc="-1" strike="noStrike" u="sng">
                  <a:solidFill>
                    <a:srgbClr val="3694b6"/>
                  </a:solidFill>
                  <a:uFillTx/>
                  <a:latin typeface="Tahoma"/>
                </a:rPr>
                <a:t>the exponent :   </a:t>
              </a:r>
              <a:r>
                <a:rPr b="1" i="1" lang="en-US" sz="3200" spc="-1" strike="noStrike" u="sng">
                  <a:solidFill>
                    <a:srgbClr val="3694b6"/>
                  </a:solidFill>
                  <a:uFillTx/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2465280"/>
              <a:ext cx="3485880" cy="639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400640" y="0"/>
            <a:ext cx="4343400" cy="4114800"/>
            <a:chOff x="4400640" y="0"/>
            <a:chExt cx="4343400" cy="4114800"/>
          </a:xfrm>
        </p:grpSpPr>
        <p:sp>
          <p:nvSpPr>
            <p:cNvPr id="264" name=""/>
            <p:cNvSpPr/>
            <p:nvPr/>
          </p:nvSpPr>
          <p:spPr>
            <a:xfrm>
              <a:off x="4400640" y="0"/>
              <a:ext cx="3524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And  if the exponent is  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ahoma"/>
                </a:rPr>
                <a:t>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then there are  5  terms?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+1)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=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+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+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+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And the second number is the same as the exponent:  </a:t>
              </a:r>
              <a:r>
                <a:rPr b="0" i="1" lang="en-US" sz="1600" spc="-1" strike="noStrike" u="sng">
                  <a:solidFill>
                    <a:srgbClr val="3694b6"/>
                  </a:solidFill>
                  <a:uFillTx/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24680" y="1187280"/>
              <a:ext cx="819360" cy="2718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924680" y="3905280"/>
              <a:ext cx="819360" cy="209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20480" y="4667400"/>
            <a:ext cx="4989600" cy="2097720"/>
            <a:chOff x="420480" y="4667400"/>
            <a:chExt cx="4989600" cy="2097720"/>
          </a:xfrm>
        </p:grpSpPr>
        <p:sp>
          <p:nvSpPr>
            <p:cNvPr id="268" name=""/>
            <p:cNvSpPr/>
            <p:nvPr/>
          </p:nvSpPr>
          <p:spPr>
            <a:xfrm>
              <a:off x="420480" y="5910120"/>
              <a:ext cx="3443040" cy="855000"/>
            </a:xfrm>
            <a:prstGeom prst="rect">
              <a:avLst/>
            </a:prstGeom>
            <a:solidFill>
              <a:srgbClr val="fdc52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X!!   YES, I SAID SIX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+1)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5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=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x+ </a:t>
              </a:r>
              <a:r>
                <a:rPr b="1" lang="en-US" sz="1800" spc="-1" strike="noStrike">
                  <a:solidFill>
                    <a:srgbClr val="ff3300"/>
                  </a:solidFill>
                  <a:latin typeface="Tahoma"/>
                  <a:ea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895320" y="4667400"/>
              <a:ext cx="4514760" cy="12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  <p:sndAc>
      <p:stSnd>
        <p:snd r:embed="rId1" name="ANIS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00520" y="0"/>
            <a:ext cx="3255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00"/>
                </a:solidFill>
                <a:latin typeface="Tahoma"/>
              </a:rPr>
              <a:t>2ez!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08360" y="4903920"/>
            <a:ext cx="56689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ok at  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5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1x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5x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10x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10x</a:t>
            </a:r>
            <a:r>
              <a:rPr b="0" lang="en-US" sz="16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5x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We start with the 5</a:t>
            </a:r>
            <a:r>
              <a:rPr b="1" lang="en-US" sz="18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th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 power and decrease by one each te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ahoma"/>
                <a:ea typeface="Tahoma"/>
              </a:rPr>
              <a:t>(remember that    x  =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  x 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  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  <a:ea typeface="Tahoma"/>
              </a:rPr>
              <a:t>and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  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  <a:ea typeface="Tahoma"/>
              </a:rPr>
              <a:t>1  =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  x </a:t>
            </a:r>
            <a:r>
              <a:rPr b="0" lang="en-US" sz="2000" spc="-1" strike="noStrike" baseline="30000">
                <a:solidFill>
                  <a:srgbClr val="ff3300"/>
                </a:solidFill>
                <a:latin typeface="Tahoma"/>
                <a:ea typeface="Tahoma"/>
              </a:rPr>
              <a:t>0  </a:t>
            </a:r>
            <a:r>
              <a:rPr b="1" lang="en-US" sz="1800" spc="-1" strike="noStrike">
                <a:solidFill>
                  <a:srgbClr val="9933ff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517760"/>
            <a:ext cx="52498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 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6   and so on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2754360" cy="1067400"/>
          </a:xfrm>
          <a:prstGeom prst="rect">
            <a:avLst/>
          </a:prstGeom>
          <a:solidFill>
            <a:srgbClr val="fdc52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w since we can find the coefficients easily, we only need to decide on how to write the x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37200" y="2251080"/>
            <a:ext cx="2811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ll we have to do is start with the highest exponent and each one after that is one less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med" advTm="10000">
    <p:random/>
    <p:sndAc>
      <p:stSnd>
        <p:snd r:embed="rId1" name="ANIS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492200"/>
            <a:ext cx="272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ince the exponent is 8 we want 9 terms and the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number should be 8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5280" y="19810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76880" y="1725480"/>
            <a:ext cx="361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we need to start the exponents of x  with  8 to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66880" y="5867280"/>
            <a:ext cx="4419720" cy="381240"/>
          </a:xfrm>
          <a:prstGeom prst="rect">
            <a:avLst/>
          </a:prstGeom>
          <a:noFill/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867280"/>
            <a:ext cx="4419720" cy="381240"/>
          </a:xfrm>
          <a:prstGeom prst="rect">
            <a:avLst/>
          </a:prstGeom>
          <a:noFill/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82600" y="264240"/>
            <a:ext cx="741060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66ff33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33"/>
                </a:solidFill>
                <a:latin typeface="Tahoma"/>
              </a:rPr>
              <a:t>Lets try to find the expansion o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1" lang="en-US" sz="4000" spc="-1" strike="noStrike" baseline="30000">
                <a:solidFill>
                  <a:srgbClr val="0066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38160" y="3276720"/>
            <a:ext cx="63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               +8             +2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56          +70          +56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28          +8          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70840" y="3276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94960" y="3276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1840" y="3276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80320" y="4387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90360" y="4387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76360" y="4387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80320" y="5454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4560" y="545400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80" y="870120"/>
            <a:ext cx="821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Next we begin writing the variable par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from left to right decreasing it’s power</a:t>
            </a: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66"/>
                </a:solidFill>
                <a:latin typeface="Tahoma"/>
              </a:rPr>
              <a:t>each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321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3321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24680" y="3352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4419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59320" y="4419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45320" y="4464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5530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03280" y="1954080"/>
            <a:ext cx="2724120" cy="1922760"/>
          </a:xfrm>
          <a:prstGeom prst="rect">
            <a:avLst/>
          </a:prstGeom>
          <a:solidFill>
            <a:srgbClr val="99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 coefficients of this will be the same as the last since it is exponent of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15280" y="19810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5867280"/>
            <a:ext cx="4419720" cy="381240"/>
          </a:xfrm>
          <a:prstGeom prst="rect">
            <a:avLst/>
          </a:prstGeom>
          <a:noFill/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6880" y="5867280"/>
            <a:ext cx="4419720" cy="381240"/>
          </a:xfrm>
          <a:prstGeom prst="rect">
            <a:avLst/>
          </a:prstGeom>
          <a:noFill/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82600" y="264240"/>
            <a:ext cx="741060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66ff33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33"/>
                </a:solidFill>
                <a:latin typeface="Tahoma"/>
              </a:rPr>
              <a:t>Lets try to find the expansion o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2x+1)</a:t>
            </a:r>
            <a:r>
              <a:rPr b="1" lang="en-US" sz="4000" spc="-1" strike="noStrike" baseline="30000">
                <a:solidFill>
                  <a:srgbClr val="0066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opic was done as a year project by Selim.  I have modified it make it more appropriate for you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1960" y="23684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you go through this examples,  think what you think will come next B4 clicking.    You learn more by thinking then looking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8720" y="2387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nd i will give you a few questions to make sure you have understood things.   You may wish to review once you have finished (slide sorter might be usefu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838160" y="3276720"/>
            <a:ext cx="63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               +8             +2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56          +70          +56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28          +8          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0520" y="32760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64640" y="32760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31520" y="32760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50000" y="4387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60040" y="4387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46040" y="43873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50000" y="545400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4240" y="54540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6120" y="870120"/>
            <a:ext cx="846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Next we begin writing the first co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from left to right decreasing it’s power</a:t>
            </a: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66"/>
                </a:solidFill>
                <a:latin typeface="Tahoma"/>
              </a:rPr>
              <a:t>each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3321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3321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24680" y="3352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419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59320" y="4419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45320" y="4464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5530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2338560" y="2649600"/>
            <a:ext cx="6208560" cy="2475000"/>
            <a:chOff x="2338560" y="2649600"/>
            <a:chExt cx="6208560" cy="2475000"/>
          </a:xfrm>
        </p:grpSpPr>
        <p:sp>
          <p:nvSpPr>
            <p:cNvPr id="322" name=""/>
            <p:cNvSpPr/>
            <p:nvPr/>
          </p:nvSpPr>
          <p:spPr>
            <a:xfrm>
              <a:off x="2338560" y="3676680"/>
              <a:ext cx="2338200" cy="14479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629240" y="3290760"/>
              <a:ext cx="87624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05480" y="2649600"/>
              <a:ext cx="30416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8 x  2 = 102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66560" y="4019400"/>
            <a:ext cx="63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               +8             +2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56          +70          +56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+28          +8          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160" y="40381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5200" y="40381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9800" y="401904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26000" y="51238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8880" y="50857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45800" y="507312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73800" y="62542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95360" y="62161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23840" y="485280"/>
            <a:ext cx="7256520" cy="11912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Now all we have to do is simplify by multiplying out…..  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484488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Hmmm……that was easy enough!   I sure am glad i did not have to multiply it all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20" y="3276000"/>
            <a:ext cx="16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56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3880" y="327600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1024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87080" y="32950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1792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5720" y="33490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1792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43480" y="33490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1120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8880" y="4050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 448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55880" y="4050720"/>
            <a:ext cx="18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 112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280" y="40698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 2x +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6720" y="448560"/>
            <a:ext cx="68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And so the final expression is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60280" y="1730520"/>
            <a:ext cx="2724120" cy="3020040"/>
          </a:xfrm>
          <a:prstGeom prst="rect">
            <a:avLst/>
          </a:prstGeom>
          <a:solidFill>
            <a:srgbClr val="99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has changed on this question?   Only the 1 has become a 13.  How do you think that will change the answer?   Think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15280" y="19810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2600" y="264240"/>
            <a:ext cx="741060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66ff33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33"/>
                </a:solidFill>
                <a:latin typeface="Tahoma"/>
              </a:rPr>
              <a:t>Lets try to find the expansion o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2x+13)</a:t>
            </a:r>
            <a:r>
              <a:rPr b="1" lang="en-US" sz="4000" spc="-1" strike="noStrike" baseline="30000">
                <a:solidFill>
                  <a:srgbClr val="0066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539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66"/>
                </a:solidFill>
                <a:latin typeface="Tahoma"/>
              </a:rPr>
              <a:t>Lets go back and look at a problem we know the answer to and work it out from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1"/>
          </p:cNvPr>
          <p:cNvSpPr/>
          <p:nvPr/>
        </p:nvSpPr>
        <p:spPr>
          <a:xfrm>
            <a:off x="1795320" y="2289240"/>
            <a:ext cx="647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A nice easy problem that will show us what to do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78360" y="5562720"/>
            <a:ext cx="16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4c3da"/>
                </a:solidFill>
                <a:latin typeface="Tahoma"/>
              </a:rPr>
              <a:t>(x + y) </a:t>
            </a:r>
            <a:r>
              <a:rPr b="0" i="1" lang="en-US" sz="3600" spc="-1" strike="noStrike" baseline="30000">
                <a:solidFill>
                  <a:srgbClr val="84c3da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756560" y="63360"/>
            <a:ext cx="1035000" cy="22258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01480" y="2759040"/>
            <a:ext cx="793800" cy="2409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  <p:sndAc>
      <p:stSnd>
        <p:snd r:embed="rId4" name="ANIS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1160" y="27468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Expand  (that is, multipl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(x + y) </a:t>
            </a:r>
            <a:r>
              <a:rPr b="0" i="1" lang="en-US" sz="36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2971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x+y)(x+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41148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nd we ge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5638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+2xy+y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14800" y="2666880"/>
            <a:ext cx="1599840" cy="9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0800000">
            <a:off x="4648680" y="3124800"/>
            <a:ext cx="1067400" cy="91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4800" y="2819520"/>
            <a:ext cx="1067760" cy="76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0800000">
            <a:off x="4648320" y="3048840"/>
            <a:ext cx="532800" cy="91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00600" y="500220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xy+xy+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873000" y="0"/>
            <a:ext cx="4038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Now let us compare with the expansion of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(x + 1) </a:t>
            </a:r>
            <a:r>
              <a:rPr b="0" i="1" lang="en-US" sz="36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92600" y="1900080"/>
            <a:ext cx="52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 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+  2x +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2920" y="325764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(x + y) </a:t>
            </a:r>
            <a:r>
              <a:rPr b="0" i="1" lang="en-US" sz="36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22600" y="3289320"/>
            <a:ext cx="555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 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+ 2xy + 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20" y="4560840"/>
            <a:ext cx="8920080" cy="146556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 can notice three th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   the coefficients are the same  (so we still use the triang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exponents of x start with 2 and decrease by 1 each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)   the exponents of y start with 0 and increase until they get to where x’s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66760" y="1682640"/>
            <a:ext cx="2724120" cy="3020040"/>
          </a:xfrm>
          <a:prstGeom prst="rect">
            <a:avLst/>
          </a:prstGeom>
          <a:solidFill>
            <a:srgbClr val="99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has changed on this question?   Only the 1 has become a 13.  So, we start it the same way. The “13” is like the y in the last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15280" y="19810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82600" y="264240"/>
            <a:ext cx="741060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66ff33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ff33"/>
                </a:solidFill>
                <a:latin typeface="Tahoma"/>
              </a:rPr>
              <a:t>Lets try to find the expansion o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(2x+13)</a:t>
            </a:r>
            <a:r>
              <a:rPr b="1" lang="en-US" sz="4000" spc="-1" strike="noStrike" baseline="30000">
                <a:solidFill>
                  <a:srgbClr val="0066ff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041560" y="2219400"/>
            <a:ext cx="6551640" cy="3081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are no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ing of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 is the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xt step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efore you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ick, are you?   THINK!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66680" y="3263760"/>
            <a:ext cx="812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             +8             +2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56             +70           +56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28            +8            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4200" y="320004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65960" y="320004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33200" y="320004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37160" y="438732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04400" y="438732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30080" y="438732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04040" y="5409720"/>
            <a:ext cx="11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96880" y="5409720"/>
            <a:ext cx="9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2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3080" y="384120"/>
            <a:ext cx="719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After writing down the coefficients we write the “x” part in decreasing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0600" y="54097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86360" y="54097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53000" y="54097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79040" y="43873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40400" y="43873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73520" y="438732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25000" y="3200040"/>
            <a:ext cx="113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09520" y="32252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64440" y="5454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40560" y="5454720"/>
            <a:ext cx="35532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5454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763120" y="4419720"/>
            <a:ext cx="35532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50040" y="4387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387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29600" y="32767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35640" y="30924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25920" y="3047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560" y="2997360"/>
            <a:ext cx="43812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0840" y="320364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9320" y="947880"/>
            <a:ext cx="635796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ahoma"/>
              </a:rPr>
              <a:t>Then we write  down the coefficients for the “y” part in increasing 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480840" y="914400"/>
            <a:ext cx="319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WE  MULTIP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THEN ADD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363480" y="1022400"/>
            <a:ext cx="110196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722680" y="3048120"/>
            <a:ext cx="4038480" cy="2315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Oops..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1344960" y="532800"/>
            <a:ext cx="22273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4333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433352"/>
              </a:path>
            </a:pathLst>
          </a:custGeom>
          <a:noFill/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86080" y="914040"/>
            <a:ext cx="1052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ahoma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72720" y="5364000"/>
            <a:ext cx="62798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ahoma"/>
              </a:rPr>
              <a:t>But since you will do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ahoma"/>
              </a:rPr>
              <a:t>I have to teach some mor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3" name="ANIS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09680" y="1523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’s expand the one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72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86200"/>
            <a:ext cx="655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75560" y="1431360"/>
            <a:ext cx="32925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66"/>
                </a:solidFill>
                <a:latin typeface="Tahoma"/>
              </a:rPr>
              <a:t>If you notice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85480" y="2528640"/>
            <a:ext cx="53442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cc"/>
                </a:solidFill>
                <a:latin typeface="Tahoma"/>
              </a:rPr>
              <a:t>We could have a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ff"/>
                </a:solidFill>
                <a:latin typeface="Tahoma"/>
              </a:rPr>
              <a:t>sign between these tw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42160" y="3900960"/>
            <a:ext cx="116964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1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33800" y="3900960"/>
            <a:ext cx="114084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(2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39800" y="3900960"/>
            <a:ext cx="57240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84200" y="3695760"/>
            <a:ext cx="3479760" cy="2400120"/>
          </a:xfrm>
          <a:custGeom>
            <a:avLst/>
            <a:gdLst/>
            <a:ahLst/>
            <a:rect l="l" t="t" r="r" b="b"/>
            <a:pathLst>
              <a:path w="2192" h="1512">
                <a:moveTo>
                  <a:pt x="2104" y="24"/>
                </a:moveTo>
                <a:cubicBezTo>
                  <a:pt x="2148" y="36"/>
                  <a:pt x="2192" y="48"/>
                  <a:pt x="1912" y="72"/>
                </a:cubicBezTo>
                <a:cubicBezTo>
                  <a:pt x="1632" y="96"/>
                  <a:pt x="712" y="0"/>
                  <a:pt x="424" y="168"/>
                </a:cubicBezTo>
                <a:cubicBezTo>
                  <a:pt x="136" y="336"/>
                  <a:pt x="0" y="984"/>
                  <a:pt x="184" y="1080"/>
                </a:cubicBezTo>
                <a:cubicBezTo>
                  <a:pt x="368" y="1176"/>
                  <a:pt x="1256" y="1512"/>
                  <a:pt x="1528" y="744"/>
                </a:cubicBez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stealth" w="med"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3733920"/>
            <a:ext cx="3035160" cy="2260440"/>
          </a:xfrm>
          <a:custGeom>
            <a:avLst/>
            <a:gdLst/>
            <a:ahLst/>
            <a:rect l="l" t="t" r="r" b="b"/>
            <a:pathLst>
              <a:path w="1912" h="1424">
                <a:moveTo>
                  <a:pt x="0" y="0"/>
                </a:moveTo>
                <a:cubicBezTo>
                  <a:pt x="676" y="4"/>
                  <a:pt x="1352" y="8"/>
                  <a:pt x="1632" y="192"/>
                </a:cubicBezTo>
                <a:cubicBezTo>
                  <a:pt x="1912" y="376"/>
                  <a:pt x="1864" y="1008"/>
                  <a:pt x="1680" y="1104"/>
                </a:cubicBezTo>
                <a:cubicBezTo>
                  <a:pt x="1496" y="1200"/>
                  <a:pt x="920" y="1424"/>
                  <a:pt x="528" y="768"/>
                </a:cubicBez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stealth" w="med"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84720" y="3902040"/>
            <a:ext cx="68256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84720" y="3900960"/>
            <a:ext cx="774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658520" y="989640"/>
            <a:ext cx="241344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en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19640" y="2391120"/>
            <a:ext cx="33778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2x</a:t>
            </a: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13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96960" y="4038120"/>
            <a:ext cx="425592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84c3da"/>
                </a:solidFill>
                <a:latin typeface="Tahoma"/>
              </a:rPr>
              <a:t>Think it’s ha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57160" y="5439960"/>
            <a:ext cx="564264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666ff"/>
                </a:solidFill>
                <a:latin typeface="Tahoma"/>
              </a:rPr>
              <a:t>Well I don’t think s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74520" y="360"/>
            <a:ext cx="869652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ahoma"/>
              </a:rPr>
              <a:t>It is really the same execpt there will be a negative in the “y” part.  This will make the odd exponets be negative and the even exponents posi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42480" y="2115720"/>
            <a:ext cx="113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So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39600" y="3276720"/>
            <a:ext cx="610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                8              28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56           70           56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8           8          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6400" y="324432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77120" y="3276000"/>
            <a:ext cx="324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57000" y="32760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08600" y="4387320"/>
            <a:ext cx="324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29640" y="438732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72240" y="54540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58440" y="54540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53640" y="4387320"/>
            <a:ext cx="324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19920" y="5454000"/>
            <a:ext cx="324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429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429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342900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45403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20840" y="45403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5638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454032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5638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5638680"/>
            <a:ext cx="355680" cy="336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04600" y="327600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9960" y="327600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0000" y="3276000"/>
            <a:ext cx="8269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84560" y="327600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98360" y="327600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83960" y="438732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94880" y="438732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41360" y="438732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55160" y="438732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24320" y="438732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85640" y="438732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83960" y="5486040"/>
            <a:ext cx="9594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4880" y="548604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5560" y="5454000"/>
            <a:ext cx="807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2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26560" y="545400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45880" y="5454000"/>
            <a:ext cx="9792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1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09040" y="6338160"/>
            <a:ext cx="4591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ccff"/>
                </a:solidFill>
                <a:latin typeface="Tahoma"/>
              </a:rPr>
              <a:t>Everything else remains 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781200" y="357120"/>
            <a:ext cx="7599240" cy="4208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Stop here &amp; raise your hand…...  Mr e has a question for you to see if you understood so far.   Good luck…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4240" y="5335560"/>
            <a:ext cx="415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You’re going to need it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9762200">
            <a:off x="685800" y="493668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47000">
            <a:off x="2513880" y="493668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480800">
            <a:off x="380160" y="378000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9938000">
            <a:off x="1295640" y="486072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371600" y="456480"/>
            <a:ext cx="7162920" cy="390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0" spc="-1" strike="noStrike">
                <a:solidFill>
                  <a:srgbClr val="0066cc"/>
                </a:solidFill>
                <a:latin typeface="Tahoma"/>
              </a:rPr>
              <a:t>Hey!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98080" y="4358880"/>
            <a:ext cx="57448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Have you ever wonde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what the exclamation m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238880" y="3962520"/>
            <a:ext cx="152640" cy="39672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973200">
            <a:off x="7467120" y="762120"/>
            <a:ext cx="1143000" cy="3368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1280" y="5549400"/>
            <a:ext cx="72640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0000"/>
                </a:solidFill>
                <a:uFillTx/>
                <a:latin typeface="Tahoma"/>
              </a:rPr>
              <a:t>Really</a:t>
            </a: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 meant than a sudden mo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643400" y="1447560"/>
            <a:ext cx="63759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ahoma"/>
              </a:rPr>
              <a:t>Well in math it’s the symbo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ahoma"/>
              </a:rPr>
              <a:t>a simple subj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24320" y="3428640"/>
            <a:ext cx="1080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ff"/>
                </a:solidFill>
                <a:latin typeface="Tahoma"/>
              </a:rPr>
              <a:t>it’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624120" y="3076560"/>
            <a:ext cx="4376880" cy="1038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actorial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260720" y="4432320"/>
            <a:ext cx="755064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The thing is when you see 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exclamation mark you multiply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33"/>
                </a:solidFill>
                <a:latin typeface="Tahoma"/>
              </a:rPr>
              <a:t>number and one less of it each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2801520" y="1263240"/>
            <a:ext cx="42422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ff"/>
                </a:solidFill>
                <a:latin typeface="Tahoma"/>
              </a:rPr>
              <a:t>Here’s an examp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208656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Tahoma"/>
              </a:rPr>
              <a:t>Hey!=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82840" y="3975840"/>
            <a:ext cx="70365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Hey!=Hey.(Hey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).(Hey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-2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).(Hey</a:t>
            </a:r>
            <a:r>
              <a:rPr b="0" lang="en-US" sz="2800" spc="-1" strike="noStrike">
                <a:solidFill>
                  <a:srgbClr val="66ff33"/>
                </a:solidFill>
                <a:latin typeface="Tahoma"/>
              </a:rPr>
              <a:t>-3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)(He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-4</a:t>
            </a:r>
            <a:r>
              <a:rPr b="0" lang="en-US" sz="2800" spc="-1" strike="noStrike">
                <a:solidFill>
                  <a:srgbClr val="0066cc"/>
                </a:solidFill>
                <a:latin typeface="Tahoma"/>
              </a:rPr>
              <a:t>)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35560" y="4876560"/>
            <a:ext cx="66301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Well in math we prefer g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examples with variables really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1659960"/>
            <a:ext cx="6248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!=n.(n-1).(n-2).(n-3).(n-4)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84280" y="2452320"/>
            <a:ext cx="70632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it goes on according to how 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space you have in you note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57720" y="3643200"/>
            <a:ext cx="55695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ahoma"/>
              </a:rPr>
              <a:t>Well it’s not the same with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33"/>
                </a:solidFill>
                <a:latin typeface="Tahoma"/>
              </a:rPr>
              <a:t>defined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37320" y="4311000"/>
            <a:ext cx="21146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ff"/>
                </a:solidFill>
                <a:latin typeface="Tahoma"/>
              </a:rPr>
              <a:t>8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66ff33"/>
                </a:solidFill>
                <a:latin typeface="Tahoma"/>
              </a:rPr>
              <a:t>mayb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81160" y="5562000"/>
            <a:ext cx="4239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8!=8.7.6.5.4.3.2.1=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315800" y="379800"/>
            <a:ext cx="721224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At that point we get how proper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33"/>
                </a:solidFill>
                <a:latin typeface="Tahoma"/>
              </a:rPr>
              <a:t>Japanese people are. They already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Tahoma"/>
              </a:rPr>
              <a:t>have the answers ready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00"/>
                </a:solidFill>
                <a:latin typeface="Tahoma"/>
              </a:rPr>
              <a:t>scientific calculators you h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324880" y="3960720"/>
            <a:ext cx="56944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Then push “Shift” and then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33ff"/>
                </a:solidFill>
                <a:latin typeface="Tahoma"/>
              </a:rPr>
              <a:t>push the button “n!” .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26880" y="3107880"/>
            <a:ext cx="19821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Push “8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99720" y="5546160"/>
            <a:ext cx="41018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nd the answer i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990720" y="1219320"/>
            <a:ext cx="7543800" cy="5105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urier New"/>
              </a:rPr>
              <a:t>40320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4178160"/>
            <a:ext cx="2971800" cy="2463840"/>
          </a:xfrm>
          <a:custGeom>
            <a:avLst/>
            <a:gdLst/>
            <a:ahLst/>
            <a:rect l="l" t="t" r="r" b="b"/>
            <a:pathLst>
              <a:path w="1872" h="1552">
                <a:moveTo>
                  <a:pt x="0" y="872"/>
                </a:moveTo>
                <a:cubicBezTo>
                  <a:pt x="744" y="444"/>
                  <a:pt x="1488" y="16"/>
                  <a:pt x="1632" y="8"/>
                </a:cubicBezTo>
                <a:cubicBezTo>
                  <a:pt x="1776" y="0"/>
                  <a:pt x="872" y="720"/>
                  <a:pt x="864" y="824"/>
                </a:cubicBezTo>
                <a:cubicBezTo>
                  <a:pt x="856" y="928"/>
                  <a:pt x="1472" y="576"/>
                  <a:pt x="1584" y="632"/>
                </a:cubicBezTo>
                <a:cubicBezTo>
                  <a:pt x="1696" y="688"/>
                  <a:pt x="1488" y="1064"/>
                  <a:pt x="1536" y="1160"/>
                </a:cubicBezTo>
                <a:cubicBezTo>
                  <a:pt x="1584" y="1256"/>
                  <a:pt x="1536" y="1552"/>
                  <a:pt x="1872" y="1208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038480" y="152388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ahoma"/>
              </a:rPr>
              <a:t>So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971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x+1)(x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41148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And we get.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638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+2x+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2666880"/>
            <a:ext cx="1599840" cy="91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4648680" y="3124800"/>
            <a:ext cx="1067400" cy="91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2819520"/>
            <a:ext cx="1067760" cy="76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4648320" y="3048840"/>
            <a:ext cx="532800" cy="91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6280" y="500220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x+x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402640" y="1201320"/>
            <a:ext cx="48974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But we won’t ask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as simple as this k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40280" y="2392200"/>
            <a:ext cx="253224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ahoma"/>
              </a:rPr>
              <a:t>We will use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9933ff"/>
                </a:solidFill>
                <a:uFillTx/>
                <a:latin typeface="Tahoma"/>
              </a:rPr>
              <a:t>Binom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6ff33"/>
                </a:solidFill>
                <a:uFillTx/>
                <a:latin typeface="Tahoma"/>
              </a:rPr>
              <a:t>Expa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41360" y="4131720"/>
            <a:ext cx="25671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Which ar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89320" y="3896640"/>
            <a:ext cx="22867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BAS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5028120"/>
            <a:ext cx="358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5028120"/>
            <a:ext cx="3585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26200" y="5333400"/>
            <a:ext cx="47016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4000" y="5178960"/>
            <a:ext cx="541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17880" y="5759280"/>
            <a:ext cx="225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277520" y="5790240"/>
            <a:ext cx="147168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-r)!.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738400" y="4538520"/>
            <a:ext cx="1119240" cy="490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580080" y="5287680"/>
            <a:ext cx="2151360" cy="1159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3300"/>
                </a:solidFill>
                <a:uFillTx/>
                <a:latin typeface="Tahoma"/>
              </a:rPr>
              <a:t>CA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t doesn’t mean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t first but as we 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ore examples i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ake sen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504160" y="5180760"/>
            <a:ext cx="43236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4800600" y="379800"/>
            <a:ext cx="4011480" cy="1343880"/>
            <a:chOff x="4800600" y="379800"/>
            <a:chExt cx="4011480" cy="1343880"/>
          </a:xfrm>
        </p:grpSpPr>
        <p:sp>
          <p:nvSpPr>
            <p:cNvPr id="502" name=""/>
            <p:cNvSpPr/>
            <p:nvPr/>
          </p:nvSpPr>
          <p:spPr>
            <a:xfrm>
              <a:off x="48006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80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20360" y="562680"/>
              <a:ext cx="4323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98120" y="943560"/>
              <a:ext cx="3484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58360" y="685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83880" y="531000"/>
              <a:ext cx="541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58120" y="111132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17400" y="1142280"/>
              <a:ext cx="14716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n-r)!.r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391760" y="379440"/>
            <a:ext cx="338868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We should always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our rule in mi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15228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24280" y="2057400"/>
            <a:ext cx="40878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35680" y="2681640"/>
            <a:ext cx="1204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39600" y="2818440"/>
            <a:ext cx="41400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18720" y="3047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3429000"/>
            <a:ext cx="318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58520" y="274248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64720" y="3534480"/>
            <a:ext cx="11318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5-2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647320" y="3534480"/>
            <a:ext cx="2905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6600" y="353448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335680" y="4114080"/>
            <a:ext cx="6476400" cy="1677240"/>
            <a:chOff x="2335680" y="4114080"/>
            <a:chExt cx="6476400" cy="1677240"/>
          </a:xfrm>
        </p:grpSpPr>
        <p:grpSp>
          <p:nvGrpSpPr>
            <p:cNvPr id="522" name=""/>
            <p:cNvGrpSpPr/>
            <p:nvPr/>
          </p:nvGrpSpPr>
          <p:grpSpPr>
            <a:xfrm>
              <a:off x="2335680" y="4418640"/>
              <a:ext cx="1725840" cy="1205280"/>
              <a:chOff x="2335680" y="4418640"/>
              <a:chExt cx="1725840" cy="1205280"/>
            </a:xfrm>
          </p:grpSpPr>
          <p:sp>
            <p:nvSpPr>
              <p:cNvPr id="523" name=""/>
              <p:cNvSpPr/>
              <p:nvPr/>
            </p:nvSpPr>
            <p:spPr>
              <a:xfrm>
                <a:off x="2335680" y="4418640"/>
                <a:ext cx="1204920" cy="11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Tahoma"/>
                  </a:rPr>
                  <a:t>(  )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39600" y="4555080"/>
                <a:ext cx="414000" cy="1068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618720" y="47840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038480" y="518148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44120" y="46011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. 4 . 3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57080" y="51807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. 2 . 1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307120" y="4601880"/>
              <a:ext cx="1766880" cy="5792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4176720" y="5211720"/>
              <a:ext cx="1766880" cy="579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4800600" y="4784760"/>
              <a:ext cx="506520" cy="39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970600" y="5318280"/>
              <a:ext cx="506520" cy="39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71440" y="4114080"/>
              <a:ext cx="414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39880" y="476820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92040" y="4829760"/>
              <a:ext cx="64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620120" y="5318280"/>
              <a:ext cx="1191960" cy="473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  <p:sndAc>
      <p:stSnd>
        <p:snd r:embed="rId1" name="ANIS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340000" y="1431360"/>
            <a:ext cx="5203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We better try one mor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46680" y="364176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64160" y="2437560"/>
            <a:ext cx="2314440" cy="2379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19160" y="2772720"/>
            <a:ext cx="616680" cy="192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53000" y="5088960"/>
            <a:ext cx="2137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maybe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4800600" y="379800"/>
            <a:ext cx="4011480" cy="1343880"/>
            <a:chOff x="4800600" y="379800"/>
            <a:chExt cx="4011480" cy="1343880"/>
          </a:xfrm>
        </p:grpSpPr>
        <p:sp>
          <p:nvSpPr>
            <p:cNvPr id="543" name=""/>
            <p:cNvSpPr/>
            <p:nvPr/>
          </p:nvSpPr>
          <p:spPr>
            <a:xfrm>
              <a:off x="48006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880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220360" y="562680"/>
              <a:ext cx="4323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298120" y="943560"/>
              <a:ext cx="3484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58360" y="685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83880" y="531000"/>
              <a:ext cx="541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58120" y="111132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7400" y="1142280"/>
              <a:ext cx="14716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n-r)!.r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724280" y="2057400"/>
            <a:ext cx="40878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35680" y="2681640"/>
            <a:ext cx="1204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39600" y="2818440"/>
            <a:ext cx="41400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18720" y="3047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3429000"/>
            <a:ext cx="318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58520" y="274248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64720" y="3534480"/>
            <a:ext cx="11318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5-3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47320" y="3534480"/>
            <a:ext cx="2905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096600" y="353448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335680" y="4418640"/>
            <a:ext cx="1725840" cy="1205280"/>
            <a:chOff x="2335680" y="4418640"/>
            <a:chExt cx="1725840" cy="1205280"/>
          </a:xfrm>
        </p:grpSpPr>
        <p:sp>
          <p:nvSpPr>
            <p:cNvPr id="561" name=""/>
            <p:cNvSpPr/>
            <p:nvPr/>
          </p:nvSpPr>
          <p:spPr>
            <a:xfrm>
              <a:off x="2335680" y="4418640"/>
              <a:ext cx="1204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39600" y="4555080"/>
              <a:ext cx="41400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18720" y="478404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4038480" y="5181480"/>
            <a:ext cx="318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44120" y="4601160"/>
            <a:ext cx="26269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. 4 . 3 . 2 .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57080" y="5180760"/>
            <a:ext cx="26269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. 1 . 3 . 2 .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07120" y="4601880"/>
            <a:ext cx="1766880" cy="5792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454720" y="5181480"/>
            <a:ext cx="1766880" cy="5796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800600" y="4784760"/>
            <a:ext cx="506520" cy="396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268880" y="5226120"/>
            <a:ext cx="506160" cy="3967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71440" y="4114080"/>
            <a:ext cx="414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39880" y="47682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92040" y="4829760"/>
            <a:ext cx="6469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620120" y="5318280"/>
            <a:ext cx="1191960" cy="4730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724280" y="15228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798640" y="1202760"/>
            <a:ext cx="43779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If you have notice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033200" y="694800"/>
            <a:ext cx="1294920" cy="1034640"/>
            <a:chOff x="1033200" y="694800"/>
            <a:chExt cx="1294920" cy="1034640"/>
          </a:xfrm>
        </p:grpSpPr>
        <p:sp>
          <p:nvSpPr>
            <p:cNvPr id="578" name=""/>
            <p:cNvSpPr/>
            <p:nvPr/>
          </p:nvSpPr>
          <p:spPr>
            <a:xfrm rot="1964400">
              <a:off x="1134000" y="890640"/>
              <a:ext cx="9136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ahoma"/>
                </a:rPr>
                <a:t>th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09240" y="1545120"/>
              <a:ext cx="218880" cy="14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802520" y="1599120"/>
            <a:ext cx="6476400" cy="1677240"/>
            <a:chOff x="1802520" y="1599120"/>
            <a:chExt cx="6476400" cy="1677240"/>
          </a:xfrm>
        </p:grpSpPr>
        <p:grpSp>
          <p:nvGrpSpPr>
            <p:cNvPr id="581" name=""/>
            <p:cNvGrpSpPr/>
            <p:nvPr/>
          </p:nvGrpSpPr>
          <p:grpSpPr>
            <a:xfrm>
              <a:off x="1802520" y="1903680"/>
              <a:ext cx="1725120" cy="1205640"/>
              <a:chOff x="1802520" y="1903680"/>
              <a:chExt cx="1725120" cy="1205640"/>
            </a:xfrm>
          </p:grpSpPr>
          <p:sp>
            <p:nvSpPr>
              <p:cNvPr id="582" name=""/>
              <p:cNvSpPr/>
              <p:nvPr/>
            </p:nvSpPr>
            <p:spPr>
              <a:xfrm>
                <a:off x="1802520" y="1903680"/>
                <a:ext cx="1204920" cy="11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Tahoma"/>
                  </a:rPr>
                  <a:t>(  )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205720" y="2040480"/>
                <a:ext cx="414000" cy="1068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084840" y="22694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505320" y="2666880"/>
              <a:ext cx="31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0960" y="20865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. 4 . 3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23560" y="26661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 . 1 . 3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773600" y="2087280"/>
              <a:ext cx="1766880" cy="579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921200" y="2666880"/>
              <a:ext cx="1766880" cy="579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4267080" y="2270160"/>
              <a:ext cx="506520" cy="39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3735360" y="2710800"/>
              <a:ext cx="506520" cy="397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38280" y="1599120"/>
              <a:ext cx="414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06360" y="225360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58520" y="2315160"/>
              <a:ext cx="64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7086600" y="2803320"/>
              <a:ext cx="1192320" cy="473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829520" y="3199680"/>
            <a:ext cx="6476400" cy="1677240"/>
            <a:chOff x="1829520" y="3199680"/>
            <a:chExt cx="6476400" cy="1677240"/>
          </a:xfrm>
        </p:grpSpPr>
        <p:grpSp>
          <p:nvGrpSpPr>
            <p:cNvPr id="597" name=""/>
            <p:cNvGrpSpPr/>
            <p:nvPr/>
          </p:nvGrpSpPr>
          <p:grpSpPr>
            <a:xfrm>
              <a:off x="1829520" y="3504240"/>
              <a:ext cx="1725840" cy="1205280"/>
              <a:chOff x="1829520" y="3504240"/>
              <a:chExt cx="1725840" cy="1205280"/>
            </a:xfrm>
          </p:grpSpPr>
          <p:sp>
            <p:nvSpPr>
              <p:cNvPr id="598" name=""/>
              <p:cNvSpPr/>
              <p:nvPr/>
            </p:nvSpPr>
            <p:spPr>
              <a:xfrm>
                <a:off x="1829520" y="3504240"/>
                <a:ext cx="1204920" cy="11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200" spc="-1" strike="noStrike">
                    <a:solidFill>
                      <a:srgbClr val="000000"/>
                    </a:solidFill>
                    <a:latin typeface="Tahoma"/>
                  </a:rPr>
                  <a:t>(  )</a:t>
                </a:r>
                <a:endParaRPr b="0" lang="en-US" sz="7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233440" y="3640680"/>
                <a:ext cx="414000" cy="1068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112560" y="386964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ahoma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3532320" y="4267080"/>
              <a:ext cx="318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37960" y="36867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 . 4 . 3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50920" y="4266360"/>
              <a:ext cx="262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 . 2 . 1 . 2 .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800960" y="3687480"/>
              <a:ext cx="1766880" cy="5792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3670560" y="4297320"/>
              <a:ext cx="1766880" cy="5796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294440" y="3870360"/>
              <a:ext cx="506520" cy="39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464440" y="4403880"/>
              <a:ext cx="506520" cy="39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5280" y="3199680"/>
              <a:ext cx="4140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33720" y="385380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85880" y="3915360"/>
              <a:ext cx="646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113960" y="4403880"/>
              <a:ext cx="1191960" cy="473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08640" y="5016240"/>
            <a:ext cx="1922760" cy="1670400"/>
            <a:chOff x="908640" y="5016240"/>
            <a:chExt cx="1922760" cy="1670400"/>
          </a:xfrm>
        </p:grpSpPr>
        <p:sp>
          <p:nvSpPr>
            <p:cNvPr id="613" name=""/>
            <p:cNvSpPr/>
            <p:nvPr/>
          </p:nvSpPr>
          <p:spPr>
            <a:xfrm rot="19174800">
              <a:off x="899280" y="5529960"/>
              <a:ext cx="18219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ahoma"/>
                </a:rPr>
                <a:t>and thi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633040" y="5022360"/>
              <a:ext cx="198360" cy="168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1247760" y="2041560"/>
            <a:ext cx="7439040" cy="123516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47760" y="3657600"/>
            <a:ext cx="7439040" cy="1235160"/>
          </a:xfrm>
          <a:prstGeom prst="rect">
            <a:avLst/>
          </a:prstGeom>
          <a:noFill/>
          <a:ln w="57240">
            <a:solidFill>
              <a:srgbClr val="0066ff"/>
            </a:solidFill>
            <a:prstDash val="sysDot"/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67520" y="2254320"/>
            <a:ext cx="655560" cy="6570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116840" y="3914640"/>
            <a:ext cx="655560" cy="657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14520" y="5209560"/>
            <a:ext cx="19666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are th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5316480" y="2895480"/>
            <a:ext cx="1751040" cy="2635200"/>
            <a:chOff x="5316480" y="2895480"/>
            <a:chExt cx="1751040" cy="2635200"/>
          </a:xfrm>
        </p:grpSpPr>
        <p:sp>
          <p:nvSpPr>
            <p:cNvPr id="621" name=""/>
            <p:cNvSpPr/>
            <p:nvPr/>
          </p:nvSpPr>
          <p:spPr>
            <a:xfrm flipV="1">
              <a:off x="5316480" y="2895480"/>
              <a:ext cx="1751040" cy="26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316480" y="4403880"/>
              <a:ext cx="1751040" cy="11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238880" y="2895480"/>
            <a:ext cx="503280" cy="2955960"/>
            <a:chOff x="7238880" y="2895480"/>
            <a:chExt cx="503280" cy="2955960"/>
          </a:xfrm>
        </p:grpSpPr>
        <p:sp>
          <p:nvSpPr>
            <p:cNvPr id="624" name=""/>
            <p:cNvSpPr/>
            <p:nvPr/>
          </p:nvSpPr>
          <p:spPr>
            <a:xfrm>
              <a:off x="7238880" y="2895480"/>
              <a:ext cx="457200" cy="2955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96080" y="4403880"/>
              <a:ext cx="46080" cy="1447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6909480" y="5851080"/>
            <a:ext cx="13863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s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909480" y="5835240"/>
            <a:ext cx="13863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sa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615400" y="974160"/>
            <a:ext cx="43732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so we can say that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869200" y="2361240"/>
            <a:ext cx="3786120" cy="1221120"/>
            <a:chOff x="2869200" y="2361240"/>
            <a:chExt cx="3786120" cy="1221120"/>
          </a:xfrm>
        </p:grpSpPr>
        <p:sp>
          <p:nvSpPr>
            <p:cNvPr id="630" name=""/>
            <p:cNvSpPr/>
            <p:nvPr/>
          </p:nvSpPr>
          <p:spPr>
            <a:xfrm>
              <a:off x="2869200" y="2361240"/>
              <a:ext cx="1204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73120" y="2513520"/>
              <a:ext cx="41400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50400" y="2361240"/>
              <a:ext cx="1204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54320" y="2497680"/>
              <a:ext cx="41400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48960" y="271080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048120" y="2895480"/>
            <a:ext cx="73656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77440" y="4800240"/>
            <a:ext cx="13647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als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64240" y="2895480"/>
            <a:ext cx="73656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24240" y="4697280"/>
            <a:ext cx="303480" cy="587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5959800" y="4425120"/>
            <a:ext cx="231120" cy="75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03960" y="512064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03000" y="512064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10320" y="51048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692160" y="2971440"/>
            <a:ext cx="2174760" cy="2149560"/>
            <a:chOff x="3692160" y="2971440"/>
            <a:chExt cx="2174760" cy="2149560"/>
          </a:xfrm>
        </p:grpSpPr>
        <p:sp>
          <p:nvSpPr>
            <p:cNvPr id="644" name=""/>
            <p:cNvSpPr/>
            <p:nvPr/>
          </p:nvSpPr>
          <p:spPr>
            <a:xfrm flipH="1" flipV="1">
              <a:off x="3692160" y="2971440"/>
              <a:ext cx="1041480" cy="214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3692160" y="2971440"/>
              <a:ext cx="2174760" cy="214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264360" y="3457440"/>
            <a:ext cx="25304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Equa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58960" y="4647240"/>
            <a:ext cx="149292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add up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782080" y="1828440"/>
            <a:ext cx="1390680" cy="1371960"/>
            <a:chOff x="2782080" y="1828440"/>
            <a:chExt cx="1390680" cy="1371960"/>
          </a:xfrm>
        </p:grpSpPr>
        <p:sp>
          <p:nvSpPr>
            <p:cNvPr id="649" name=""/>
            <p:cNvSpPr/>
            <p:nvPr/>
          </p:nvSpPr>
          <p:spPr>
            <a:xfrm>
              <a:off x="3048120" y="2438280"/>
              <a:ext cx="736560" cy="762120"/>
            </a:xfrm>
            <a:prstGeom prst="ellipse">
              <a:avLst/>
            </a:prstGeom>
            <a:noFill/>
            <a:ln w="76320">
              <a:solidFill>
                <a:srgbClr val="0066ff"/>
              </a:solidFill>
              <a:prstDash val="sysDot"/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782080" y="1828440"/>
              <a:ext cx="13906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000000"/>
                  </a:solidFill>
                  <a:latin typeface="Tahoma"/>
                </a:rPr>
                <a:t>FIVE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-1463760" y="5927760"/>
            <a:ext cx="18432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381760" y="1095120"/>
            <a:ext cx="52556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ff"/>
                </a:solidFill>
                <a:latin typeface="Tahoma"/>
              </a:rPr>
              <a:t>There we found another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formula about factor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087720" y="2590200"/>
            <a:ext cx="3832200" cy="1557000"/>
            <a:chOff x="3087720" y="2590200"/>
            <a:chExt cx="3832200" cy="1557000"/>
          </a:xfrm>
        </p:grpSpPr>
        <p:sp>
          <p:nvSpPr>
            <p:cNvPr id="654" name=""/>
            <p:cNvSpPr/>
            <p:nvPr/>
          </p:nvSpPr>
          <p:spPr>
            <a:xfrm>
              <a:off x="3671640" y="2847600"/>
              <a:ext cx="4626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34640" y="316800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11320" y="2847600"/>
              <a:ext cx="107388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(n-r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87720" y="259020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73720" y="259020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645560" y="4250880"/>
            <a:ext cx="15141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Tahoma"/>
              </a:rPr>
              <a:t>righ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022280" y="4920840"/>
            <a:ext cx="20354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Tahoma"/>
              </a:rPr>
              <a:t>What i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6593040" y="4146120"/>
            <a:ext cx="1546200" cy="1557000"/>
            <a:chOff x="6593040" y="4146120"/>
            <a:chExt cx="1546200" cy="1557000"/>
          </a:xfrm>
        </p:grpSpPr>
        <p:sp>
          <p:nvSpPr>
            <p:cNvPr id="662" name=""/>
            <p:cNvSpPr/>
            <p:nvPr/>
          </p:nvSpPr>
          <p:spPr>
            <a:xfrm>
              <a:off x="6593040" y="414612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51400" y="4419360"/>
              <a:ext cx="4626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816360" y="5942520"/>
            <a:ext cx="498276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00"/>
                </a:solidFill>
                <a:latin typeface="Tahoma"/>
              </a:rPr>
              <a:t>We can tell that with one examp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092320" y="897840"/>
            <a:ext cx="20750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Let’s try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602320" y="456840"/>
            <a:ext cx="1546200" cy="1557000"/>
            <a:chOff x="5602320" y="456840"/>
            <a:chExt cx="1546200" cy="1557000"/>
          </a:xfrm>
        </p:grpSpPr>
        <p:sp>
          <p:nvSpPr>
            <p:cNvPr id="667" name=""/>
            <p:cNvSpPr/>
            <p:nvPr/>
          </p:nvSpPr>
          <p:spPr>
            <a:xfrm>
              <a:off x="5602320" y="45684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170760" y="761760"/>
              <a:ext cx="4428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1116720" y="1904040"/>
            <a:ext cx="1204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0280" y="2040480"/>
            <a:ext cx="414000" cy="106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99400" y="226944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19520" y="265104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66240" y="208656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64520" y="2589840"/>
            <a:ext cx="113184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4-0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47120" y="2589840"/>
            <a:ext cx="2905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96400" y="258984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981800" y="4815360"/>
            <a:ext cx="1725840" cy="1205640"/>
            <a:chOff x="1981800" y="4815360"/>
            <a:chExt cx="1725840" cy="1205640"/>
          </a:xfrm>
        </p:grpSpPr>
        <p:sp>
          <p:nvSpPr>
            <p:cNvPr id="678" name=""/>
            <p:cNvSpPr/>
            <p:nvPr/>
          </p:nvSpPr>
          <p:spPr>
            <a:xfrm>
              <a:off x="1981800" y="4815360"/>
              <a:ext cx="1204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85720" y="4952160"/>
              <a:ext cx="414000" cy="10688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64840" y="518112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3974760" y="5211000"/>
            <a:ext cx="414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886200" y="5699160"/>
            <a:ext cx="1192320" cy="4730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70080" y="3657240"/>
            <a:ext cx="385812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We know that 0 has no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ahoma"/>
              </a:rPr>
              <a:t>effect on our answer.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338800" y="5104800"/>
            <a:ext cx="2466720" cy="887040"/>
            <a:chOff x="5338800" y="5104800"/>
            <a:chExt cx="2466720" cy="887040"/>
          </a:xfrm>
        </p:grpSpPr>
        <p:sp>
          <p:nvSpPr>
            <p:cNvPr id="685" name=""/>
            <p:cNvSpPr/>
            <p:nvPr/>
          </p:nvSpPr>
          <p:spPr>
            <a:xfrm rot="21086400">
              <a:off x="6078600" y="5226840"/>
              <a:ext cx="1688040" cy="64260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600" spc="-1" strike="noStrike">
                  <a:solidFill>
                    <a:srgbClr val="9933ff"/>
                  </a:solidFill>
                  <a:latin typeface="Tahoma"/>
                </a:rPr>
                <a:t>So it’s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338800" y="5690880"/>
              <a:ext cx="711000" cy="14616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5066640" y="228564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37080" y="26208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84160" y="205668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325200" y="2559600"/>
            <a:ext cx="5238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6303960" y="2742840"/>
            <a:ext cx="554040" cy="274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324480" y="2163240"/>
            <a:ext cx="554040" cy="274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713960" y="990000"/>
            <a:ext cx="65541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There comes another formul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3519360" y="1720440"/>
            <a:ext cx="3044160" cy="1557000"/>
            <a:chOff x="3519360" y="1720440"/>
            <a:chExt cx="3044160" cy="1557000"/>
          </a:xfrm>
        </p:grpSpPr>
        <p:sp>
          <p:nvSpPr>
            <p:cNvPr id="695" name=""/>
            <p:cNvSpPr/>
            <p:nvPr/>
          </p:nvSpPr>
          <p:spPr>
            <a:xfrm>
              <a:off x="3519360" y="172044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03280" y="1977840"/>
              <a:ext cx="4626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64640" y="2422080"/>
              <a:ext cx="442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36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860080" y="2056320"/>
              <a:ext cx="70344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713240" y="3825360"/>
            <a:ext cx="27853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cc00"/>
                </a:solidFill>
                <a:latin typeface="Tahoma"/>
              </a:rPr>
              <a:t>But what i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4967280" y="3352320"/>
            <a:ext cx="1546200" cy="1557000"/>
            <a:chOff x="4967280" y="3352320"/>
            <a:chExt cx="1546200" cy="1557000"/>
          </a:xfrm>
        </p:grpSpPr>
        <p:sp>
          <p:nvSpPr>
            <p:cNvPr id="701" name=""/>
            <p:cNvSpPr/>
            <p:nvPr/>
          </p:nvSpPr>
          <p:spPr>
            <a:xfrm>
              <a:off x="4967280" y="335232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26000" y="3657240"/>
              <a:ext cx="4626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 rot="8086800">
            <a:off x="7437600" y="2697840"/>
            <a:ext cx="54504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7910000">
            <a:off x="1688400" y="2315880"/>
            <a:ext cx="5770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9776000">
            <a:off x="4120200" y="4708800"/>
            <a:ext cx="51156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ff33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08760" y="4984200"/>
            <a:ext cx="35380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Let’s have a try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"/>
          <p:cNvGrpSpPr/>
          <p:nvPr/>
        </p:nvGrpSpPr>
        <p:grpSpPr>
          <a:xfrm>
            <a:off x="1182600" y="228240"/>
            <a:ext cx="1546200" cy="1557000"/>
            <a:chOff x="1182600" y="228240"/>
            <a:chExt cx="1546200" cy="1557000"/>
          </a:xfrm>
        </p:grpSpPr>
        <p:sp>
          <p:nvSpPr>
            <p:cNvPr id="708" name=""/>
            <p:cNvSpPr/>
            <p:nvPr/>
          </p:nvSpPr>
          <p:spPr>
            <a:xfrm>
              <a:off x="1182600" y="22824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51040" y="533160"/>
              <a:ext cx="4428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4017600" y="3823560"/>
            <a:ext cx="414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04600" y="669240"/>
            <a:ext cx="13647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ff"/>
                </a:solidFill>
                <a:latin typeface="Tahoma"/>
              </a:rPr>
              <a:t>also</a:t>
            </a:r>
            <a:r>
              <a:rPr b="0" i="1" lang="tr-TR" sz="3600" spc="-1" strike="noStrike">
                <a:solidFill>
                  <a:srgbClr val="0066ff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45320" y="228240"/>
            <a:ext cx="1546200" cy="1557000"/>
            <a:chOff x="6745320" y="228240"/>
            <a:chExt cx="1546200" cy="1557000"/>
          </a:xfrm>
        </p:grpSpPr>
        <p:sp>
          <p:nvSpPr>
            <p:cNvPr id="713" name=""/>
            <p:cNvSpPr/>
            <p:nvPr/>
          </p:nvSpPr>
          <p:spPr>
            <a:xfrm>
              <a:off x="6745320" y="22824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13760" y="533160"/>
              <a:ext cx="4428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442760" y="1294920"/>
            <a:ext cx="18662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9900"/>
                </a:solidFill>
                <a:latin typeface="Tahoma"/>
              </a:rPr>
              <a:t>equal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248520" y="1431720"/>
            <a:ext cx="380880" cy="9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52720" y="3762360"/>
            <a:ext cx="746280" cy="657360"/>
          </a:xfrm>
          <a:prstGeom prst="ellipse">
            <a:avLst/>
          </a:prstGeom>
          <a:noFill/>
          <a:ln w="76320">
            <a:solidFill>
              <a:srgbClr val="66ff33"/>
            </a:solidFill>
            <a:prstDash val="sysDot"/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27600" y="1936080"/>
            <a:ext cx="2728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Tahoma"/>
              </a:rPr>
              <a:t>want  proo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7440" y="2742120"/>
            <a:ext cx="8056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59880" y="2909880"/>
            <a:ext cx="29664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98720" y="304776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46480" y="3276720"/>
            <a:ext cx="135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79360" y="2939760"/>
            <a:ext cx="3513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71320" y="3352320"/>
            <a:ext cx="654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4-3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20040" y="3276360"/>
            <a:ext cx="2354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342960" y="3352320"/>
            <a:ext cx="3513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333800" y="3580200"/>
            <a:ext cx="8056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99480" y="3732120"/>
            <a:ext cx="29664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75040" y="393012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62320" y="411336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548080" y="3822480"/>
            <a:ext cx="112860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. 3 . 2 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53120" y="4082760"/>
            <a:ext cx="11818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. 3 . 2 .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895480" y="3809520"/>
            <a:ext cx="762120" cy="2732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27520" y="395892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2895480" y="4114800"/>
            <a:ext cx="762120" cy="272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800120" y="5100480"/>
            <a:ext cx="993960" cy="923760"/>
            <a:chOff x="7800120" y="5100480"/>
            <a:chExt cx="993960" cy="923760"/>
          </a:xfrm>
        </p:grpSpPr>
        <p:sp>
          <p:nvSpPr>
            <p:cNvPr id="737" name=""/>
            <p:cNvSpPr/>
            <p:nvPr/>
          </p:nvSpPr>
          <p:spPr>
            <a:xfrm rot="19284000">
              <a:off x="7844400" y="5332320"/>
              <a:ext cx="904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ahoma"/>
                </a:rPr>
                <a:t>s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344080" y="5638680"/>
              <a:ext cx="342720" cy="2282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cubicBezTo>
                    <a:pt x="84" y="72"/>
                    <a:pt x="168" y="0"/>
                    <a:pt x="192" y="0"/>
                  </a:cubicBezTo>
                  <a:cubicBezTo>
                    <a:pt x="216" y="0"/>
                    <a:pt x="32" y="128"/>
                    <a:pt x="144" y="14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  <a:effectLst>
              <a:outerShdw dist="45929" dir="2028877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4191120" y="457200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0"/>
                </a:moveTo>
                <a:cubicBezTo>
                  <a:pt x="312" y="368"/>
                  <a:pt x="624" y="736"/>
                  <a:pt x="1008" y="864"/>
                </a:cubicBezTo>
                <a:cubicBezTo>
                  <a:pt x="1392" y="992"/>
                  <a:pt x="1864" y="864"/>
                  <a:pt x="2304" y="768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  <a:tailEnd len="med" type="triangle" w="med"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870600" y="4419720"/>
            <a:ext cx="1511280" cy="1422360"/>
          </a:xfrm>
          <a:custGeom>
            <a:avLst/>
            <a:gdLst/>
            <a:ahLst/>
            <a:rect l="l" t="t" r="r" b="b"/>
            <a:pathLst>
              <a:path w="952" h="896">
                <a:moveTo>
                  <a:pt x="952" y="0"/>
                </a:moveTo>
                <a:cubicBezTo>
                  <a:pt x="564" y="64"/>
                  <a:pt x="176" y="128"/>
                  <a:pt x="88" y="240"/>
                </a:cubicBezTo>
                <a:cubicBezTo>
                  <a:pt x="0" y="352"/>
                  <a:pt x="336" y="568"/>
                  <a:pt x="424" y="672"/>
                </a:cubicBezTo>
                <a:cubicBezTo>
                  <a:pt x="512" y="776"/>
                  <a:pt x="568" y="832"/>
                  <a:pt x="616" y="864"/>
                </a:cubicBezTo>
                <a:cubicBezTo>
                  <a:pt x="664" y="896"/>
                  <a:pt x="416" y="896"/>
                  <a:pt x="712" y="86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7800120" y="5100480"/>
            <a:ext cx="993960" cy="923760"/>
            <a:chOff x="7800120" y="5100480"/>
            <a:chExt cx="993960" cy="923760"/>
          </a:xfrm>
        </p:grpSpPr>
        <p:sp>
          <p:nvSpPr>
            <p:cNvPr id="742" name=""/>
            <p:cNvSpPr/>
            <p:nvPr/>
          </p:nvSpPr>
          <p:spPr>
            <a:xfrm rot="19284000">
              <a:off x="7844400" y="5332320"/>
              <a:ext cx="904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ahoma"/>
                </a:rPr>
                <a:t>s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344080" y="5638680"/>
              <a:ext cx="342720" cy="2282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cubicBezTo>
                    <a:pt x="84" y="72"/>
                    <a:pt x="168" y="0"/>
                    <a:pt x="192" y="0"/>
                  </a:cubicBezTo>
                  <a:cubicBezTo>
                    <a:pt x="216" y="0"/>
                    <a:pt x="32" y="128"/>
                    <a:pt x="144" y="14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  <a:effectLst>
              <a:outerShdw dist="45929" dir="2028877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8257680" y="3823560"/>
            <a:ext cx="414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093160" y="3762360"/>
            <a:ext cx="745920" cy="657360"/>
          </a:xfrm>
          <a:prstGeom prst="ellipse">
            <a:avLst/>
          </a:prstGeom>
          <a:noFill/>
          <a:ln w="76320">
            <a:solidFill>
              <a:srgbClr val="66ff33"/>
            </a:solidFill>
            <a:prstDash val="sysDot"/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37520" y="2742120"/>
            <a:ext cx="8056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99960" y="2909880"/>
            <a:ext cx="29664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38800" y="304776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86560" y="3276720"/>
            <a:ext cx="135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219800" y="2939760"/>
            <a:ext cx="3513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611400" y="3352320"/>
            <a:ext cx="654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4-1)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260120" y="3276360"/>
            <a:ext cx="2354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83040" y="3352320"/>
            <a:ext cx="3513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73880" y="3580200"/>
            <a:ext cx="8056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39920" y="3732120"/>
            <a:ext cx="29664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315120" y="393012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602400" y="4113360"/>
            <a:ext cx="154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88160" y="3822480"/>
            <a:ext cx="112860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. 3 . 2 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793200" y="4082760"/>
            <a:ext cx="11818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. 2 . 1 .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7135920" y="3809520"/>
            <a:ext cx="761760" cy="2732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067600" y="395892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858000" y="4114800"/>
            <a:ext cx="762120" cy="2728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38600" y="1963800"/>
            <a:ext cx="45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Let’s give a try for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8440" y="3886200"/>
            <a:ext cx="25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7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5943600" y="120240"/>
            <a:ext cx="1546200" cy="1557000"/>
            <a:chOff x="5943600" y="120240"/>
            <a:chExt cx="1546200" cy="1557000"/>
          </a:xfrm>
        </p:grpSpPr>
        <p:sp>
          <p:nvSpPr>
            <p:cNvPr id="764" name=""/>
            <p:cNvSpPr/>
            <p:nvPr/>
          </p:nvSpPr>
          <p:spPr>
            <a:xfrm>
              <a:off x="5943600" y="12024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12040" y="425160"/>
              <a:ext cx="4428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7754760" y="255240"/>
            <a:ext cx="90468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ff"/>
                </a:solidFill>
                <a:latin typeface="Tahoma"/>
              </a:rPr>
              <a:t>=</a:t>
            </a:r>
            <a:r>
              <a:rPr b="0" i="1" lang="en-GB" sz="6600" spc="-1" strike="noStrike">
                <a:solidFill>
                  <a:srgbClr val="0066ff"/>
                </a:solidFill>
                <a:latin typeface="Tahoma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040440" y="1739520"/>
            <a:ext cx="1546200" cy="1557000"/>
            <a:chOff x="6040440" y="1739520"/>
            <a:chExt cx="1546200" cy="1557000"/>
          </a:xfrm>
        </p:grpSpPr>
        <p:sp>
          <p:nvSpPr>
            <p:cNvPr id="768" name=""/>
            <p:cNvSpPr/>
            <p:nvPr/>
          </p:nvSpPr>
          <p:spPr>
            <a:xfrm>
              <a:off x="6040440" y="173952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608880" y="2044440"/>
              <a:ext cx="4428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7875720" y="2044440"/>
            <a:ext cx="90468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9900"/>
                </a:solidFill>
                <a:latin typeface="Tahoma"/>
              </a:rPr>
              <a:t>=</a:t>
            </a:r>
            <a:r>
              <a:rPr b="0" i="1" lang="en-GB" sz="6600" spc="-1" strike="noStrike">
                <a:solidFill>
                  <a:srgbClr val="009900"/>
                </a:solidFill>
                <a:latin typeface="Tahoma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230400" y="1352880"/>
            <a:ext cx="2431800" cy="923760"/>
            <a:chOff x="230400" y="1352880"/>
            <a:chExt cx="2431800" cy="923760"/>
          </a:xfrm>
        </p:grpSpPr>
        <p:sp>
          <p:nvSpPr>
            <p:cNvPr id="772" name=""/>
            <p:cNvSpPr/>
            <p:nvPr/>
          </p:nvSpPr>
          <p:spPr>
            <a:xfrm>
              <a:off x="1307880" y="1863360"/>
              <a:ext cx="135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230400" y="1352880"/>
              <a:ext cx="2398320" cy="923760"/>
              <a:chOff x="230400" y="1352880"/>
              <a:chExt cx="2398320" cy="923760"/>
            </a:xfrm>
          </p:grpSpPr>
          <p:sp>
            <p:nvSpPr>
              <p:cNvPr id="774" name=""/>
              <p:cNvSpPr/>
              <p:nvPr/>
            </p:nvSpPr>
            <p:spPr>
              <a:xfrm>
                <a:off x="230400" y="1352880"/>
                <a:ext cx="80568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ahoma"/>
                  </a:rPr>
                  <a:t>(  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494280" y="1496880"/>
                <a:ext cx="2134440" cy="779760"/>
                <a:chOff x="494280" y="1496880"/>
                <a:chExt cx="2134440" cy="7797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494280" y="1496880"/>
                  <a:ext cx="29664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933120" y="16347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913760" y="1526760"/>
                  <a:ext cx="35136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7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05720" y="1939320"/>
                  <a:ext cx="65484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(7-1)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277360" y="1939320"/>
                  <a:ext cx="35136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1" name=""/>
          <p:cNvSpPr/>
          <p:nvPr/>
        </p:nvSpPr>
        <p:spPr>
          <a:xfrm>
            <a:off x="2949480" y="177120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531600" y="1771200"/>
            <a:ext cx="296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00400" y="5304240"/>
            <a:ext cx="2431800" cy="923760"/>
            <a:chOff x="500400" y="5304240"/>
            <a:chExt cx="2431800" cy="923760"/>
          </a:xfrm>
        </p:grpSpPr>
        <p:sp>
          <p:nvSpPr>
            <p:cNvPr id="784" name=""/>
            <p:cNvSpPr/>
            <p:nvPr/>
          </p:nvSpPr>
          <p:spPr>
            <a:xfrm>
              <a:off x="1577880" y="5814720"/>
              <a:ext cx="135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500400" y="5304240"/>
              <a:ext cx="2398320" cy="923760"/>
              <a:chOff x="500400" y="5304240"/>
              <a:chExt cx="2398320" cy="923760"/>
            </a:xfrm>
          </p:grpSpPr>
          <p:sp>
            <p:nvSpPr>
              <p:cNvPr id="786" name=""/>
              <p:cNvSpPr/>
              <p:nvPr/>
            </p:nvSpPr>
            <p:spPr>
              <a:xfrm>
                <a:off x="500400" y="5304240"/>
                <a:ext cx="80568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ahoma"/>
                  </a:rPr>
                  <a:t>(  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759960" y="5448240"/>
                <a:ext cx="2138760" cy="779760"/>
                <a:chOff x="759960" y="5448240"/>
                <a:chExt cx="2138760" cy="7797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759960" y="5448240"/>
                  <a:ext cx="305640" cy="5806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203120" y="55861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179800" y="54781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n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572120" y="5890680"/>
                  <a:ext cx="66384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(n-1)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547360" y="5890680"/>
                  <a:ext cx="351360" cy="337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40186" dir="1096358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3" name=""/>
          <p:cNvSpPr/>
          <p:nvPr/>
        </p:nvSpPr>
        <p:spPr>
          <a:xfrm>
            <a:off x="584280" y="2978280"/>
            <a:ext cx="234792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an you guess wha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3206880" y="2934720"/>
            <a:ext cx="1546200" cy="1557000"/>
            <a:chOff x="3206880" y="2934720"/>
            <a:chExt cx="1546200" cy="1557000"/>
          </a:xfrm>
        </p:grpSpPr>
        <p:sp>
          <p:nvSpPr>
            <p:cNvPr id="795" name=""/>
            <p:cNvSpPr/>
            <p:nvPr/>
          </p:nvSpPr>
          <p:spPr>
            <a:xfrm>
              <a:off x="3206880" y="2934720"/>
              <a:ext cx="154620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6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65600" y="3239640"/>
              <a:ext cx="4626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919760" y="3678120"/>
            <a:ext cx="17589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74960" y="4940280"/>
            <a:ext cx="184320" cy="118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86120" y="5418000"/>
            <a:ext cx="18432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224240" y="5433840"/>
            <a:ext cx="184320" cy="336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3532320" y="5454360"/>
            <a:ext cx="4165200" cy="1052280"/>
            <a:chOff x="3532320" y="5454360"/>
            <a:chExt cx="4165200" cy="1052280"/>
          </a:xfrm>
        </p:grpSpPr>
        <p:sp>
          <p:nvSpPr>
            <p:cNvPr id="802" name=""/>
            <p:cNvSpPr/>
            <p:nvPr/>
          </p:nvSpPr>
          <p:spPr>
            <a:xfrm>
              <a:off x="3832560" y="5905440"/>
              <a:ext cx="381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89960" y="5454360"/>
              <a:ext cx="268776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(n – 1) (n-2) (n –3 )………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32320" y="5925960"/>
              <a:ext cx="416520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 – 1) (n-2) (n –3 )……….1 . (1!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3040200" y="5543640"/>
            <a:ext cx="73476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47040" y="5551560"/>
            <a:ext cx="159696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= 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216320" y="5376600"/>
            <a:ext cx="511200" cy="1130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4740120" y="5343480"/>
            <a:ext cx="511200" cy="1130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346720" y="5392800"/>
            <a:ext cx="511200" cy="1130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870520" y="5359320"/>
            <a:ext cx="511200" cy="11304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6249960" y="5387760"/>
            <a:ext cx="511200" cy="11300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1416600" y="1355040"/>
            <a:ext cx="24879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Tahoma"/>
              </a:rPr>
              <a:t>You kn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56520" y="669240"/>
            <a:ext cx="13298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9900"/>
                </a:solidFill>
                <a:latin typeface="Tahoma"/>
              </a:rPr>
              <a:t>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20771400">
            <a:off x="3441600" y="1751760"/>
            <a:ext cx="20109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I told tha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6476760" y="1219320"/>
            <a:ext cx="1143360" cy="441360"/>
            <a:chOff x="6476760" y="1219320"/>
            <a:chExt cx="1143360" cy="441360"/>
          </a:xfrm>
        </p:grpSpPr>
        <p:sp>
          <p:nvSpPr>
            <p:cNvPr id="816" name=""/>
            <p:cNvSpPr/>
            <p:nvPr/>
          </p:nvSpPr>
          <p:spPr>
            <a:xfrm flipH="1">
              <a:off x="6476760" y="1219320"/>
              <a:ext cx="22860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67480" y="1219320"/>
              <a:ext cx="15264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126480" y="1675440"/>
            <a:ext cx="1948680" cy="764280"/>
            <a:chOff x="6126480" y="1675440"/>
            <a:chExt cx="1948680" cy="764280"/>
          </a:xfrm>
        </p:grpSpPr>
        <p:sp>
          <p:nvSpPr>
            <p:cNvPr id="819" name=""/>
            <p:cNvSpPr/>
            <p:nvPr/>
          </p:nvSpPr>
          <p:spPr>
            <a:xfrm>
              <a:off x="6126480" y="167544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88920" y="184320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69480" y="167544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31920" y="184320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5738760" y="2422080"/>
            <a:ext cx="24559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33ff"/>
                </a:solidFill>
                <a:latin typeface="Tahoma"/>
              </a:rPr>
              <a:t>are equal</a:t>
            </a:r>
            <a:r>
              <a:rPr b="0" i="1" lang="tr-TR" sz="3600" spc="-1" strike="noStrike">
                <a:solidFill>
                  <a:srgbClr val="9933ff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98960" y="2901240"/>
            <a:ext cx="117288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24"/>
                </a:moveTo>
                <a:arcTo wR="10800" hR="10800" stAng="10728801" swAng="10871199"/>
                <a:lnTo>
                  <a:pt x="10800" y="10800"/>
                </a:lnTo>
                <a:close/>
              </a:path>
              <a:path fill="none" w="21600" h="21600">
                <a:moveTo>
                  <a:pt x="2" y="11024"/>
                </a:moveTo>
                <a:arcTo wR="10800" hR="10800" stAng="10728801" swAng="10871199"/>
              </a:path>
            </a:pathLst>
          </a:custGeom>
          <a:noFill/>
          <a:ln w="57240">
            <a:solidFill>
              <a:srgbClr val="cc0000"/>
            </a:solidFill>
            <a:prstDash val="sysDot"/>
            <a:miter/>
            <a:headEnd len="med" type="triangle" w="med"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33680" y="2589840"/>
            <a:ext cx="334764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Let’s see what it m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342080" y="3048120"/>
            <a:ext cx="1881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14440" y="3336480"/>
            <a:ext cx="13496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Oop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292920" y="3808800"/>
            <a:ext cx="2574360" cy="764280"/>
            <a:chOff x="3292920" y="3808800"/>
            <a:chExt cx="2574360" cy="764280"/>
          </a:xfrm>
        </p:grpSpPr>
        <p:sp>
          <p:nvSpPr>
            <p:cNvPr id="829" name=""/>
            <p:cNvSpPr/>
            <p:nvPr/>
          </p:nvSpPr>
          <p:spPr>
            <a:xfrm>
              <a:off x="3292920" y="380880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55360" y="397656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92960" y="380880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955400" y="397656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971160" y="4174920"/>
              <a:ext cx="412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=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39600" y="4158720"/>
              <a:ext cx="412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=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114800" y="4175280"/>
              <a:ext cx="284040" cy="32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83240" y="4175280"/>
              <a:ext cx="284040" cy="32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2514600" y="4724280"/>
            <a:ext cx="28404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4724280"/>
            <a:ext cx="28440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2036880" y="4495320"/>
            <a:ext cx="2139840" cy="22860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819520" y="4495320"/>
            <a:ext cx="2763720" cy="381240"/>
          </a:xfrm>
          <a:prstGeom prst="line">
            <a:avLst/>
          </a:prstGeom>
          <a:ln cap="rnd" w="28440">
            <a:solidFill>
              <a:srgbClr val="ffff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687120" y="4784040"/>
            <a:ext cx="21938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ccff"/>
                </a:solidFill>
                <a:latin typeface="Tahoma"/>
              </a:rPr>
              <a:t>these mat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03200" y="3961080"/>
            <a:ext cx="171252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Let’s s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they w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6188400" y="4799520"/>
            <a:ext cx="2574720" cy="764280"/>
            <a:chOff x="6188400" y="4799520"/>
            <a:chExt cx="2574720" cy="764280"/>
          </a:xfrm>
        </p:grpSpPr>
        <p:sp>
          <p:nvSpPr>
            <p:cNvPr id="844" name=""/>
            <p:cNvSpPr/>
            <p:nvPr/>
          </p:nvSpPr>
          <p:spPr>
            <a:xfrm>
              <a:off x="6188400" y="479952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50840" y="496728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88440" y="4799520"/>
              <a:ext cx="80568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51240" y="4967280"/>
              <a:ext cx="296640" cy="580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67000" y="5165280"/>
              <a:ext cx="412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=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35440" y="5149440"/>
              <a:ext cx="4122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=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10280" y="5165640"/>
              <a:ext cx="284400" cy="32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78720" y="5165640"/>
              <a:ext cx="284400" cy="32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189160" y="4557600"/>
            <a:ext cx="4821120" cy="776520"/>
          </a:xfrm>
          <a:prstGeom prst="line">
            <a:avLst/>
          </a:prstGeom>
          <a:ln w="28440">
            <a:solidFill>
              <a:srgbClr val="66ff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05120" y="4327560"/>
            <a:ext cx="28404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86000" y="4327560"/>
            <a:ext cx="28404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570040" y="4495680"/>
            <a:ext cx="5908680" cy="852480"/>
          </a:xfrm>
          <a:prstGeom prst="line">
            <a:avLst/>
          </a:prstGeom>
          <a:ln w="28440">
            <a:solidFill>
              <a:srgbClr val="9933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08520" y="5804640"/>
            <a:ext cx="28036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3300"/>
                </a:solidFill>
                <a:latin typeface="Tahoma"/>
              </a:rPr>
              <a:t>these match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320" y="5667480"/>
            <a:ext cx="75438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an we use binomial instead of the triangle?   What do you thin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23000" y="150120"/>
            <a:ext cx="5847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Tahoma"/>
              </a:rPr>
              <a:t>Does it work with others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rot="20771400">
            <a:off x="5327280" y="791280"/>
            <a:ext cx="35319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Lets try a few to se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466520" y="1476360"/>
            <a:ext cx="4260600" cy="1189080"/>
            <a:chOff x="4466520" y="1476360"/>
            <a:chExt cx="4260600" cy="1189080"/>
          </a:xfrm>
        </p:grpSpPr>
        <p:sp>
          <p:nvSpPr>
            <p:cNvPr id="861" name=""/>
            <p:cNvSpPr/>
            <p:nvPr/>
          </p:nvSpPr>
          <p:spPr>
            <a:xfrm>
              <a:off x="4466520" y="1688040"/>
              <a:ext cx="426060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ahoma"/>
                </a:rPr>
                <a:t>(  )= 4!/2!.2!  =  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08440" y="1977840"/>
              <a:ext cx="184320" cy="336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43520" y="1476360"/>
              <a:ext cx="184320" cy="11890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51440" y="1977840"/>
              <a:ext cx="184320" cy="3366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6673680" y="2422080"/>
            <a:ext cx="24559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33ff"/>
                </a:solidFill>
                <a:latin typeface="Tahoma"/>
              </a:rPr>
              <a:t>are equal</a:t>
            </a:r>
            <a:r>
              <a:rPr b="0" i="1" lang="tr-TR" sz="3600" spc="-1" strike="noStrike">
                <a:solidFill>
                  <a:srgbClr val="9933ff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386080" y="2088720"/>
            <a:ext cx="2937240" cy="4350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24"/>
                </a:moveTo>
                <a:arcTo wR="10800" hR="10800" stAng="10728801" swAng="7015539"/>
                <a:lnTo>
                  <a:pt x="10800" y="10800"/>
                </a:lnTo>
                <a:close/>
              </a:path>
              <a:path fill="none" w="21600" h="21600">
                <a:moveTo>
                  <a:pt x="2" y="11024"/>
                </a:moveTo>
                <a:arcTo wR="10800" hR="10800" stAng="10728801" swAng="7015539"/>
              </a:path>
            </a:pathLst>
          </a:custGeom>
          <a:noFill/>
          <a:ln w="57240">
            <a:solidFill>
              <a:srgbClr val="cc0000"/>
            </a:solidFill>
            <a:prstDash val="sysDot"/>
            <a:miter/>
            <a:headEnd len="med" type="triangle" w="med"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42080" y="3048120"/>
            <a:ext cx="1881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326160"/>
            <a:ext cx="2892600" cy="283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YES it looks like we can use binomial instead of the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01680" y="3898800"/>
            <a:ext cx="28440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03480" y="4724280"/>
            <a:ext cx="284040" cy="3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2486160" y="3063600"/>
            <a:ext cx="5165640" cy="183492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14760" y="5920560"/>
            <a:ext cx="28036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ccff"/>
                </a:solidFill>
                <a:latin typeface="Tahoma"/>
              </a:rPr>
              <a:t>these match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21880" y="5045040"/>
            <a:ext cx="38260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  )= 2!/1!.1! =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92800" y="1689120"/>
            <a:ext cx="376200" cy="1059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79840" y="5081760"/>
            <a:ext cx="376200" cy="1059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774720" y="1471680"/>
            <a:ext cx="4991040" cy="2901960"/>
            <a:chOff x="774720" y="1471680"/>
            <a:chExt cx="4991040" cy="2901960"/>
          </a:xfrm>
        </p:grpSpPr>
        <p:grpSp>
          <p:nvGrpSpPr>
            <p:cNvPr id="877" name=""/>
            <p:cNvGrpSpPr/>
            <p:nvPr/>
          </p:nvGrpSpPr>
          <p:grpSpPr>
            <a:xfrm>
              <a:off x="774720" y="2824200"/>
              <a:ext cx="4194000" cy="1549440"/>
              <a:chOff x="774720" y="2824200"/>
              <a:chExt cx="4194000" cy="1549440"/>
            </a:xfrm>
          </p:grpSpPr>
          <p:sp>
            <p:nvSpPr>
              <p:cNvPr id="878" name=""/>
              <p:cNvSpPr/>
              <p:nvPr/>
            </p:nvSpPr>
            <p:spPr>
              <a:xfrm flipH="1">
                <a:off x="774720" y="3279600"/>
                <a:ext cx="4194000" cy="1094040"/>
              </a:xfrm>
              <a:custGeom>
                <a:avLst/>
                <a:gdLst>
                  <a:gd name="textAreaLeft" fmla="*/ 733680 w 4194000"/>
                  <a:gd name="textAreaRight" fmla="*/ 3040560 w 4194000"/>
                  <a:gd name="textAreaTop" fmla="*/ 146520 h 1094040"/>
                  <a:gd name="textAreaBottom" fmla="*/ 947520 h 1094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332000" y="2824200"/>
                <a:ext cx="419040" cy="3776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3419640" y="1471680"/>
              <a:ext cx="234612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For the </a:t>
              </a:r>
              <a:r>
                <a:rPr b="0" i="1" lang="en-US" sz="3600" spc="-1" strike="noStrike">
                  <a:solidFill>
                    <a:srgbClr val="ff3300"/>
                  </a:solidFill>
                  <a:latin typeface="Tahoma"/>
                </a:rPr>
                <a:t>1</a:t>
              </a:r>
              <a:r>
                <a:rPr b="0" i="1" lang="en-US" sz="3600" spc="-1" strike="noStrike" baseline="30000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 term we used </a:t>
              </a:r>
              <a:r>
                <a:rPr b="0" i="1" lang="en-US" sz="3600" spc="-1" strike="noStrike">
                  <a:solidFill>
                    <a:srgbClr val="ff3300"/>
                  </a:solidFill>
                  <a:latin typeface="Tahoma"/>
                </a:rPr>
                <a:t>0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ahoma"/>
                </a:rPr>
                <a:t>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373040" y="3319560"/>
            <a:ext cx="1012680" cy="1689120"/>
            <a:chOff x="1373040" y="3319560"/>
            <a:chExt cx="1012680" cy="1689120"/>
          </a:xfrm>
        </p:grpSpPr>
        <p:sp>
          <p:nvSpPr>
            <p:cNvPr id="882" name=""/>
            <p:cNvSpPr/>
            <p:nvPr/>
          </p:nvSpPr>
          <p:spPr>
            <a:xfrm>
              <a:off x="1373040" y="4651200"/>
              <a:ext cx="317520" cy="35748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1630080" y="3319560"/>
              <a:ext cx="755640" cy="12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202320" y="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he question is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808880" y="2209680"/>
            <a:ext cx="39358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1     5     10     10     5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7     21     35     35     21     7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    8     28     56     70     56     28     8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0" y="2179800"/>
            <a:ext cx="395604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5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=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x+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69480" y="0"/>
            <a:ext cx="4743720" cy="337320"/>
          </a:xfrm>
          <a:prstGeom prst="rect">
            <a:avLst/>
          </a:prstGeom>
          <a:solidFill>
            <a:srgbClr val="fdc52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s go back and look at the expansion of (x+1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6720" y="814320"/>
            <a:ext cx="5216040" cy="337320"/>
          </a:xfrm>
          <a:prstGeom prst="rect">
            <a:avLst/>
          </a:prstGeom>
          <a:solidFill>
            <a:srgbClr val="fdc52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</a:rPr>
              <a:t>Let us see how to get these terms from the binom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437600" y="29844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5386320" y="4664160"/>
            <a:ext cx="333360" cy="304560"/>
          </a:xfrm>
          <a:prstGeom prst="ellipse">
            <a:avLst/>
          </a:prstGeom>
          <a:noFill/>
          <a:ln w="12600">
            <a:solidFill>
              <a:srgbClr val="0066ff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471680" y="4940280"/>
            <a:ext cx="3325680" cy="192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you understand that the number we use is always one smaller than the term we w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52320" y="1281240"/>
            <a:ext cx="15764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st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654120" y="2206800"/>
            <a:ext cx="4714920" cy="2753640"/>
            <a:chOff x="654120" y="2206800"/>
            <a:chExt cx="4714920" cy="2753640"/>
          </a:xfrm>
        </p:grpSpPr>
        <p:sp>
          <p:nvSpPr>
            <p:cNvPr id="894" name=""/>
            <p:cNvSpPr/>
            <p:nvPr/>
          </p:nvSpPr>
          <p:spPr>
            <a:xfrm>
              <a:off x="1320840" y="2393640"/>
              <a:ext cx="46188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654120" y="2206800"/>
              <a:ext cx="4714920" cy="2753640"/>
              <a:chOff x="654120" y="2206800"/>
              <a:chExt cx="4714920" cy="2753640"/>
            </a:xfrm>
          </p:grpSpPr>
          <p:sp>
            <p:nvSpPr>
              <p:cNvPr id="896" name=""/>
              <p:cNvSpPr/>
              <p:nvPr/>
            </p:nvSpPr>
            <p:spPr>
              <a:xfrm>
                <a:off x="881280" y="4655880"/>
                <a:ext cx="333360" cy="304560"/>
              </a:xfrm>
              <a:prstGeom prst="ellipse">
                <a:avLst/>
              </a:prstGeom>
              <a:noFill/>
              <a:ln w="12600">
                <a:solidFill>
                  <a:srgbClr val="0066ff"/>
                </a:solidFill>
                <a:miter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54120" y="2206800"/>
                <a:ext cx="178776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ahoma"/>
                  </a:rPr>
                  <a:t>( ) 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079640" y="3192120"/>
                <a:ext cx="411120" cy="139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513080" y="3258720"/>
                <a:ext cx="3855960" cy="145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1949400" y="1273320"/>
            <a:ext cx="1311120" cy="2025720"/>
            <a:chOff x="1949400" y="1273320"/>
            <a:chExt cx="1311120" cy="2025720"/>
          </a:xfrm>
        </p:grpSpPr>
        <p:grpSp>
          <p:nvGrpSpPr>
            <p:cNvPr id="901" name=""/>
            <p:cNvGrpSpPr/>
            <p:nvPr/>
          </p:nvGrpSpPr>
          <p:grpSpPr>
            <a:xfrm>
              <a:off x="2090520" y="2198880"/>
              <a:ext cx="1087560" cy="1008360"/>
              <a:chOff x="2090520" y="2198880"/>
              <a:chExt cx="1087560" cy="1008360"/>
            </a:xfrm>
          </p:grpSpPr>
          <p:sp>
            <p:nvSpPr>
              <p:cNvPr id="902" name=""/>
              <p:cNvSpPr/>
              <p:nvPr/>
            </p:nvSpPr>
            <p:spPr>
              <a:xfrm>
                <a:off x="2476440" y="2360520"/>
                <a:ext cx="303120" cy="785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090520" y="2198880"/>
                <a:ext cx="108756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ahoma"/>
                  </a:rPr>
                  <a:t>( )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4" name=""/>
            <p:cNvSpPr/>
            <p:nvPr/>
          </p:nvSpPr>
          <p:spPr>
            <a:xfrm>
              <a:off x="1949400" y="1273320"/>
              <a:ext cx="1311120" cy="2025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ahoma"/>
                </a:rPr>
                <a:t>2nd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916440" y="1174680"/>
            <a:ext cx="218592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For the </a:t>
            </a: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term we used </a:t>
            </a: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997680" y="417600"/>
            <a:ext cx="214632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ff"/>
                </a:solidFill>
                <a:latin typeface="Tahoma"/>
              </a:rPr>
              <a:t>The other thing is how do we know that it will be a  5 on the to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795240" y="5486400"/>
            <a:ext cx="966960" cy="1330200"/>
            <a:chOff x="795240" y="5486400"/>
            <a:chExt cx="966960" cy="1330200"/>
          </a:xfrm>
        </p:grpSpPr>
        <p:sp>
          <p:nvSpPr>
            <p:cNvPr id="908" name=""/>
            <p:cNvSpPr/>
            <p:nvPr/>
          </p:nvSpPr>
          <p:spPr>
            <a:xfrm>
              <a:off x="795240" y="5486400"/>
              <a:ext cx="198360" cy="357120"/>
            </a:xfrm>
            <a:prstGeom prst="ellipse">
              <a:avLst/>
            </a:prstGeom>
            <a:solidFill>
              <a:srgbClr val="d1ffec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84200" y="6319800"/>
              <a:ext cx="378000" cy="496800"/>
            </a:xfrm>
            <a:prstGeom prst="ellipse">
              <a:avLst/>
            </a:prstGeom>
            <a:solidFill>
              <a:srgbClr val="d1ffec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2316240" y="3921120"/>
            <a:ext cx="6827760" cy="1941480"/>
            <a:chOff x="2316240" y="3921120"/>
            <a:chExt cx="6827760" cy="1941480"/>
          </a:xfrm>
        </p:grpSpPr>
        <p:sp>
          <p:nvSpPr>
            <p:cNvPr id="911" name=""/>
            <p:cNvSpPr/>
            <p:nvPr/>
          </p:nvSpPr>
          <p:spPr>
            <a:xfrm>
              <a:off x="8575560" y="3921120"/>
              <a:ext cx="568440" cy="105732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16240" y="5516640"/>
              <a:ext cx="365040" cy="345960"/>
            </a:xfrm>
            <a:prstGeom prst="ellipse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2682720" y="4754160"/>
              <a:ext cx="591192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865600" y="2376360"/>
            <a:ext cx="4975200" cy="3568680"/>
            <a:chOff x="2865600" y="2376360"/>
            <a:chExt cx="4975200" cy="3568680"/>
          </a:xfrm>
        </p:grpSpPr>
        <p:sp>
          <p:nvSpPr>
            <p:cNvPr id="915" name=""/>
            <p:cNvSpPr/>
            <p:nvPr/>
          </p:nvSpPr>
          <p:spPr>
            <a:xfrm>
              <a:off x="7516800" y="2376360"/>
              <a:ext cx="324000" cy="446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65600" y="5499000"/>
              <a:ext cx="323640" cy="446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3129120" y="2823840"/>
              <a:ext cx="4470120" cy="27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-138960" y="2651040"/>
            <a:ext cx="6496200" cy="3221280"/>
            <a:chOff x="-138960" y="2651040"/>
            <a:chExt cx="6496200" cy="3221280"/>
          </a:xfrm>
        </p:grpSpPr>
        <p:sp>
          <p:nvSpPr>
            <p:cNvPr id="919" name=""/>
            <p:cNvSpPr/>
            <p:nvPr/>
          </p:nvSpPr>
          <p:spPr>
            <a:xfrm>
              <a:off x="-138960" y="3672000"/>
              <a:ext cx="6496200" cy="337320"/>
            </a:xfrm>
            <a:prstGeom prst="rect">
              <a:avLst/>
            </a:prstGeom>
            <a:solidFill>
              <a:srgbClr val="eafdfe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  y part has an exponent that is the same as the lower numb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1482840" y="4043520"/>
              <a:ext cx="101520" cy="14014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60360" y="5486400"/>
              <a:ext cx="466920" cy="385920"/>
            </a:xfrm>
            <a:prstGeom prst="ellipse">
              <a:avLst/>
            </a:prstGeom>
            <a:solidFill>
              <a:srgbClr val="e2feb8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85680" y="2651040"/>
              <a:ext cx="466920" cy="385920"/>
            </a:xfrm>
            <a:prstGeom prst="ellipse">
              <a:avLst/>
            </a:prstGeom>
            <a:solidFill>
              <a:srgbClr val="e2feb8"/>
            </a:solid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1320840" y="3068280"/>
              <a:ext cx="203040" cy="6094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55680" y="2075040"/>
            <a:ext cx="1787400" cy="1008360"/>
            <a:chOff x="355680" y="2075040"/>
            <a:chExt cx="1787400" cy="1008360"/>
          </a:xfrm>
        </p:grpSpPr>
        <p:sp>
          <p:nvSpPr>
            <p:cNvPr id="925" name=""/>
            <p:cNvSpPr/>
            <p:nvPr/>
          </p:nvSpPr>
          <p:spPr>
            <a:xfrm>
              <a:off x="1049400" y="2233440"/>
              <a:ext cx="38088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99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5680" y="2075040"/>
              <a:ext cx="178740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ahoma"/>
                </a:rPr>
                <a:t>( )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160200" y="0"/>
            <a:ext cx="89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How about the x and y parts?   First lets write out the expansion complete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41960" y="6221520"/>
            <a:ext cx="6732360" cy="337320"/>
          </a:xfrm>
          <a:prstGeom prst="rect">
            <a:avLst/>
          </a:prstGeom>
          <a:solidFill>
            <a:srgbClr val="fdc529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ahoma"/>
              </a:rPr>
              <a:t>The x part has an exponent = to the top number – the lower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7437600" y="29844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0" name=""/>
          <p:cNvSpPr/>
          <p:nvPr/>
        </p:nvSpPr>
        <p:spPr>
          <a:xfrm>
            <a:off x="326880" y="833400"/>
            <a:ext cx="15764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st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7008840" y="906480"/>
            <a:ext cx="1311120" cy="2025720"/>
            <a:chOff x="7008840" y="906480"/>
            <a:chExt cx="1311120" cy="2025720"/>
          </a:xfrm>
        </p:grpSpPr>
        <p:grpSp>
          <p:nvGrpSpPr>
            <p:cNvPr id="932" name=""/>
            <p:cNvGrpSpPr/>
            <p:nvPr/>
          </p:nvGrpSpPr>
          <p:grpSpPr>
            <a:xfrm>
              <a:off x="7149960" y="1832040"/>
              <a:ext cx="1087560" cy="1008360"/>
              <a:chOff x="7149960" y="1832040"/>
              <a:chExt cx="1087560" cy="1008360"/>
            </a:xfrm>
          </p:grpSpPr>
          <p:sp>
            <p:nvSpPr>
              <p:cNvPr id="933" name=""/>
              <p:cNvSpPr/>
              <p:nvPr/>
            </p:nvSpPr>
            <p:spPr>
              <a:xfrm>
                <a:off x="7535880" y="1993680"/>
                <a:ext cx="303120" cy="785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149960" y="1832040"/>
                <a:ext cx="108756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40186" dir="109635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Tahoma"/>
                  </a:rPr>
                  <a:t>( )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"/>
            <p:cNvSpPr/>
            <p:nvPr/>
          </p:nvSpPr>
          <p:spPr>
            <a:xfrm>
              <a:off x="7008840" y="906480"/>
              <a:ext cx="1311120" cy="20257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ahoma"/>
                </a:rPr>
                <a:t>2nd 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-743040" y="5486400"/>
            <a:ext cx="1057608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=1(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1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1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(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10(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5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+ 1(x)</a:t>
            </a:r>
            <a:r>
              <a:rPr b="0" lang="en-US" sz="2400" spc="-1" strike="noStrike" baseline="30000">
                <a:solidFill>
                  <a:srgbClr val="9933ff"/>
                </a:solidFill>
                <a:latin typeface="Tahoma"/>
                <a:ea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 baseline="30000">
                <a:solidFill>
                  <a:srgbClr val="009900"/>
                </a:solidFill>
                <a:latin typeface="Tahoma"/>
                <a:ea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27520" y="882720"/>
            <a:ext cx="328284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Lets  check to see if it works with the 2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67400" y="4105440"/>
            <a:ext cx="35766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nd 5 – 1  =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05160" y="1628640"/>
            <a:ext cx="1807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Yea.   It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6242040"/>
            <a:ext cx="21463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5-0=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3" name="ANIS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63440" y="-360"/>
            <a:ext cx="46386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ccff"/>
                </a:solidFill>
                <a:latin typeface="Tahoma"/>
              </a:rPr>
              <a:t>What does this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0120" y="1279080"/>
            <a:ext cx="84330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cc0000"/>
                </a:solidFill>
                <a:latin typeface="Tahoma"/>
              </a:rPr>
              <a:t>It means if you want the terms you don’t have to write out PASCAL's triang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19160" y="3377880"/>
            <a:ext cx="67676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This is nice when the exponents get very l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5040" y="4701960"/>
            <a:ext cx="18540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43840" y="5028840"/>
            <a:ext cx="450900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I’m not that cruel to 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you all the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for a power like that…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204840" y="266760"/>
            <a:ext cx="878040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99ccff"/>
                </a:solidFill>
                <a:latin typeface="Tahoma"/>
              </a:rPr>
              <a:t>Review time.    B4 going on, think about all that you learn and see if you can remember how to a problem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4840" y="2044440"/>
            <a:ext cx="77947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1</a:t>
            </a: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find the coefficients by either the </a:t>
            </a: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66ff33"/>
                </a:solidFill>
                <a:latin typeface="Tahoma"/>
              </a:rPr>
              <a:t>triangle or bi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8080" y="3044880"/>
            <a:ext cx="870084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the x part starts with the 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exponent 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of the problem and decrease 1 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each 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i="1" lang="en-GB" sz="3600" spc="-1" strike="noStrike">
                <a:solidFill>
                  <a:srgbClr val="ff3300"/>
                </a:solidFill>
                <a:latin typeface="Tahoma"/>
              </a:rPr>
              <a:t>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46240" y="4730400"/>
            <a:ext cx="845964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the y part starts the 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exponent with 0 and 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9900"/>
                </a:solidFill>
                <a:latin typeface="Tahoma"/>
              </a:rPr>
              <a:t>increases by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840" y="6157800"/>
            <a:ext cx="8939160" cy="641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4840" y="5676840"/>
            <a:ext cx="930888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you get the  nth term by using the n-1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number in the binom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92320" y="914400"/>
            <a:ext cx="7951680" cy="2288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5     If you just want  the nth term of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n expansion with exponent p        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ubtract 1 from n and use the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binomial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 rot="10800000">
                <a:off x="1884240" y="3398400"/>
                <a:ext cx="21765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2185920" y="5122800"/>
            <a:ext cx="6440400" cy="174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The y part gets  the exponent of the lower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The x part gets the exponent after subtract the top and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35520" y="3835440"/>
            <a:ext cx="46720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x)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P – (n – 1)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 (y)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n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436680" y="257040"/>
            <a:ext cx="8140680" cy="6222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4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ortly you will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 given a problem t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y.  if you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ed to review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o back now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 may god be with you!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1981080" y="838440"/>
            <a:ext cx="632484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One last problem for you to review before i give you the problem to chec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083240" y="2028960"/>
            <a:ext cx="3062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1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2    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  \ 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3     3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4     6     4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5     10     10     5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     6     15     20     15     6   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\ /    \ / 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 /    \ /     \ /     \ /     \ /    \ /    \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707000" y="2028960"/>
            <a:ext cx="4035240" cy="393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Here is the triangle if you want to check the coefficient by the binomial way.   Just come back if you do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514600"/>
            <a:ext cx="53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(x+1)(x+1)(x+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440" y="838080"/>
            <a:ext cx="58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ff"/>
                </a:solidFill>
                <a:latin typeface="Tahoma"/>
              </a:rPr>
              <a:t>We already know the answ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99ff"/>
                </a:solidFill>
                <a:latin typeface="Tahoma"/>
              </a:rPr>
              <a:t>for this on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91120" y="1905120"/>
            <a:ext cx="304560" cy="609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733560" y="365760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590920"/>
            <a:ext cx="3657600" cy="914400"/>
          </a:xfrm>
          <a:prstGeom prst="rect">
            <a:avLst/>
          </a:prstGeom>
          <a:noFill/>
          <a:ln w="76320">
            <a:solidFill>
              <a:srgbClr val="66ff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44956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40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+2x+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26160" y="4572000"/>
            <a:ext cx="4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85200" y="4419720"/>
            <a:ext cx="13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(x+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4191120"/>
            <a:ext cx="3504960" cy="61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2591280" y="4876920"/>
            <a:ext cx="411444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70400" y="4191120"/>
            <a:ext cx="2549160" cy="61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4267440" y="4920120"/>
            <a:ext cx="2438280" cy="52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191120"/>
            <a:ext cx="1752480" cy="61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3429360" y="4876920"/>
            <a:ext cx="32763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495680"/>
            <a:ext cx="83844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25520" y="556272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26640" y="3657600"/>
            <a:ext cx="155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multip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ff"/>
                </a:solidFill>
                <a:latin typeface="Tahoma"/>
              </a:rPr>
              <a:t>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4495680"/>
            <a:ext cx="83808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1120" y="5562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4495680"/>
            <a:ext cx="83844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9440" y="5562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4495680"/>
            <a:ext cx="83844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5720" y="556272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495680"/>
            <a:ext cx="83808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5920" y="55627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x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4495680"/>
            <a:ext cx="838440" cy="76212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419720"/>
            <a:ext cx="838080" cy="7617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0720" y="5562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562720"/>
            <a:ext cx="3048120" cy="457200"/>
          </a:xfrm>
          <a:prstGeom prst="rect">
            <a:avLst/>
          </a:prstGeom>
          <a:noFill/>
          <a:ln w="763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5791320"/>
            <a:ext cx="533520" cy="2286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5715000"/>
            <a:ext cx="29300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Tahoma"/>
              </a:rPr>
              <a:t>X</a:t>
            </a:r>
            <a:r>
              <a:rPr b="0" lang="en-US" sz="3600" spc="-1" strike="noStrike" u="sng" baseline="30000">
                <a:solidFill>
                  <a:srgbClr val="99ff33"/>
                </a:solidFill>
                <a:uFillTx/>
                <a:latin typeface="Tahoma"/>
              </a:rPr>
              <a:t>3</a:t>
            </a:r>
            <a:r>
              <a:rPr b="0" lang="en-US" sz="3600" spc="-1" strike="noStrike" u="sng">
                <a:solidFill>
                  <a:srgbClr val="99ff33"/>
                </a:solidFill>
                <a:uFillTx/>
                <a:latin typeface="Tahoma"/>
              </a:rPr>
              <a:t>+ 3x</a:t>
            </a:r>
            <a:r>
              <a:rPr b="0" lang="en-US" sz="3600" spc="-1" strike="noStrike" u="sng" baseline="30000">
                <a:solidFill>
                  <a:srgbClr val="99ff33"/>
                </a:solidFill>
                <a:uFillTx/>
                <a:latin typeface="Tahoma"/>
              </a:rPr>
              <a:t>2</a:t>
            </a:r>
            <a:r>
              <a:rPr b="0" lang="en-US" sz="3600" spc="-1" strike="noStrike" u="sng">
                <a:solidFill>
                  <a:srgbClr val="99ff33"/>
                </a:solidFill>
                <a:uFillTx/>
                <a:latin typeface="Tahoma"/>
              </a:rPr>
              <a:t>+3x+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667800" y="59796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Tahoma"/>
              </a:rPr>
              <a:t>Good lu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370320" y="532800"/>
            <a:ext cx="259020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66"/>
                </a:solidFill>
                <a:latin typeface="Tahoma"/>
              </a:rPr>
              <a:t>Have f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9400" y="1886760"/>
            <a:ext cx="6813000" cy="173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Can you find </a:t>
            </a:r>
            <a:r>
              <a:rPr b="0" i="1" lang="en-US" sz="3600" spc="-1" strike="noStrike">
                <a:solidFill>
                  <a:srgbClr val="9933ff"/>
                </a:solidFill>
                <a:latin typeface="Tahoma"/>
              </a:rPr>
              <a:t>only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 the </a:t>
            </a:r>
            <a:r>
              <a:rPr b="0" i="1" lang="en-US" sz="3600" spc="-1" strike="noStrike">
                <a:solidFill>
                  <a:srgbClr val="00ff00"/>
                </a:solidFill>
                <a:latin typeface="Tahoma"/>
              </a:rPr>
              <a:t>5</a:t>
            </a:r>
            <a:r>
              <a:rPr b="0" i="1" lang="en-US" sz="36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 term of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(x+2)</a:t>
            </a:r>
            <a:r>
              <a:rPr b="0" lang="en-US" sz="7200" spc="-1" strike="noStrike" baseline="30000">
                <a:solidFill>
                  <a:srgbClr val="ff0000"/>
                </a:solidFill>
                <a:latin typeface="Tahom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69960" y="4870440"/>
            <a:ext cx="42735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Think and try before going on!!!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1228320" y="1522800"/>
            <a:ext cx="3966480" cy="764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99"/>
                </a:solidFill>
                <a:latin typeface="Tahoma"/>
              </a:rPr>
              <a:t>And you’ll sa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5334120" y="942840"/>
            <a:ext cx="2971800" cy="2246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How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1757160" y="2985840"/>
            <a:ext cx="27975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Well here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your ans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5686800">
            <a:off x="6016320" y="2409480"/>
            <a:ext cx="1523880" cy="38098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3809880"/>
              <a:gd name="textAreaBottom" fmla="*/ 3810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99" stAng="10800000" swAng="5400000"/>
                <a:lnTo>
                  <a:pt x="12427" y="3461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8697"/>
                </a:lnTo>
                <a:lnTo>
                  <a:pt x="12427" y="8697"/>
                </a:lnTo>
                <a:arcTo wR="7191" hR="3463" stAng="16200000" swAng="-5400000"/>
                <a:lnTo>
                  <a:pt x="5236" y="216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60680" y="4756320"/>
            <a:ext cx="183960" cy="64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48960" y="4755960"/>
            <a:ext cx="40089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ff"/>
                </a:solidFill>
                <a:latin typeface="Tahoma"/>
              </a:rPr>
              <a:t>You’ll hav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99ff"/>
                </a:solidFill>
                <a:latin typeface="Tahoma"/>
              </a:rPr>
              <a:t>expand it real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351320" y="5866920"/>
            <a:ext cx="10465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cc00"/>
                </a:solidFill>
                <a:latin typeface="Tahoma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451560" y="5333760"/>
            <a:ext cx="225792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Binomi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996600"/>
                </a:solidFill>
                <a:latin typeface="Tahoma"/>
              </a:rPr>
              <a:t>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2" name="ANIS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"/>
          <p:cNvGrpSpPr/>
          <p:nvPr/>
        </p:nvGrpSpPr>
        <p:grpSpPr>
          <a:xfrm>
            <a:off x="4800600" y="379800"/>
            <a:ext cx="4011480" cy="1343880"/>
            <a:chOff x="4800600" y="379800"/>
            <a:chExt cx="4011480" cy="1343880"/>
          </a:xfrm>
        </p:grpSpPr>
        <p:sp>
          <p:nvSpPr>
            <p:cNvPr id="973" name=""/>
            <p:cNvSpPr/>
            <p:nvPr/>
          </p:nvSpPr>
          <p:spPr>
            <a:xfrm>
              <a:off x="48006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88000" y="379800"/>
              <a:ext cx="35892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220360" y="562680"/>
              <a:ext cx="4323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98120" y="943560"/>
              <a:ext cx="3484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58360" y="685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83880" y="531000"/>
              <a:ext cx="5418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n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58120" y="1111320"/>
              <a:ext cx="22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17400" y="1142280"/>
              <a:ext cx="14716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n-r)!.r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4724280" y="15228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057400"/>
            <a:ext cx="40878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919880" y="852840"/>
            <a:ext cx="196524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(x+2)</a:t>
            </a:r>
            <a:r>
              <a:rPr b="0" lang="en-GB" sz="54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301200" y="2558160"/>
            <a:ext cx="41097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33ff"/>
                </a:solidFill>
                <a:latin typeface="Tahoma"/>
              </a:rPr>
              <a:t>To find the coefficien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3987360" y="1569600"/>
            <a:ext cx="203400" cy="19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17640" y="853920"/>
            <a:ext cx="2170080" cy="974880"/>
          </a:xfrm>
          <a:prstGeom prst="rect">
            <a:avLst/>
          </a:prstGeom>
          <a:noFill/>
          <a:ln w="57240">
            <a:solidFill>
              <a:srgbClr val="0066ff"/>
            </a:solidFill>
            <a:prstDash val="sysDot"/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605760" y="2939760"/>
            <a:ext cx="351540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33ff"/>
                </a:solidFill>
                <a:latin typeface="Tahoma"/>
              </a:rPr>
              <a:t>we have to apply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9933ff"/>
                </a:solidFill>
                <a:latin typeface="Tahoma"/>
              </a:rPr>
              <a:t>form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7292880" y="2205000"/>
            <a:ext cx="689040" cy="130032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461960" y="3276000"/>
            <a:ext cx="1546200" cy="155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020680" y="3581280"/>
            <a:ext cx="4626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97200" y="3581280"/>
            <a:ext cx="6681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429000" y="838080"/>
            <a:ext cx="6681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2471760" y="1599840"/>
            <a:ext cx="1396800" cy="1981080"/>
          </a:xfrm>
          <a:prstGeom prst="line">
            <a:avLst/>
          </a:prstGeom>
          <a:ln w="57240">
            <a:solidFill>
              <a:srgbClr val="66ff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57480" y="2857680"/>
            <a:ext cx="1258200" cy="82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33ff"/>
                </a:solidFill>
                <a:latin typeface="Tahoma"/>
              </a:rPr>
              <a:t>is </a:t>
            </a:r>
            <a:r>
              <a:rPr b="0" i="1" lang="tr-TR" sz="2400" spc="-1" strike="noStrike">
                <a:solidFill>
                  <a:srgbClr val="9933ff"/>
                </a:solidFill>
                <a:latin typeface="Tahoma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9933ff"/>
                </a:solidFill>
                <a:latin typeface="Tahoma"/>
              </a:rPr>
              <a:t>powe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97200" y="4114800"/>
            <a:ext cx="6681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88360" y="4952520"/>
            <a:ext cx="52448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Which term did I ask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92120" y="4996800"/>
            <a:ext cx="67464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0" i="1" lang="en-GB" sz="3600" spc="-1" strike="noStrike" baseline="30000">
                <a:solidFill>
                  <a:srgbClr val="ffff00"/>
                </a:solidFill>
                <a:latin typeface="Tahoma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666880" y="4495680"/>
            <a:ext cx="6324840" cy="762120"/>
          </a:xfrm>
          <a:custGeom>
            <a:avLst/>
            <a:gdLst/>
            <a:ahLst/>
            <a:rect l="l" t="t" r="r" b="b"/>
            <a:pathLst>
              <a:path w="3984" h="480">
                <a:moveTo>
                  <a:pt x="0" y="0"/>
                </a:moveTo>
                <a:cubicBezTo>
                  <a:pt x="1368" y="80"/>
                  <a:pt x="2736" y="160"/>
                  <a:pt x="3360" y="240"/>
                </a:cubicBezTo>
                <a:cubicBezTo>
                  <a:pt x="3984" y="320"/>
                  <a:pt x="3712" y="408"/>
                  <a:pt x="3744" y="480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45929" dir="202887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475400" y="4952880"/>
            <a:ext cx="1135080" cy="641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rot="262800">
            <a:off x="3376080" y="4340880"/>
            <a:ext cx="442800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66ff"/>
                </a:solidFill>
                <a:latin typeface="Tahoma"/>
              </a:rPr>
              <a:t>is the term I asked fo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475400" y="5561640"/>
            <a:ext cx="720360" cy="459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B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5687640" y="5791320"/>
            <a:ext cx="185580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22560" y="5667480"/>
            <a:ext cx="3727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9900"/>
                </a:solidFill>
                <a:latin typeface="Tahoma"/>
              </a:rPr>
              <a:t>If you remember from Pascal’s triang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9900"/>
                </a:solidFill>
                <a:latin typeface="Tahoma"/>
              </a:rPr>
              <a:t>powers start counting from 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923720" y="5942880"/>
            <a:ext cx="8344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Tahoma"/>
              </a:rPr>
              <a:t>S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35160" y="5866920"/>
            <a:ext cx="5997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5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153280" y="6203880"/>
            <a:ext cx="27000" cy="44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49720" y="6216120"/>
            <a:ext cx="140148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E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2146320" y="3930480"/>
            <a:ext cx="5832360" cy="820800"/>
            <a:chOff x="2146320" y="3930480"/>
            <a:chExt cx="5832360" cy="820800"/>
          </a:xfrm>
        </p:grpSpPr>
        <p:sp>
          <p:nvSpPr>
            <p:cNvPr id="1009" name=""/>
            <p:cNvSpPr/>
            <p:nvPr/>
          </p:nvSpPr>
          <p:spPr>
            <a:xfrm>
              <a:off x="2146320" y="4294080"/>
              <a:ext cx="438120" cy="4572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540560" y="3930480"/>
              <a:ext cx="438120" cy="4572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1900800" y="815040"/>
            <a:ext cx="1965240" cy="916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(x+2)</a:t>
            </a:r>
            <a:r>
              <a:rPr b="0" lang="en-GB" sz="54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3987360" y="1569600"/>
            <a:ext cx="203400" cy="19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501920" y="3315600"/>
            <a:ext cx="1546200" cy="1557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ahoma"/>
              </a:rPr>
              <a:t>(  )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030400" y="3581280"/>
            <a:ext cx="44280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29000" y="838080"/>
            <a:ext cx="6681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471760" y="1599840"/>
            <a:ext cx="1396800" cy="1981080"/>
          </a:xfrm>
          <a:prstGeom prst="line">
            <a:avLst/>
          </a:prstGeom>
          <a:ln w="57240">
            <a:solidFill>
              <a:srgbClr val="66ff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059280" y="3719520"/>
            <a:ext cx="5565600" cy="100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ahoma"/>
              </a:rPr>
              <a:t>=(  )=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971880" y="3633840"/>
            <a:ext cx="6159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033560" y="5407200"/>
            <a:ext cx="534816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ince i want the 5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 term i subtract 5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– 1 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847880" y="4214880"/>
            <a:ext cx="8748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2523960" y="4711320"/>
            <a:ext cx="3121200" cy="139068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145120" y="3879720"/>
            <a:ext cx="324000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(x)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5-4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(2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187960" y="477720"/>
            <a:ext cx="3956040" cy="1434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3300"/>
                </a:solidFill>
                <a:latin typeface="Tahoma"/>
              </a:rPr>
              <a:t>=80x</a:t>
            </a:r>
            <a:r>
              <a:rPr b="0" i="1" lang="en-US" sz="88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3" name="ANIS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103320" y="468360"/>
            <a:ext cx="9144000" cy="620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20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ope you learned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ot.  good luck.    please let m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know when you are finished by rais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your hand showing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only 1 finger...... GOOD JOB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15000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2465280" y="1271520"/>
            <a:ext cx="4670640" cy="450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GO HERE   AFTER I GAVE YOU PERMISSIO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TA 3 FILE&gt; COMMON FILE&gt;BINOMIAL 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438280" y="1523880"/>
            <a:ext cx="4876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9999ff"/>
                </a:solidFill>
                <a:latin typeface="Tahoma"/>
              </a:rPr>
              <a:t>But what if we</a:t>
            </a: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0000ff"/>
                </a:solidFill>
                <a:latin typeface="Tahoma"/>
              </a:rPr>
              <a:t>have a power</a:t>
            </a: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000099"/>
                </a:solidFill>
                <a:latin typeface="Tahoma"/>
              </a:rPr>
              <a:t>bigger than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6666"/>
                </a:solidFill>
                <a:latin typeface="Tahoma"/>
              </a:rPr>
              <a:t>? ?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57150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Like...</a:t>
            </a: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9762200">
            <a:off x="1295640" y="167616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47000">
            <a:off x="2513880" y="441936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480800">
            <a:off x="7314480" y="190476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ccff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938000">
            <a:off x="6629400" y="434304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38280" y="1143000"/>
            <a:ext cx="51818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6666"/>
                </a:solidFill>
                <a:latin typeface="Tahoma"/>
              </a:rPr>
              <a:t>And what if the</a:t>
            </a: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5400" spc="-1" strike="noStrike">
                <a:solidFill>
                  <a:srgbClr val="00ccff"/>
                </a:solidFill>
                <a:latin typeface="Tahoma"/>
              </a:rPr>
              <a:t>the coefficents</a:t>
            </a: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 we deal are </a:t>
            </a:r>
            <a:r>
              <a:rPr b="0" i="1" lang="en-US" sz="5400" spc="-1" strike="noStrike">
                <a:solidFill>
                  <a:srgbClr val="ff7c80"/>
                </a:solidFill>
                <a:latin typeface="Tahoma"/>
              </a:rPr>
              <a:t>bigger 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3300"/>
                </a:solidFill>
                <a:latin typeface="Tahoma"/>
              </a:rPr>
              <a:t>? ?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867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Lik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571500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2x+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262000">
            <a:off x="1295640" y="167616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cc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280600">
            <a:off x="7620480" y="441936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191e1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830400">
            <a:off x="1523880" y="449532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549800">
            <a:off x="7695720" y="1828440"/>
            <a:ext cx="60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0000"/>
                </a:solidFill>
                <a:latin typeface="Tahoma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f3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24080" y="15238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8080"/>
                </a:solidFill>
                <a:latin typeface="Tahoma"/>
              </a:rPr>
              <a:t>We hav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28954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ahoma"/>
              </a:rPr>
              <a:t>(2x+13)</a:t>
            </a:r>
            <a:r>
              <a:rPr b="0" lang="en-US" sz="5400" spc="-1" strike="noStrike" baseline="30000">
                <a:solidFill>
                  <a:srgbClr val="0000ff"/>
                </a:solidFill>
                <a:latin typeface="Tahom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572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Tahoma"/>
              </a:rPr>
              <a:t>Seems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cc0000"/>
                </a:solidFill>
                <a:latin typeface="Tahoma"/>
              </a:rPr>
              <a:t>fine,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Tahoma"/>
              </a:rPr>
              <a:t>let’s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ahoma"/>
              </a:rPr>
              <a:t>give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9933"/>
                </a:solidFill>
                <a:latin typeface="Tahoma"/>
              </a:rPr>
              <a:t>it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cc00"/>
                </a:solidFill>
                <a:latin typeface="Tahoma"/>
              </a:rPr>
              <a:t>a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ahoma"/>
              </a:rPr>
              <a:t>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  <p:sndAc>
      <p:stSnd>
        <p:snd r:embed="rId1" name="ANIS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31T11:07:47Z</dcterms:created>
  <dc:creator>Selim</dc:creator>
  <dc:description/>
  <dc:language>en-US</dc:language>
  <cp:lastModifiedBy>erikla</cp:lastModifiedBy>
  <cp:lastPrinted>1999-01-04T17:53:31Z</cp:lastPrinted>
  <dcterms:modified xsi:type="dcterms:W3CDTF">2000-12-18T07:20:07Z</dcterms:modified>
  <cp:revision>38</cp:revision>
  <dc:subject/>
  <dc:title>Slayt Başlığı Yok</dc:title>
</cp:coreProperties>
</file>