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78D-BFA5-4BE2-86B3-C05048CA32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interviewing new candidates for the product marketing position. The following week, each of you will interview the candidates who meet initial qual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all reports for the weekly meeting by F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 or the company profit sharing party next Fri. Work half 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the marketing report by 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: Come by my office later this afternoon to review the sales meeting plan. Open agenda for new division i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to review the advertising company list by F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: See me about weekly division report after this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 on the advertising budget and next year’s advertising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agenda for new division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124-C664-4359-B7D1-7799124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249-47C7-49C7-BB57-B8E9B96F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997-11A1-418F-A079-DB7D5195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08E-E7A0-4AE0-A7D7-9F0D563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1355-AF43-47DB-B22F-C43B8ABD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E526-B91D-480D-8EB6-026890B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E17-0E12-425D-920B-07E06836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C56-4E04-424A-96FD-69EA5D2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FA1-37DB-42D5-8E8D-4DF3B8B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22F9-C551-4348-867F-BCA2C87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09B-FB69-4F5A-A4BC-A87DBBA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73E-220D-44BC-A751-B2F57F3D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229A-F2E1-4B22-9293-A6D9B1F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320-A8C5-4738-AA5F-938E93C3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4165-7489-413A-838C-B03C37E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B90B-E71F-4620-8227-E73AD1AC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98D4-E03D-40EA-8706-C247C252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305-B5E4-4150-ADE1-3007640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9DD-B6AB-4324-9FA7-8D3588C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835-0453-4EBE-931B-5749343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9EE-B2AA-467F-A25F-BE4635D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91F-5C4A-4600-B67E-45E7A0A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570-FFC2-4612-A92B-9FB366B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1A4-0E28-4A6A-AABF-604E948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70B6-723F-41B2-BA6E-3CAD714B2FA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D46-58C7-4BBE-9659-4C4093DE1F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duct Marketing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s Boling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. 2, 2000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briella Font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oals for the Week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iew for new marketing re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new procedures with Pacific Rim marketing rep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weekly division meeting next M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oals for the Week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 division advertising plan for next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 preliminary advertising budget for division V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new advertising agencies for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oals for the Week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se product marketing re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up plan for the annual sales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urs.- Fly to Phoenix for sales meeting planning sess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4:37:43Z</dcterms:created>
  <dc:creator>RHS</dc:creator>
  <dc:description/>
  <dc:language>en-US</dc:language>
  <cp:lastModifiedBy>Gabriella fontan</cp:lastModifiedBy>
  <dcterms:modified xsi:type="dcterms:W3CDTF">2004-06-03T14:15:25Z</dcterms:modified>
  <cp:revision>8</cp:revision>
  <dc:subject/>
  <dc:title>PowerPoint Presentation</dc:title>
</cp:coreProperties>
</file>