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104-2538-47FB-B1DE-71AEBB21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E37-2F39-4312-A8B2-D0C7D4DD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A85D-9B06-4455-BAA5-84225099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4C26-CD4F-4571-82A8-50B7EAFA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A43B-F357-424B-BDFA-A7504D00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318B-F53F-4256-ADAE-92F66C9F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0BF2-3E13-4430-B069-BA155A14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7588-4FA6-4359-A13D-E2D4520F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3E47-19C9-48C7-9770-544F09AF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6EBD-6249-4361-A4A4-E65B18D1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2F78-C59B-4D90-A5F9-0DEBAB8C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4B6-C56E-4BD0-A186-26B82603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DCAB-62DB-46E0-968A-A576449D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49DA-D090-4894-8300-C88AD24B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E5F7-4BE0-4B87-B6EE-18C59830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A710-B4AD-4297-8365-35A8054C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0327-87F0-49D1-81A8-B296622B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B98-33D7-4506-9FAC-2DCAD9E4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682-434B-4CE1-86E7-A0A67DD8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2756-7F8E-40FA-BF0C-C561AE78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CDE-D106-4A60-A2A0-CBD07D74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1169-A726-474B-B27F-C22D5D39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F67-4565-48FE-AE9B-CAF1BDAA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5DC0-40A8-4D44-A265-A8303F43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B947-0E44-401F-8317-8B57843FC197}" type="datetime">
              <a:rPr b="0" lang="en-US" sz="14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1C70-D0DF-4DB8-8471-D30F73768F6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2B62-80C0-41ED-97CF-7637684F7ABE}" type="datetime">
              <a:rPr b="0" lang="en-US" sz="14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FFCA-1356-45CE-87CF-151B55FC8A1F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Selling MediaLoft Product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RH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abriella Font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357B-B071-48E4-819D-69A7B3B352B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75E4C3F-CD3C-4553-9A25-C4AEED3F12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tate the desired objectiv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Use multiple points if necessar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briella Font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576E-1C51-44C2-A95C-C8D08FCA87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30CB4-D64B-481A-A817-35DC313C484D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ustomer Require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onfirm the audience’s needs if you are not sur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tate the needs of the audien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3048120"/>
            <a:ext cx="1676160" cy="10666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isfac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905120"/>
            <a:ext cx="1128960" cy="765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1"/>
            <a:endCxn id="116" idx="5"/>
          </p:cNvCxnSpPr>
          <p:nvPr/>
        </p:nvCxnSpPr>
        <p:spPr>
          <a:xfrm flipH="1" flipV="1">
            <a:off x="1343880" y="2556720"/>
            <a:ext cx="578520" cy="646920"/>
          </a:xfrm>
          <a:prstGeom prst="straightConnector1">
            <a:avLst/>
          </a:prstGeom>
          <a:ln w="9360">
            <a:solidFill>
              <a:srgbClr val="f8f8f8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3505320" y="1905120"/>
            <a:ext cx="1052280" cy="7729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5" idx="7"/>
            <a:endCxn id="118" idx="3"/>
          </p:cNvCxnSpPr>
          <p:nvPr/>
        </p:nvCxnSpPr>
        <p:spPr>
          <a:xfrm flipV="1">
            <a:off x="3106800" y="2564640"/>
            <a:ext cx="552960" cy="639000"/>
          </a:xfrm>
          <a:prstGeom prst="straightConnector1">
            <a:avLst/>
          </a:prstGeom>
          <a:ln w="9360">
            <a:solidFill>
              <a:srgbClr val="f8f8f8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1905120" y="4800600"/>
            <a:ext cx="1218960" cy="8222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20" idx="0"/>
            <a:endCxn id="115" idx="4"/>
          </p:cNvCxnSpPr>
          <p:nvPr/>
        </p:nvCxnSpPr>
        <p:spPr>
          <a:xfrm flipV="1">
            <a:off x="2514240" y="4114080"/>
            <a:ext cx="1080" cy="686520"/>
          </a:xfrm>
          <a:prstGeom prst="straightConnector1">
            <a:avLst/>
          </a:prstGeom>
          <a:ln w="9360">
            <a:solidFill>
              <a:srgbClr val="f8f8f8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briella Font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C44E-0CC8-47C0-9C9F-7E1B289F29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2FE3E-1751-4262-811B-23953C894CB8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eeting the Nee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ist the products and features, and how each addresses a specific need or solves a specific problem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is section may require multiple slid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715000" y="3428640"/>
            <a:ext cx="3886200" cy="3505320"/>
            <a:chOff x="5715000" y="3428640"/>
            <a:chExt cx="3886200" cy="3505320"/>
          </a:xfrm>
        </p:grpSpPr>
        <p:sp>
          <p:nvSpPr>
            <p:cNvPr id="125" name="PyramidChart 1;Item 5"/>
            <p:cNvSpPr/>
            <p:nvPr/>
          </p:nvSpPr>
          <p:spPr>
            <a:xfrm flipV="1">
              <a:off x="5715000" y="6231960"/>
              <a:ext cx="3886200" cy="701640"/>
            </a:xfrm>
            <a:custGeom>
              <a:avLst/>
              <a:gdLst>
                <a:gd name="textAreaLeft" fmla="*/ 530640 w 3886200"/>
                <a:gd name="textAreaRight" fmla="*/ 3355560 w 3886200"/>
                <a:gd name="textAreaTop" fmla="*/ 95760 h 701640"/>
                <a:gd name="textAreaBottom" fmla="*/ 60588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5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6" name="PyramidChart 1;Item 4"/>
            <p:cNvSpPr/>
            <p:nvPr/>
          </p:nvSpPr>
          <p:spPr>
            <a:xfrm flipV="1">
              <a:off x="6103800" y="5531760"/>
              <a:ext cx="3108600" cy="700200"/>
            </a:xfrm>
            <a:custGeom>
              <a:avLst/>
              <a:gdLst>
                <a:gd name="textAreaLeft" fmla="*/ 467640 w 3108600"/>
                <a:gd name="textAreaRight" fmla="*/ 2640960 w 3108600"/>
                <a:gd name="textAreaTop" fmla="*/ 105120 h 700200"/>
                <a:gd name="textAreaBottom" fmla="*/ 59508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7" name="PyramidChart 1;Item 3"/>
            <p:cNvSpPr/>
            <p:nvPr/>
          </p:nvSpPr>
          <p:spPr>
            <a:xfrm flipV="1">
              <a:off x="6492960" y="4830120"/>
              <a:ext cx="2330280" cy="701640"/>
            </a:xfrm>
            <a:custGeom>
              <a:avLst/>
              <a:gdLst>
                <a:gd name="textAreaLeft" fmla="*/ 404280 w 2330280"/>
                <a:gd name="textAreaRight" fmla="*/ 1926000 w 2330280"/>
                <a:gd name="textAreaTop" fmla="*/ 121680 h 701640"/>
                <a:gd name="textAreaBottom" fmla="*/ 57996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8" name="PyramidChart 1;Item 2"/>
            <p:cNvSpPr/>
            <p:nvPr/>
          </p:nvSpPr>
          <p:spPr>
            <a:xfrm flipV="1">
              <a:off x="6880320" y="4130640"/>
              <a:ext cx="1552320" cy="698400"/>
            </a:xfrm>
            <a:custGeom>
              <a:avLst/>
              <a:gdLst>
                <a:gd name="textAreaLeft" fmla="*/ 341280 w 1552320"/>
                <a:gd name="textAreaRight" fmla="*/ 1211040 w 1552320"/>
                <a:gd name="textAreaTop" fmla="*/ 153360 h 698400"/>
                <a:gd name="textAreaBottom" fmla="*/ 54504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2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9" name="PyramidChart 1;Item 1"/>
            <p:cNvSpPr/>
            <p:nvPr/>
          </p:nvSpPr>
          <p:spPr>
            <a:xfrm flipV="1">
              <a:off x="7269120" y="3428280"/>
              <a:ext cx="777960" cy="701640"/>
            </a:xfrm>
            <a:custGeom>
              <a:avLst/>
              <a:gdLst>
                <a:gd name="textAreaLeft" fmla="*/ 279000 w 777960"/>
                <a:gd name="textAreaRight" fmla="*/ 498960 w 777960"/>
                <a:gd name="textAreaTop" fmla="*/ 251640 h 701640"/>
                <a:gd name="textAreaBottom" fmla="*/ 45000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1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131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custGeom>
              <a:avLst/>
              <a:gdLst>
                <a:gd name="textAreaLeft" fmla="*/ 467640 w 3108600"/>
                <a:gd name="textAreaRight" fmla="*/ 2640960 w 3108600"/>
                <a:gd name="textAreaTop" fmla="*/ 105120 h 699840"/>
                <a:gd name="textAreaBottom" fmla="*/ 594720 h 69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2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custGeom>
              <a:avLst/>
              <a:gdLst>
                <a:gd name="textAreaLeft" fmla="*/ 404280 w 2330280"/>
                <a:gd name="textAreaRight" fmla="*/ 1926000 w 2330280"/>
                <a:gd name="textAreaTop" fmla="*/ 121680 h 702000"/>
                <a:gd name="textAreaBottom" fmla="*/ 580320 h 7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3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custGeom>
              <a:avLst/>
              <a:gdLst>
                <a:gd name="textAreaLeft" fmla="*/ 341280 w 1552320"/>
                <a:gd name="textAreaRight" fmla="*/ 1211040 w 1552320"/>
                <a:gd name="textAreaTop" fmla="*/ 153360 h 698400"/>
                <a:gd name="textAreaBottom" fmla="*/ 54504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2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4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custGeom>
              <a:avLst/>
              <a:gdLst>
                <a:gd name="textAreaLeft" fmla="*/ 279000 w 777960"/>
                <a:gd name="textAreaRight" fmla="*/ 498960 w 777960"/>
                <a:gd name="textAreaTop" fmla="*/ 251640 h 701640"/>
                <a:gd name="textAreaBottom" fmla="*/ 45000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1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508800" y="761760"/>
            <a:ext cx="2330280" cy="2103840"/>
            <a:chOff x="6508800" y="761760"/>
            <a:chExt cx="2330280" cy="2103840"/>
          </a:xfrm>
        </p:grpSpPr>
        <p:sp>
          <p:nvSpPr>
            <p:cNvPr id="136" name="PyramidChart 1;Item 3"/>
            <p:cNvSpPr/>
            <p:nvPr/>
          </p:nvSpPr>
          <p:spPr>
            <a:xfrm flipV="1">
              <a:off x="6508800" y="2163600"/>
              <a:ext cx="2330280" cy="702000"/>
            </a:xfrm>
            <a:custGeom>
              <a:avLst/>
              <a:gdLst>
                <a:gd name="textAreaLeft" fmla="*/ 404280 w 2330280"/>
                <a:gd name="textAreaRight" fmla="*/ 1926000 w 2330280"/>
                <a:gd name="textAreaTop" fmla="*/ 121680 h 702000"/>
                <a:gd name="textAreaBottom" fmla="*/ 580320 h 7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7" name="PyramidChart 1;Item 2"/>
            <p:cNvSpPr/>
            <p:nvPr/>
          </p:nvSpPr>
          <p:spPr>
            <a:xfrm flipV="1">
              <a:off x="6896160" y="1463400"/>
              <a:ext cx="1552680" cy="698400"/>
            </a:xfrm>
            <a:custGeom>
              <a:avLst/>
              <a:gdLst>
                <a:gd name="textAreaLeft" fmla="*/ 341280 w 1552680"/>
                <a:gd name="textAreaRight" fmla="*/ 1211400 w 1552680"/>
                <a:gd name="textAreaTop" fmla="*/ 153360 h 698400"/>
                <a:gd name="textAreaBottom" fmla="*/ 54504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2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8" name="PyramidChart 1;Item 1"/>
            <p:cNvSpPr/>
            <p:nvPr/>
          </p:nvSpPr>
          <p:spPr>
            <a:xfrm flipV="1">
              <a:off x="7284960" y="761400"/>
              <a:ext cx="777960" cy="701640"/>
            </a:xfrm>
            <a:custGeom>
              <a:avLst/>
              <a:gdLst>
                <a:gd name="textAreaLeft" fmla="*/ 279000 w 777960"/>
                <a:gd name="textAreaRight" fmla="*/ 498960 w 777960"/>
                <a:gd name="textAreaTop" fmla="*/ 251640 h 701640"/>
                <a:gd name="textAreaBottom" fmla="*/ 45000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1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briella Font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111-7B6F-4D33-9B29-5E5D6B6126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7D3DD-3165-4EF5-A3E8-AFF79F9C2FE9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st Analy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oint out financial benefits to the customer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ompare cost-benefits between you and your competitor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briella Font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3C8-6FBF-4AF2-8750-6AA7976382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F0E45-C930-4A49-9733-6B7A2147DA8F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ur Strength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326400" y="2410200"/>
            <a:ext cx="2439000" cy="2441160"/>
            <a:chOff x="3326400" y="2410200"/>
            <a:chExt cx="2439000" cy="2441160"/>
          </a:xfrm>
        </p:grpSpPr>
        <p:sp>
          <p:nvSpPr>
            <p:cNvPr id="145" name=""/>
            <p:cNvSpPr/>
            <p:nvPr/>
          </p:nvSpPr>
          <p:spPr>
            <a:xfrm flipH="1">
              <a:off x="3428280" y="2514600"/>
              <a:ext cx="2336760" cy="2336760"/>
            </a:xfrm>
            <a:custGeom>
              <a:avLst/>
              <a:gdLst>
                <a:gd name="textAreaLeft" fmla="*/ -360 w 2336760"/>
                <a:gd name="textAreaRight" fmla="*/ 2336760 w 233676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18900"/>
                  </a:moveTo>
                  <a:arcTo wR="-8100" hR="-8100" stAng="5400000" swAng="-3240000"/>
                  <a:lnTo>
                    <a:pt x="2063" y="4452"/>
                  </a:lnTo>
                  <a:arcTo wR="10800" hR="10800" stAng="-8640000" swAng="3240000"/>
                  <a:lnTo>
                    <a:pt x="10800" y="-2700"/>
                  </a:lnTo>
                  <a:lnTo>
                    <a:pt x="14850" y="1350"/>
                  </a:lnTo>
                  <a:lnTo>
                    <a:pt x="10800" y="540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428280" y="2514600"/>
              <a:ext cx="2336760" cy="2336760"/>
            </a:xfrm>
            <a:custGeom>
              <a:avLst/>
              <a:gdLst>
                <a:gd name="textAreaLeft" fmla="*/ -360 w 2336760"/>
                <a:gd name="textAreaRight" fmla="*/ 2336760 w 233676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900" y="10800"/>
                  </a:moveTo>
                  <a:arcTo wR="-8100" hR="-8100" stAng="0" swAng="-3240000"/>
                  <a:lnTo>
                    <a:pt x="4452" y="19537"/>
                  </a:lnTo>
                  <a:arcTo wR="10800" hR="10800" stAng="7560000" swAng="3240000"/>
                  <a:lnTo>
                    <a:pt x="-2700" y="10800"/>
                  </a:lnTo>
                  <a:lnTo>
                    <a:pt x="1350" y="675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428280" y="2514600"/>
              <a:ext cx="2336760" cy="2336760"/>
            </a:xfrm>
            <a:custGeom>
              <a:avLst/>
              <a:gdLst>
                <a:gd name="textAreaLeft" fmla="*/ -360 w 2336760"/>
                <a:gd name="textAreaRight" fmla="*/ 2336760 w 233676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2700"/>
                  </a:moveTo>
                  <a:arcTo wR="-8100" hR="-8100" stAng="-5400000" swAng="-3240000"/>
                  <a:lnTo>
                    <a:pt x="19537" y="17148"/>
                  </a:lnTo>
                  <a:arcTo wR="10800" hR="10800" stAng="2160000" swAng="3240000"/>
                  <a:lnTo>
                    <a:pt x="10800" y="24300"/>
                  </a:lnTo>
                  <a:lnTo>
                    <a:pt x="6750" y="20250"/>
                  </a:lnTo>
                  <a:lnTo>
                    <a:pt x="10800" y="16200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428280" y="2514600"/>
              <a:ext cx="2336760" cy="2336760"/>
            </a:xfrm>
            <a:custGeom>
              <a:avLst/>
              <a:gdLst>
                <a:gd name="textAreaLeft" fmla="*/ -360 w 2336760"/>
                <a:gd name="textAreaRight" fmla="*/ 2336760 w 233676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00" y="10800"/>
                  </a:moveTo>
                  <a:arcTo wR="-8100" hR="-8100" stAng="-10800000" swAng="-3240000"/>
                  <a:lnTo>
                    <a:pt x="17148" y="2063"/>
                  </a:lnTo>
                  <a:arcTo wR="10800" hR="10800" stAng="-3240000" swAng="3240000"/>
                  <a:lnTo>
                    <a:pt x="24300" y="10800"/>
                  </a:lnTo>
                  <a:lnTo>
                    <a:pt x="20250" y="1485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343400">
              <a:off x="4710240" y="249912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7802600">
              <a:off x="3353400" y="304668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755600">
              <a:off x="3886200" y="432792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7838600">
              <a:off x="5181840" y="394668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280920" y="2388600"/>
            <a:ext cx="2411280" cy="2487960"/>
            <a:chOff x="6280920" y="2388600"/>
            <a:chExt cx="2411280" cy="2487960"/>
          </a:xfrm>
        </p:grpSpPr>
        <p:sp>
          <p:nvSpPr>
            <p:cNvPr id="154" name=""/>
            <p:cNvSpPr/>
            <p:nvPr/>
          </p:nvSpPr>
          <p:spPr>
            <a:xfrm flipH="1">
              <a:off x="6324480" y="2514600"/>
              <a:ext cx="2362320" cy="23619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18900"/>
                  </a:moveTo>
                  <a:arcTo wR="-8100" hR="-8100" stAng="5400000" swAng="-2592000"/>
                  <a:lnTo>
                    <a:pt x="3407" y="2927"/>
                  </a:lnTo>
                  <a:arcTo wR="10800" hR="10800" stAng="-7992000" swAng="2592000"/>
                  <a:lnTo>
                    <a:pt x="10800" y="-2700"/>
                  </a:lnTo>
                  <a:lnTo>
                    <a:pt x="14850" y="1350"/>
                  </a:lnTo>
                  <a:lnTo>
                    <a:pt x="10800" y="54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6324480" y="2514600"/>
              <a:ext cx="2362320" cy="23619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504" y="13303"/>
                  </a:moveTo>
                  <a:arcTo wR="-8100" hR="-8100" stAng="1080000" swAng="-2592000"/>
                  <a:lnTo>
                    <a:pt x="1028" y="15398"/>
                  </a:lnTo>
                  <a:arcTo wR="10800" hR="10800" stAng="9288000" swAng="2592000"/>
                  <a:lnTo>
                    <a:pt x="-2039" y="6628"/>
                  </a:lnTo>
                  <a:lnTo>
                    <a:pt x="3064" y="4028"/>
                  </a:lnTo>
                  <a:lnTo>
                    <a:pt x="5664" y="9131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324480" y="2514600"/>
              <a:ext cx="2362320" cy="23619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561" y="4247"/>
                  </a:moveTo>
                  <a:arcTo wR="-8100" hR="-8100" stAng="-3240000" swAng="-2592001"/>
                  <a:lnTo>
                    <a:pt x="12154" y="21515"/>
                  </a:lnTo>
                  <a:arcTo wR="10800" hR="10800" stAng="4967999" swAng="2592001"/>
                  <a:lnTo>
                    <a:pt x="2865" y="21722"/>
                  </a:lnTo>
                  <a:lnTo>
                    <a:pt x="1969" y="16065"/>
                  </a:lnTo>
                  <a:lnTo>
                    <a:pt x="7626" y="15169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324480" y="2514600"/>
              <a:ext cx="2362320" cy="23619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6039" y="4247"/>
                  </a:moveTo>
                  <a:arcTo wR="-8100" hR="-8100" stAng="-7560000" swAng="-2592001"/>
                  <a:lnTo>
                    <a:pt x="21409" y="12824"/>
                  </a:lnTo>
                  <a:arcTo wR="10800" hR="10800" stAng="647999" swAng="2592001"/>
                  <a:lnTo>
                    <a:pt x="18735" y="21722"/>
                  </a:lnTo>
                  <a:lnTo>
                    <a:pt x="13078" y="20826"/>
                  </a:lnTo>
                  <a:lnTo>
                    <a:pt x="13974" y="15169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6324480" y="2514600"/>
              <a:ext cx="2362320" cy="23619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096" y="13303"/>
                  </a:moveTo>
                  <a:arcTo wR="-8100" hR="-8100" stAng="9720000" swAng="-2592001"/>
                  <a:lnTo>
                    <a:pt x="16003" y="1336"/>
                  </a:lnTo>
                  <a:arcTo wR="10800" hR="10800" stAng="-3672001" swAng="2592001"/>
                  <a:lnTo>
                    <a:pt x="23639" y="6628"/>
                  </a:lnTo>
                  <a:lnTo>
                    <a:pt x="21039" y="11732"/>
                  </a:lnTo>
                  <a:lnTo>
                    <a:pt x="15936" y="9131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8243000">
              <a:off x="6325200" y="287964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660600">
              <a:off x="7530120" y="243684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146000">
              <a:off x="8215920" y="342756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1122400">
              <a:off x="7468200" y="441828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606600">
              <a:off x="6401160" y="394632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31640" y="2476800"/>
            <a:ext cx="2463840" cy="2400120"/>
            <a:chOff x="431640" y="2476800"/>
            <a:chExt cx="2463840" cy="2400120"/>
          </a:xfrm>
        </p:grpSpPr>
        <p:sp>
          <p:nvSpPr>
            <p:cNvPr id="165" name=""/>
            <p:cNvSpPr/>
            <p:nvPr/>
          </p:nvSpPr>
          <p:spPr>
            <a:xfrm flipH="1">
              <a:off x="533160" y="2514600"/>
              <a:ext cx="2362320" cy="236232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2320"/>
                <a:gd name="textAreaBottom" fmla="*/ 236268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18900"/>
                  </a:moveTo>
                  <a:arcTo wR="-8100" hR="-8100" stAng="5400000" swAng="-4320000"/>
                  <a:lnTo>
                    <a:pt x="529" y="7463"/>
                  </a:lnTo>
                  <a:arcTo wR="10800" hR="10800" stAng="-9720000" swAng="4320000"/>
                  <a:lnTo>
                    <a:pt x="10800" y="-2700"/>
                  </a:lnTo>
                  <a:lnTo>
                    <a:pt x="14850" y="1350"/>
                  </a:lnTo>
                  <a:lnTo>
                    <a:pt x="10800" y="54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33160" y="2514600"/>
              <a:ext cx="2362320" cy="236232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2320"/>
                <a:gd name="textAreaBottom" fmla="*/ 236268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15" y="6750"/>
                  </a:moveTo>
                  <a:arcTo wR="-8100" hR="-8100" stAng="-1800000" swAng="-4320000"/>
                  <a:lnTo>
                    <a:pt x="13045" y="21364"/>
                  </a:lnTo>
                  <a:arcTo wR="10800" hR="10800" stAng="4680000" swAng="4320000"/>
                  <a:lnTo>
                    <a:pt x="-891" y="17550"/>
                  </a:lnTo>
                  <a:lnTo>
                    <a:pt x="591" y="12018"/>
                  </a:lnTo>
                  <a:lnTo>
                    <a:pt x="6123" y="135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33160" y="2514600"/>
              <a:ext cx="2362320" cy="236232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2320"/>
                <a:gd name="textAreaBottom" fmla="*/ 236268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85" y="6750"/>
                  </a:moveTo>
                  <a:arcTo wR="-8100" hR="-8100" stAng="-9000000" swAng="-4320000"/>
                  <a:lnTo>
                    <a:pt x="18826" y="3573"/>
                  </a:lnTo>
                  <a:arcTo wR="10800" hR="10800" stAng="-2520000" swAng="4320000"/>
                  <a:lnTo>
                    <a:pt x="22491" y="17550"/>
                  </a:lnTo>
                  <a:lnTo>
                    <a:pt x="16959" y="19032"/>
                  </a:lnTo>
                  <a:lnTo>
                    <a:pt x="15477" y="135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881600">
              <a:off x="1981080" y="258984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520400">
              <a:off x="381600" y="342792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9658400">
              <a:off x="1967040" y="434232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briella Font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61D-43F3-4FDB-926B-970D505DAEE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0C404-A4F9-4D34-ABCF-4E8141390F98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ey Benefi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ummarize the key benefits provided by the product, service, or idea being promot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3" name="PyramidChart 1;Master;1;0.15;3"/>
          <p:cNvSpPr/>
          <p:nvPr/>
        </p:nvSpPr>
        <p:spPr>
          <a:xfrm>
            <a:off x="1216080" y="198108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c5b98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yramidChart 2;Master;1;0.15;3"/>
          <p:cNvSpPr/>
          <p:nvPr/>
        </p:nvSpPr>
        <p:spPr>
          <a:xfrm>
            <a:off x="1219320" y="205740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c5b98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briella Font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871-8B1D-4A83-85BB-AC0487F0CD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B4D15-2E87-4AAC-BAEE-0F6B8A0E5CB7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pecify the actions required of your audienc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briella Font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EE8-DE7C-467A-9D75-121937E80D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3AF79-40B7-4096-B466-9EA857CD07A1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HS</cp:lastModifiedBy>
  <dcterms:modified xsi:type="dcterms:W3CDTF">2004-05-24T14:28:12Z</dcterms:modified>
  <cp:revision>1</cp:revision>
  <dc:subject/>
  <dc:title>PowerPoint Presentation</dc:title>
</cp:coreProperties>
</file>