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FD53-1F69-4054-906E-70904706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C248-47AC-4FA8-BAC6-F9F388C8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441-CDB6-45C9-815E-29AB2E62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2889-C5D0-486A-B564-5E11E5FB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1CC-B7AA-441C-82CB-EDC546E5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1237-B316-4792-B38D-5CA2FA0A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E7B-5DED-4212-8243-4905608C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9FE-B531-42F3-998B-1FF5BA19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2D61-0E6B-4ECA-9829-190D4DC9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4409-BE8B-4A07-9AC1-78D5C273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A63-381B-47D5-8DE7-8BF4F3A4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AF93-2F7B-4A28-A1F0-8DC0C694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A261-5CD3-425E-973C-1F0332D2B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insert audio into a Power Point present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joy the mus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on the headph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insert and then movie and sound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530280" cy="530280"/>
          </a:xfrm>
          <a:prstGeom prst="rect">
            <a:avLst/>
          </a:prstGeom>
          <a:ln w="0">
            <a:noFill/>
          </a:ln>
        </p:spPr>
      </p:pic>
      <p:pic>
        <p:nvPicPr>
          <p:cNvPr id="44" name="slide1" descr=""/>
          <p:cNvPicPr/>
          <p:nvPr/>
        </p:nvPicPr>
        <p:blipFill>
          <a:blip r:embed="rId2"/>
          <a:stretch/>
        </p:blipFill>
        <p:spPr>
          <a:xfrm>
            <a:off x="838080" y="1542960"/>
            <a:ext cx="730584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either select sound from gallery or from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lide2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lide3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drive and directory in which your image is stored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slide4" descr=""/>
          <p:cNvPicPr/>
          <p:nvPr/>
        </p:nvPicPr>
        <p:blipFill>
          <a:blip r:embed="rId1"/>
          <a:stretch/>
        </p:blipFill>
        <p:spPr>
          <a:xfrm>
            <a:off x="914400" y="1581120"/>
            <a:ext cx="72486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the option of automatically play the sound or when clicking on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lide5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now add a little speaker to signify that there is an audio file loaded the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lide6" descr=""/>
          <p:cNvPicPr/>
          <p:nvPr/>
        </p:nvPicPr>
        <p:blipFill>
          <a:blip r:embed="rId1"/>
          <a:stretch/>
        </p:blipFill>
        <p:spPr>
          <a:xfrm>
            <a:off x="914400" y="1552680"/>
            <a:ext cx="732456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-click on the speak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Edit Sound Objec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slide7" descr=""/>
          <p:cNvPicPr/>
          <p:nvPr/>
        </p:nvPicPr>
        <p:blipFill>
          <a:blip r:embed="rId1"/>
          <a:stretch/>
        </p:blipFill>
        <p:spPr>
          <a:xfrm>
            <a:off x="914400" y="1514520"/>
            <a:ext cx="733428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e box next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Until Stopp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lide8" descr=""/>
          <p:cNvPicPr/>
          <p:nvPr/>
        </p:nvPicPr>
        <p:blipFill>
          <a:blip r:embed="rId1"/>
          <a:stretch/>
        </p:blipFill>
        <p:spPr>
          <a:xfrm>
            <a:off x="914400" y="1542960"/>
            <a:ext cx="73152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4:14:15Z</dcterms:created>
  <dc:creator>rjwick</dc:creator>
  <dc:description/>
  <dc:language>en-US</dc:language>
  <cp:lastModifiedBy> </cp:lastModifiedBy>
  <dcterms:modified xsi:type="dcterms:W3CDTF">2006-09-07T00:34:32Z</dcterms:modified>
  <cp:revision>2</cp:revision>
  <dc:subject/>
  <dc:title>PowerPoint Presentation</dc:title>
</cp:coreProperties>
</file>