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wind.wav" ContentType="audio/x-wav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DC2-E6CF-46C3-968D-2B77E58A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F88-2EAB-4149-94BC-07E7BAA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EF97C-D5A8-4535-B296-17F15B0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EFF0-FD5E-4670-8C68-01EEF432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E866-1EF3-4306-AAEC-4751D0A1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B666D-7C4C-45A1-956A-013CAB94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C6623-2175-4762-830A-9E85DEA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D7D84-1D73-4A15-8BD9-6BE819E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3492E-6976-460B-8187-F276070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23EFD-5FAC-4383-9CFC-A93C8BA6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8C44-177D-4104-8382-C0AE5CA0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382-71B1-4A32-9B70-2B79D7E4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802-8ADD-4F0E-B3B0-4009F191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226-CF55-40C5-88E4-23014E4B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996-211D-4ADD-8A5A-0F16BBD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A491-8173-4F70-87F6-4F7B69B2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AF0-AEE2-4C4B-86BE-FFC6C81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29F-8097-435F-8207-3221872B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5C4-4BF1-48EE-8BA3-799FB27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604-9C1E-4E73-B2DB-56EB1A5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847-D55E-4B8C-B05F-D9E9859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D5C5-6AFC-4681-B94E-152E0C1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2B5-194D-4C48-9544-0F140E0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CD3-3100-4B58-BD0C-8AA379F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B373-117B-40EC-9789-7A8BF05E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C84-29F7-4857-9B9B-14D383E4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F812-03DE-46D8-B062-0AAC67ED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623D-5C42-44EE-88D3-85C21458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5AD3-05E9-4235-BECC-5E57B7FA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9615-D0DC-49BC-92CB-153DB68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6BCC-48B4-4362-940C-C480DF1B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0FA-2906-49A1-840F-B5E46D95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2AFF-F081-46F6-858F-5DC1656D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DD65-DA01-4002-B60E-9422600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1410-9CA8-4EB2-9FBE-2C69E47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F8B8-4F95-4BE6-B1A8-AAFA215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156E-29F3-4366-8645-E0B5AA5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82FB-DEEB-47CD-956F-756D4C58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A6BE-C7B4-436E-AB9B-F38C7236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AD04-3DA5-4A8A-B070-94C1183E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0957-D9F8-4088-8E6B-46B6F145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34B0-714A-49F2-BC85-E1A6E9E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C0A-E82B-4CA5-BF65-4A90D24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63B1-8F13-48D0-AF1F-C78CAB08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B864-0491-4721-9D2C-74B427F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E15D-4B3C-4BC1-8C02-E288BBF4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2F42-15E8-4F9B-93F4-DCF3BE6F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3D82-F830-4352-BD58-C415B80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4461-EFF3-4DB3-93FC-B2BEB8B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F6BE-5AFD-472F-B041-D166FA3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EBF5-FBBB-4476-92B9-9EB87FB2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7FD9-3518-4EF8-BB0B-0BEBD176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3480-2467-4B81-97EA-E517D8E2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0EA-950D-44CC-BD56-D5F3DEC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DFE5-FD3F-48E0-B669-1AA8AA0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CF29-0FBD-4C50-B1C5-8C31ED6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8E35-AA6B-41EA-B564-933E258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BF20-63C1-49C9-8CE5-8F25EC5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98A0-0A37-4A08-B87A-84F4226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1663-77E0-4C08-AFA7-F292FEC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B8C8-9BC3-4183-AFA5-778005D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F049-B7F7-489A-9296-FF48968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B6F1-BCE2-44A1-A7A2-221D810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A42C-429C-4EF4-B835-E5608952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EA-44D6-4259-BA94-35D422A8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6222-E005-485D-B271-A596E99C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ECAF-8910-410F-82A6-26BDF6A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FF4C-BC28-4998-B1DF-A7224A8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BCE8-D59E-4617-8F23-F239F55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B8B6-EA78-47DD-9419-5A97E61A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04DE-B62C-4586-8D4F-7C5D7A50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0CE0-C24C-483D-8587-11CBA5E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9E9A-B67D-4FC7-B76D-FE5EEDA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3ED0-EFC4-4147-BD17-34F25A7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4494-A36D-417D-BBCC-857D34D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26C-27E9-438E-B0D3-E6A813F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6406-6A3C-4C82-B3DF-A7C298F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E565-5BCC-43D6-BBEB-9B9A5CEA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9939-2AED-4966-A046-0146D2B9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31CC-51D3-431C-9798-744D4C94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3FEB-B934-4BDD-8889-E48F408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B632-5B52-4633-A94D-87B4934A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85CB-4807-45A2-BD13-3894FAE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4816D-2C1A-494F-AFC0-F352416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6163-ADC2-4737-9CAD-A19DC49C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836F-7302-44B5-940A-6CAECC2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44D-292B-4152-B1D3-97B99FA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A721C-46EE-451B-882A-B66DC46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A6C7-7BBA-41B1-84B7-D2B22D6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F0DF-EF62-4672-B0E4-E63805F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4E541-0E2E-412B-97E8-809C349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1D68-0E93-46B2-BE22-E0B65C4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E5CF-4370-420C-9C66-2201E1E1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D2CD5-7439-4513-A364-908DE052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2CF4-9D82-4BC5-9945-2255E3A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F2FD-7273-4848-B058-FBD31BE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B386-1DA8-4897-87F4-A5DAF1F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861-8790-48DD-B87C-F2A9270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A1E2-EE61-4A0E-9E35-6661632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D051-45F2-4E6F-A9B6-3551DAE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EE99-4C3C-4BB1-BAC7-4E76DCF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98C9-78DD-4F59-989A-9388F23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89702-878D-4C68-A071-6B95AAD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815D-6E58-4D95-A0DC-B6E0E0F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5130A-535C-466F-AA95-DC812CBA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FF171-F16C-42FB-BDF1-0130460C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31EC3-D56D-4A19-A8AC-EFA81C1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48FCB-6CBE-4C18-BCE5-DEBE39A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DCD-9409-468F-A222-A1E8BE4588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3BC-D96F-4A3F-9EF2-F7E65BEAE3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A78-EE09-4067-8B65-04D5AB9F7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2A4B-E4A6-469C-BE9F-9F396742A4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494-A930-46A8-9E08-7BAFDFF967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388D-82C4-4F91-B2E5-08E1E2564F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5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F643-B1F7-4193-A8D7-9C7F5E9107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472-8457-41B1-BC75-7FA5F44B6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6F51-EE9C-4944-8B00-8D8264A8E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Engravers MT"/>
              </a:rPr>
              <a:t>Mt. Everest</a:t>
            </a:r>
            <a:br>
              <a:rPr sz="4400"/>
            </a:b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962520" cy="51055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Franklin Gothic Demi"/>
              </a:rPr>
              <a:t>CLIMB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Franklin Gothic Demi"/>
              </a:rPr>
              <a:t>MT. EVEREST   AND SEE THE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바탕"/>
              </a:rPr>
              <a:t>World’s highest peak</a:t>
            </a:r>
            <a:br>
              <a:rPr sz="4000"/>
            </a:br>
            <a:r>
              <a:rPr b="0" lang="en-US" sz="4000" spc="-1" strike="noStrike">
                <a:solidFill>
                  <a:srgbClr val="66ff66"/>
                </a:solidFill>
                <a:latin typeface="바탕"/>
              </a:rPr>
              <a:t>at 8,850 m hig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Located in Himalayas in southern As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Nestled along China, Nepal bo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View of 3 countries from pea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What’s in a name?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Named for Sir George Everest, surveyor general of India 1830-1843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ocally referred to as </a:t>
            </a:r>
            <a:r>
              <a:rPr b="0" i="1" lang="en-US" sz="2400" spc="-1" strike="noStrike">
                <a:solidFill>
                  <a:srgbClr val="f8f8f8"/>
                </a:solidFill>
                <a:latin typeface="Verdana"/>
              </a:rPr>
              <a:t>Sagarmatha, 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“Forehead in the sky”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Also known as </a:t>
            </a:r>
            <a:r>
              <a:rPr b="0" i="1" lang="en-US" sz="2400" spc="-1" strike="noStrike">
                <a:solidFill>
                  <a:srgbClr val="f8f8f8"/>
                </a:solidFill>
                <a:latin typeface="Verdana"/>
              </a:rPr>
              <a:t>Chomolungm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in Tibetan, meaning “Goddess Mother of the World”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92040" y="1523880"/>
            <a:ext cx="4179960" cy="4953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Eurostile"/>
              </a:rPr>
              <a:t>Geological Formation</a:t>
            </a:r>
            <a:br>
              <a:rPr sz="4000"/>
            </a:b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During the Precambrian era, the mountain lay on the bottom of the Tethys se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ollision of Eurasian continental plate and the Indian sub continental plate forced the land upward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Mountain is also covered in glacier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 advTm="7000">
    <p:random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Garamond"/>
              </a:rPr>
              <a:t>Climbing is not for amateurs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,000 attempts have been ma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60 climbers successfully reached summ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40 have died climb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random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Climbing rout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amps provide stopping points</a:t>
            </a: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0ce"/>
                </a:solidFill>
                <a:latin typeface="Verdana"/>
              </a:rPr>
              <a:t>Camps are located in safe areas avoiding known avalanche path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0ce"/>
                </a:solidFill>
                <a:latin typeface="Verdana"/>
              </a:rPr>
              <a:t>Route from Base Camp to Camp 1 takes the longest due to the number of trips necessary to carry supplies to the camp, taking up to 3 week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0ce"/>
                </a:solidFill>
                <a:latin typeface="Verdana"/>
              </a:rPr>
              <a:t>Path from Camp 1 to Camp 2 can be made in under 6 hour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0ce"/>
                </a:solidFill>
                <a:latin typeface="Verdana"/>
              </a:rPr>
              <a:t>The next path can take up to 8 hour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 advTm="7000">
    <p:random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ally Awa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number of climbers and deforestation of land surrounding the mountain has raised concern for the environmental effects of tourism at Mt. Ev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preserve the forest and land at the foot of the mountain, the Sagarmatha National Park was established in 19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Engravers MT"/>
              </a:rPr>
              <a:t>Fun Facts</a:t>
            </a: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736640"/>
                <a:gridCol w="3775320"/>
                <a:gridCol w="2717640"/>
              </a:tblGrid>
              <a:tr h="28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Comic Sans MS"/>
                        </a:rPr>
                        <a:t>Water boils at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Comic Sans MS"/>
                        </a:rPr>
                        <a:t>70° C on top of Mt. Everest, rather than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Comic Sans MS"/>
                        </a:rPr>
                        <a:t>100° C at sea level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It is estimated that more than 50 tons of plastic, glass, and metal were dumped between 1953 and the mid-1990s in what has been called </a:t>
                      </a:r>
                      <a:r>
                        <a:rPr b="0" lang="en-US" sz="1600" spc="-1" strike="noStrike">
                          <a:solidFill>
                            <a:srgbClr val="99ff99"/>
                          </a:solidFill>
                          <a:latin typeface="Verdana"/>
                        </a:rPr>
                        <a:t>“the world’s highest junkyard.”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Microsoft ® Encarta ® Encyclopedia 2005 © 1993-2004 Microsoft Corporation. All rights reserved</a:t>
                      </a:r>
                      <a:r>
                        <a:rPr b="0" lang="en-US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May 29, 1953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Edmund Hillary of New Zealand, and Tenzing Norgay of Nepal were to the first to successfully reach the peak of Mt. Everest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0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The temperature never rises above freezing</a:t>
                      </a: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A white pennant-shaped cloud is permanently hovering over the mountain.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The cloud can help predict weather changes by pointing downward when the wind is stronger, and upward when it is weak.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The mountain grows every year due to geological forces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 advTm="7000">
    <p:random/>
    <p:sndAc>
      <p:stSnd>
        <p:snd r:embed="rId1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4:37:53Z</dcterms:created>
  <dc:creator>Nikki Lange</dc:creator>
  <dc:description/>
  <dc:language>en-US</dc:language>
  <cp:lastModifiedBy>Nikki Lange</cp:lastModifiedBy>
  <dcterms:modified xsi:type="dcterms:W3CDTF">2006-03-16T18:02:04Z</dcterms:modified>
  <cp:revision>7</cp:revision>
  <dc:subject/>
  <dc:title>Slide 1</dc:title>
</cp:coreProperties>
</file>