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E57-EB6D-4E7E-BEC1-F62222D3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51F-2C6F-4043-9E83-E1344FA4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02B-1691-45C0-A80A-89AE2C8A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DE3-9908-41DB-8250-2B0EB213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AA27-4F3F-452A-9BC7-061ED392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6BA8-B6EC-4C0C-9362-2D9C80B5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9089-3525-47CB-ACDB-2453B4FB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4833-5495-476F-A51B-209E8068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6761-C949-4E7C-8BB1-EC949689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5729-48C7-4B28-93EF-176AEC12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47D7-0A0F-45EA-8F5F-0FF2350B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3B8-4D91-4253-9657-F037BF09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3911-8CA0-4514-AE65-470ED734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AEB2-2487-4EEE-B0E6-E1ADB085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EBB2-9D80-4E7B-91E7-6B7E6DF4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F20C-C200-471A-96FE-935CD679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840A-7D4E-4ADD-B76E-0EDC30BD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D520-9DE6-4E6B-A6B6-D8D17DD6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CE4-D1F3-472B-A933-60758D5D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603-647C-4448-A1E8-AD684604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D3F-9547-4452-89C2-D7ECB873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2E3-32F1-402D-9D54-A33AA294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5A2-F413-4D93-B70E-FA1117EA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AA5-5474-49F1-BD93-8A272B94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383D-9156-417D-970C-E1CA17048F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B182-7A04-4466-A433-FFF41FBA1E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Egyptian Attraction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Egypt - Alternative design"/>
          <p:cNvPicPr/>
          <p:nvPr/>
        </p:nvPicPr>
        <p:blipFill>
          <a:blip r:embed="rId1"/>
          <a:stretch/>
        </p:blipFill>
        <p:spPr>
          <a:xfrm>
            <a:off x="2286000" y="3809880"/>
            <a:ext cx="4495680" cy="2438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8390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276720" y="228600"/>
            <a:ext cx="2666880" cy="22860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4800240"/>
            <a:ext cx="815328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ptian Rug Wea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639040" cy="44388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04760" y="49525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tancha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3962160" cy="44956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eum Akn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2819520" cy="378144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5562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yram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620120" cy="531504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hin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486480" cy="48672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4800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mbs in Lux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553080" cy="39592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5028840"/>
            <a:ext cx="655308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que Of Mohamm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334120" cy="44719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0200" y="46483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le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3086280" cy="47149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20:07:56Z</dcterms:created>
  <dc:creator>RC</dc:creator>
  <dc:description/>
  <dc:language>en-US</dc:language>
  <cp:lastModifiedBy>RC</cp:lastModifiedBy>
  <dcterms:modified xsi:type="dcterms:W3CDTF">2007-04-30T21:55:08Z</dcterms:modified>
  <cp:revision>5</cp:revision>
  <dc:subject/>
  <dc:title>Pictures Of Egypt</dc:title>
</cp:coreProperties>
</file>