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785F-8B22-4751-8518-16D6B659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32E8-8E51-4691-A0D2-00D8F3AF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8E2F-17BA-4124-BFD5-7EEB78C7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22A2-05F5-49F1-9A1C-089DB823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AA19-1E98-4811-85EF-8C1A3D64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C93A-094F-4F39-82B8-26716BF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5E5F-28B0-4B68-BC1B-CAF577FE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3315-C06F-430C-9A88-6D28A44C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1C57-A0C4-4283-B4D2-CBAF9CA3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B654-1631-4816-A962-C08E381B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64AF-B141-4073-9E45-942DC7F6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5EC5-EFE6-49F0-9777-A9288567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C0FD-73FA-443A-A516-371E1A0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0955-603F-40E9-9826-B8155E4D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029C-E13D-4755-8B26-DAF49FF2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72AD-D61B-4097-9473-FB93497D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FF6A-7C38-4B39-9B29-6DF18FA2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A315-B7B6-4427-8FEF-B617BC76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E3FB-7284-42C9-B8F4-CE0EBCE0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8609-3FF9-489B-BA75-402CCFF2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8CE1-D483-420F-87F9-DBB1A7D8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D6F4-0C51-4A2B-A3E0-630D9617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9D47-A484-4FB0-8E39-7024D95E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66A9-12A2-4A77-98C2-4F99D503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6EAB-B969-4A6D-929D-CB2F9B8A8F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FC0F-3846-433D-BBD9-48868A971C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539640" y="1268280"/>
            <a:ext cx="482148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ERCERA PRESENTAC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15" name=""/>
          <p:cNvSpPr txBox="1"/>
          <p:nvPr/>
        </p:nvSpPr>
        <p:spPr>
          <a:xfrm rot="19820400">
            <a:off x="1116000" y="5733720"/>
            <a:ext cx="1400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EMA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3059280" y="3573360"/>
            <a:ext cx="3028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¿Que es winamp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un reproductor multimedia, para la plataforma Microsoft Windows creado y distribuido gratuitamente por la empresa estadounidense Nullsoft. Su creador fue el programador y hacker Justin Frankel, aunque actualmente existe un equipo de programadores dedicados al desarrollo de Wina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2771640" y="5013360"/>
            <a:ext cx="3029040" cy="16574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8280360" y="5994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¿Por qué winamp es popular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popular, entre otras cosas, por usar pocos recursos durante su ejecución, tener una interfaz de usuario sencilla y fácil de usar, además de ser una de las primeras aplicaciones para Windows en adoptar el concepto de carátulas o Skins, mediante las cuales es posible cambiar por completo la apariencia de la interfaz gráfica. A pesar de no haber sido la primera aplicación en utilizar este concepto, Winamp fue uno de sus mayores exponentes y gracias a su popularidad inicial, muchas otras aplicaciones comenzaron también a utilizar carátulas para sus interfaces. Actualmente, la mayoría de los reproductores multimedia para la plataforma Windows utilizan carátulas, incluyendo el reproductor de Microsoft, Windows Media Play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1476360" y="5872320"/>
            <a:ext cx="180036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LASIFICACIONES DE WINAMP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TULA CLASICA. EST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RATULA MODER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tra de las clasificaciones del winamp es la caratula mode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Que es un skin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 skin es un diseño especial de winamp que puede tratar del tema de nuestro gusto aquí tenemos unos ej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CERCA DE WINAM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inamp es capaz de reproducir video, vcd, es ligero y fácil de usar. Existen Plug-ins (que se descargan desde el sitio oficial) para convertir mp3 a wav, wav a mp3, wma a mp3, extraer audio de videos, teclas de método abreviado, visualizador de letras de canciones, visualizaciones, etc. También soporta las extensiones de DirectShow mediante las cuales puede soportar, por ejemplo: AVI y MPG para video o incluso Matroska con los filtros correspondientes (ej. Haali Media Splitter), por medio de esta opción también es posible reproducir Ogg Vorbis/Theora/FLAC/Speex usando los filtros illiminable oggcodecs, esto sin embargo desactiva el soporte nativo para Ogg Vorbis por lo que no están disponible las características como editar los tags y soporte de ReplayG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2268360" y="1413000"/>
            <a:ext cx="3205440" cy="30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I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407 -0.21716 C 0.28021 -0.1716 0.43334 -0.17576 0.41268 -0.08071 C 0.37032 0.11586 -0.01198 0.22687 -0.12986 0.27313 C -0.15746 0.26133 -0.18854 0.25902 -0.21267 0.23751 C -0.22083 0.23011 -0.22031 0.20814 -0.21388 0.19843 C -0.16718 0.12673 -0.1184 0.05527 -0.0592 0.003 C -0.00451 -0.04556 0.06355 -0.0599 0.12205 -0.09991 C 0.14601 -0.11656 0.06927 -0.08326 0.0448 -0.06823 C -0.02204 -0.0266 -0.08593 0.02313 -0.15121 0.06845 C -0.1625 0.18501 -0.15434 0.06568 0.07414 0.0333 C 0.16528 0.02012 0.2573 0.01919 0.34879 0.01179 C 0.2665 0.04024 0.18368 0.06568 0.10209 0.09713 C 0.00677 0.1339 -0.08871 0.1709 -0.18194 0.216 C -0.19913 0.22433 -0.24531 0.25393 -0.22725 0.25671 C -0.17326 0.26596 -0.11892 0.24098 -0.06458 0.23566 C 0.09584 0.21924 0.25625 0.20606 0.41667 0.19126 C 0.47552 0.19796 0.29601 0.21068 0.23941 0.18756 C 0.12726 0.14223 0.02778 0.0525 -0.07795 -0.0148 C -0.07569 -0.12072 -0.09305 -0.23081 -0.07118 -0.33256 C 0.04237 -0.8617 0.03993 -0.37558 0.04202 -0.33788 C 0.02778 -0.142 0.04011 0.06082 -0.00052 0.25 C -0.09965 0.71138 -0.0776 0.7234 -0.18055 0.63182 C -0.0375 0.47433 0.00417000000000001 0.43362 0.16077 0.22502 C 0.17171 0.21045 0.2 0.17507 0.18473 0.17183 C 0.10452 0.15379 0.02205 0.17414 -0.0592 0.17507 C -0.21128 0.21253 -0.36579 0.23473 -0.5151 0.28723 C -0.56319 0.30411 -0.61458 0.43247 -0.646 0.38113 C -0.68524 0.31753 -0.65573 0.18848 -0.6059 0.13992 C -0.53159 0.0673 -0.42448 0.09713 -0.33385 0.07585 C -0.40694 0.14177 -0.43819 0.18501 -0.54461 0.18594 C -0.57083 0.18594 -0.59149 0.15402 -0.61527 0.13806 C -0.62222 0.05319 -0.66302 -0.32886 -0.63125 -0.41628 C -0.61111 -0.47132 -0.54861 -0.47063 -0.50729 -0.49792 C -0.41388 -0.44403 -0.30382 -0.42553 -0.22725 -0.33626 C 0.03646 -0.02891 0.03993 0.14986 0.13004 0.54278 C -0.13159 0.55458 -0.3927 0.45536 -0.646 0.37928 C -0.57847 0.27821 -0.53454 0.13506 -0.44305 0.07585 C -0.06996 -0.16675 0.02275 -0.10407 0.34879 -0.0414 C 0.37934 0.03885 0.47743 0.22733 0.44341 0.34759 C 0.43594 0.37419 0.40157 0.35823 0.38073 0.36355 C 0.31355 0.34112 0.24132 0.33695 0.17934 0.29602 C 0.16598 0.28677 0.18403 0.25416 0.1941 0.23936 C 0.27466 0.12141 0.36077 0.00971 0.44879 -0.09829 C 0.4849 -0.14292 0.54167 -0.16073 0.56615 -0.21716 C 0.57726 -0.24283 0.52171 -0.21624 0.49948 -0.21531 C 0.02483 0.09251 0.4382 -0.20444 -0.14461 0.34944 C -0.19062 0.39315 -0.33593 0.50763 -0.29253 0.45953 C -0.21736 0.37604 -0.14618 0.28584 -0.06718 0.20906 C 0.03091 0.11378 0.13629 0.03261 0.23802 -0.05574 C 0.28681 -0.01573 0.30938 -0.00347 0.20608 0.14685 C 0.12066 0.27104 0.02448 0.39986 -0.09531 0.45421 C -0.23437 0.51688 -0.38854 0.47317 -0.53507 0.48265 C -0.57204 0.38668 -0.68055 0.29255 -0.646 0.19496 C -0.42465 -0.43062 -0.196 -0.2507 0.19011 -0.20467 C 0.38021 0.07239 0.49775 0.12257 0.43802 0.55874 C 0.42118 0.68201 0.34202 0.77451 0.2941 0.88228 C 0.07101 0.78469 -0.18854 0.77891 -0.37534 0.58927 C -0.48437 0.47872 -0.47118 -0.19172 -0.47378 -0.33788 C -0.43645 -0.3735 -0.40763 -0.43872 -0.36198 -0.4445 C 0.11424 -0.50578 0.10191 -0.37373 0.5007 -0.01318 C 0.54254 0.10546 0.65417 0.2167 0.62605 0.34227 C 0.60452 0.43825 0.48108 0.41859 0.40608 0.4098 C 0.02605 0.36448 -0.29375 0.17461 -0.646 0.003 C -0.56823 -0.12697 -0.53402 -0.34852 -0.41267 -0.38599 C 0.04445 -0.5266 0.06216 -0.25925 0.17535 0.08279 C 0.075 0.17646 -0.00625000000000001 0.32863 -0.12586 0.36355 C -0.29548 0.41281 -0.5118 0.46947 -0.646 0.32262 C -0.73246 0.22826 -0.64982 -0.02359 -0.55798 -0.10916 C -0.43125 -0.22711 -0.25121 -0.16119 -0.09791 -0.1871 C 0.04115 -0.13576 0.18351 -0.09737 0.31945 -0.03238 C 0.33351 -0.02567 0.35365 0.01503 0.33941 0.02081 C 0.25938 0.05342 0.17327 0.0481 0.09011 0.06175 C -0.08941 0.05758 -0.27118 0.0858 -0.44861 0.04926 C -0.52239 0.03399 -0.68211 -0.0044 -0.646 -0.09112 C -0.57847 -0.25324 -0.40156 -0.26873 -0.27934 -0.35754 C -0.29062 -0.07817 -0.26302 -0.071 -0.48333 0.18964 C -0.52639 0.24052 -0.59184 0.24052 -0.646 0.26596 C -0.63437 0.17345 -0.65139 0.06591 -0.61128 -0.0111 C -0.43906 -0.34181 -0.26388 -0.27405 0.00608 -0.30967 C 0.1198 -0.25139 0.24375 -0.22086 0.3474 -0.13576 C 0.38421 -0.10523 0.43073 -0.02868 0.40608 0.01896 C 0.36198 0.1043 0.2665 0.11008 0.19671 0.15587 C 0.01719 0.14223 -0.16614 0.16489 -0.34201 0.11494 C -0.45225 0.08325 -0.57847 0.03654 -0.646 -0.08395 C -0.68264 -0.14917 -0.63836 -0.28169 -0.58194 -0.31337 C -0.44288 -0.39131 -0.28142 -0.35338 -0.13125 -0.3735 C 0.01667 -0.31961 0.17796 -0.30967 0.31268 -0.21207 C 0.41754 -0.13576 0.51493 -0.01527 0.56216 0.1309 C 0.58247 0.19403 0.52917 0.28677 0.47934 0.30504 C 0.34827 0.35268 0.2073 0.30851 0.07136 0.31013 C -0.07343 0.24884 -0.22586 0.21253 -0.36319 0.12558 C -0.38593 0.11078 -0.38923 0.05504 -0.37656 0.0259 C -0.31944 -0.10453 -0.26198 -0.25139 -0.16458 -0.3291 C -0.05555 -0.41628 0.08351 -0.40264 0.20747 -0.43918 C 0.29896 -0.39131 0.40695 -0.37997 0.48212 -0.29533 C 0.60035 -0.16212 0.55157 0.06591 0.40608 0.11309 C 0.26615 0.15842 0.11806 0.12003 -0.02586 0.12373 C -0.121 0.10014 -0.22986 0.12234 -0.31128 0.0525 C -0.34357 0.02498 -0.31475 -0.06684 -0.28333 -0.09644 C -0.19062 -0.18409 -0.07343 -0.21254 0.03143 -0.27035 C 0.07709 -0.25879 0.61615 -0.26781 0.5408 0.10592 C 0.52014 0.20837 0.41094 0.22918 0.34601 0.2907 C 0.23542 0.28654 0.12431 0.29093 0.01407 0.27844 C -3.88888999999955E-006 0.27683 -0.02361 0.26688 -0.02187 0.24815 C -0.01701 0.19796 0.000869999999999999 0.14547 0.03004 0.11309 C 0.09306 0.04325 0.17327 0.00647 0.2448 -0.04695 C 0.29723 -0.02567 0.35851 -0.02729 0.40209 0.01734 C 0.41945 0.03492 0.41285 0.09251 0.39271 0.1043 C 0.32518 0.14431 0.24705 0.13621 0.17414 0.15217 C 0.03143 0.12974 -0.11215 0.11563 -0.25399 0.08487 C -0.29895 0.07493 -0.37465 0.09066 -0.38454 0.03145 C -0.39757 -0.04579 -0.35191 -0.14292 -0.29791 -0.17623 C -0.16562 -0.25786 -0.01163 -0.25 0.13143 -0.28677 C 0.19636 -0.25046 0.27066 -0.23589 0.32605 -0.17831 C 0.34688 -0.15657 0.35556 -0.09621 0.33542 -0.07331 C 0.2849 -0.01688 0.21181 -0.0118 0.15 0.01896 C 0.04462 0.01318 -0.06215 0.0259 -0.16597 0.00139 C -0.19861 -0.00648 -0.25746 -0.03307 -0.24722 -0.07516 C -0.22482 -0.16628 -0.1651 -0.25208 -0.09652 -0.28122 C 0.0349 -0.33719 0.179 -0.30366 0.31667 -0.31476 C 0.35139 -0.28515 0.40625 -0.27752 0.42066 -0.22595 C 0.43143 -0.18756 0.39948 -0.13529 0.37014 -0.12327 C 0.25573 -0.07563 0.13282 -0.07956 0.01407 -0.05736 C -0.11579 -0.08696 -0.24704 -0.10662 -0.37534 -0.14616 C -0.38593 -0.1494 -0.40225 -0.17692 -0.39253 -0.1834 C -0.31458 -0.23589 -0.22812 -0.26156 -0.146 -0.30088 C 0.01528 -0.25463 0.18334 -0.23844 0.33802 -0.16212 C 0.5658 -0.04996 0.37431 0.04695 0.29549 0.06337 C 0.1125 0.10083 -0.15243 0.10291 -0.3526 0.10754 C -0.14965 -0.1154 -0.05069 -0.04811 0.2007 -0.03955 C 0.19983 -0.01943 0.21112 0.01017 0.19809 0.02081 C -0.06753 0.23427 -0.12378 0.18177 -0.44722 0.21091 C -0.49687 0.20745 -0.56284 0.2493 -0.59635 0.20004 C -0.62604 0.1568 -0.60729 0.06337 -0.57239 0.02775 C -0.48784 -0.05851 -0.37448 -0.07655 -0.27534 -0.12835 C -0.15 -0.09783 -0.01753 -0.09945 0.1007 -0.03608 C 0.13559 -0.01735 0.17205 0.05828 0.15 0.09898 C 0.10417 0.18339 0.0132 0.20074 -0.0552 0.25162 C -0.20538 0.23427 -0.35763 0.23682 -0.5059 0.20004 C -0.55711 0.18756 -0.63264 0.17345 -0.646 0.10592 C -0.66493 0.01133 -0.64253 -0.12188 -0.58055 -0.17461 C -0.44566 -0.28885 -0.27204 -0.28585 -0.11788 -0.34158 C -0.04461 -0.33465 0.10712 -0.4179 0.10209 -0.32054 C 0.09671 -0.21323 -0.04531 -0.22757 -0.12465 -0.20837 C -0.26198 -0.17507 -0.40295 -0.17877 -0.54201 -0.16397 C -0.57656 -0.16952 -0.6585 -0.13668 -0.646 -0.17993 C -0.61718 -0.28053 -0.55052 -0.3772 -0.47257 -0.40541 C -0.30538 -0.4667 0.0474 -0.43386 0.0474 -0.43386 E">
                                      <p:cBhvr>
                                        <p:cTn id="98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5:32:27Z</dcterms:created>
  <dc:creator>Administrador</dc:creator>
  <dc:description/>
  <dc:language>en-US</dc:language>
  <cp:lastModifiedBy>Administrador</cp:lastModifiedBy>
  <dcterms:modified xsi:type="dcterms:W3CDTF">2007-03-18T15:59:01Z</dcterms:modified>
  <cp:revision>2</cp:revision>
  <dc:subject/>
  <dc:title>Diapositiva 1</dc:title>
</cp:coreProperties>
</file>