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A70B-169F-45A2-B2E6-F2737BF795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emplo de la euitt. Abrir con DreamWea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emplo de la euitt. Abrir con DreamWea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D7D-B24D-4395-86FB-5BC91E18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181-1017-4D35-84B9-F03BE789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2C0-C87B-476D-A896-3AC53AE8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2F7-2734-4954-A61F-6A1A0CB6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A1C6-0BEA-4D54-AA9F-8C30F1A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1986-84C9-4062-A419-0D8736C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9C5-ED44-4C50-A26F-3FF91297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3D97-E2DA-4617-9C4B-596AB82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12A1-7C99-482F-8F3B-2AA51DF9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1468-1C5D-45A2-BA00-8019126B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2D5-77CF-481A-94DD-378E84B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3EA-DE55-42D7-B42C-0A9A120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3C3-2274-4666-9250-33B59CC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745-83E9-4188-AFDC-BCD53722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695-1626-48AD-98A9-7F2CD56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5026-F24A-4A14-83FD-D36FFA50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D5E4-B99C-48EB-ACFF-0AE37681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6A2-1991-4E7D-85B5-9DEBC45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A47-A6FF-41DD-B4AB-F1A86FF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01E-4163-4DBB-A660-D3D04997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2EC-D07E-40A8-A65F-4B30EAD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7DF-0DBE-4FCA-BC9D-17E4530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9E3-9DD3-4D26-A9AB-F088EB2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317-856C-4C18-A59B-5450968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80E2-62BA-4C75-92CA-03D483F5E0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AF6E-72BE-4CB2-AEF2-D968A012C2B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euitt.upm.es/" TargetMode="External"/><Relationship Id="rId4" Type="http://schemas.openxmlformats.org/officeDocument/2006/relationships/hyperlink" Target="http://www.euitt.upm.es/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reamWeaver 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(curso de 6 hora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VÍNCUL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reación de vínculos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lace a un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t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_blank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n una ventana de navegador nueva y sin nomb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_parent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n el conjunto de marcos padre o en la ventana del marco que contiene el vínculo. Si el marco que contiene el vínculo no está anidado, el archivo vinculado se cargará en la ventana completa del naveg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_self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n el mismo marco o ventana que el vínculo. (predeterminad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_to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n la ventana completa del naveg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RCICIO: Hacer un índice para un documento con tres apar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858000" y="1371600"/>
            <a:ext cx="1400040" cy="752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391520" y="1295280"/>
            <a:ext cx="533160" cy="685800"/>
          </a:xfrm>
          <a:prstGeom prst="ellipse">
            <a:avLst/>
          </a:prstGeom>
          <a:noFill/>
          <a:ln w="57240">
            <a:solidFill>
              <a:srgbClr val="21f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400040" cy="752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10080" y="2057400"/>
            <a:ext cx="457200" cy="533520"/>
          </a:xfrm>
          <a:prstGeom prst="ellipse">
            <a:avLst/>
          </a:prstGeom>
          <a:noFill/>
          <a:ln w="57240">
            <a:solidFill>
              <a:srgbClr val="21f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MAGE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ertar una imagen es incluir una referencia a un fichero con la imagen: .gif, .jpeg, .p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lsar el botón     . Insertar&gt;Imagen. Ctrl+Alt+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piedades básicas de tamaño y vín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ición en la ventana. Alineamiento de texto a su alrede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lección de zonas (avanza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agen Origen Base: Imagen de inferior calidad que se carga antes en el naveg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581280" y="2438280"/>
          <a:ext cx="304920" cy="29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438280"/>
                    <a:ext cx="3049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MAGE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una imagen como víncu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zonas de la imagen como vínculo; dibujar la zona con las herramientas de zona inter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086600" y="3276720"/>
          <a:ext cx="9144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3276720"/>
                    <a:ext cx="914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M de SUSTIT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seleccionan dos imágenes y al pasar con el ratón una cambia de forma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ulsar     . Insetar&gt;Imágenes interactivas&gt;Imágenes de sustit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tilizar imágenes de la misma forma y tama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 ser la misma imagen y cambiar sólo un atributo: fuente, transparencia, som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plear color de transpa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81280" y="2514600"/>
          <a:ext cx="2905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514600"/>
                    <a:ext cx="290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TABL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piedades de tamaño y posición de cel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posible insertar tablas dentro de tab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ueden modificarse las propiedades de las cel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ila de encabez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idir y juntar cel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ignar imágenes de fo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ertar tablas desde arch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6324480" y="4724280"/>
            <a:ext cx="1352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TABL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rincipal función de las tablas es organizar los conten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sposición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mite dividir la página en zo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añadirse nuevas zonas o eliminar las existe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importante darse cuenta de que en el fondo sólo hay una tab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317760" y="3230640"/>
          <a:ext cx="25066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17760" y="3230640"/>
                    <a:ext cx="25066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BARRA DE NAVEG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seleccionan cuatro imágenes y al pasar con el ratón una cambia de forma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ul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otones pueden aparecer pul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añadir o eliminar opciones volver a Insertar Barra de Naveg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505320" y="2666880"/>
          <a:ext cx="304560" cy="2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666880"/>
                    <a:ext cx="30456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CAP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rven para incluir elementos flot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dice z de apil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desbordami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sibilidad de recortar un rectáng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JO: Fuertemente dependientes del naveg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 puede hacer (casi) lo mismo con tab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ara anidar: Edicion&gt; Preferencias&gt;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vertir Capas en Tablas siempre que se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05720" y="609480"/>
          <a:ext cx="1143000" cy="90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05720" y="609480"/>
                    <a:ext cx="11430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AR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miten estructurar vistas we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 fichero .html indica la distribu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da marco es otro fichero 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ciendo click en el borde del marco podemos cambiar la configu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ciendo Alt-click en el interior del marco podemos cambiar propie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ciendo click en el interior del marco podemos diseñar la página we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43000" y="380880"/>
          <a:ext cx="396252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80880"/>
                    <a:ext cx="39625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AR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laces entre mar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 hacerse que la página de destino aparezca en un f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inframe: Marco princip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ftframe: marco de la izquie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ottomframe: marco inf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gthframe: marco de la parte dere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TIOS WE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objetivo de Internet es difundir información que pueda ser accesible de forma remo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información aparece en sitios web a los que se accede con una dirección (ej </a:t>
            </a:r>
            <a:r>
              <a:rPr b="0" lang="es-ES_tradnl" sz="32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http://</a:t>
            </a:r>
            <a:r>
              <a:rPr b="0" lang="es-ES_tradnl" sz="32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www.euitt.upm.e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JERCICIO: Acceder a este sitio con el naveg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FORMULARI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rven para enviar d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nombre de los elementos es muy importante y puede ser un requisito del cl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etiquetas y Tex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botones de enviar y de limpi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casillas y botones de op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gru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038480" y="5991120"/>
            <a:ext cx="4381560" cy="866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486400" y="4191120"/>
            <a:ext cx="2133720" cy="19810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4114800"/>
            <a:ext cx="1295280" cy="19810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4648320"/>
            <a:ext cx="533520" cy="167616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5257800"/>
            <a:ext cx="2438280" cy="8380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5867280"/>
            <a:ext cx="228600" cy="30492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FORMULARI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menú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ñadir fiche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RCICIOS: Preparar un formulario para Comprar las entradas del fútb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343400" y="1676520"/>
            <a:ext cx="4381560" cy="86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733920" y="1600200"/>
            <a:ext cx="2895480" cy="380880"/>
          </a:xfrm>
          <a:prstGeom prst="line">
            <a:avLst/>
          </a:prstGeom>
          <a:ln w="381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14800" y="2133720"/>
            <a:ext cx="3276720" cy="304560"/>
          </a:xfrm>
          <a:prstGeom prst="line">
            <a:avLst/>
          </a:prstGeom>
          <a:ln w="381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HEA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ta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e información sobre la página ac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ves de búsqueda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pleadas por los robot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motores de búsqued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ambién se emplea en las búsque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ualiza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 que el navegador debe actualizar la página después de un periodo de tiempo determin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685800"/>
          <a:ext cx="19051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685800"/>
                    <a:ext cx="19051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 flipV="1">
            <a:off x="1981080" y="914040"/>
            <a:ext cx="3962520" cy="10666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800600" y="914040"/>
            <a:ext cx="1447920" cy="205740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276720" y="990360"/>
            <a:ext cx="3276360" cy="297180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895480" y="990720"/>
            <a:ext cx="3962520" cy="40384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HEA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 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e la URL base que sirva de referencia a todas las rutas de la página relativas al docu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ínculo 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 un vínculo empleado para especificar una hoja de estilos exter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867280" y="685800"/>
          <a:ext cx="190512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685800"/>
                    <a:ext cx="19051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 flipV="1">
            <a:off x="2057400" y="914040"/>
            <a:ext cx="5105520" cy="106668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14600" y="990360"/>
            <a:ext cx="5029200" cy="2361960"/>
          </a:xfrm>
          <a:prstGeom prst="line">
            <a:avLst/>
          </a:prstGeom>
          <a:ln w="9360">
            <a:solidFill>
              <a:srgbClr val="21f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TEXTO Y CARACTER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escribir en Negrita, Cursiva, con texto predeterminado, emplear la hoja de estilos, encabezados,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utilizar caracteres especiales como salto de línea, espacios en blanco,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460600" y="3241800"/>
          <a:ext cx="42213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0600" y="3241800"/>
                    <a:ext cx="4221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657600" y="5029200"/>
          <a:ext cx="39243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029200"/>
                    <a:ext cx="3924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ED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introducir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animaciones fl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otones flas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texto flas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predetermin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variar las propiedades de éstos y establecer víncu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86200" y="4572000"/>
          <a:ext cx="2590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4572000"/>
                    <a:ext cx="2590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H="1">
            <a:off x="4114440" y="2057400"/>
            <a:ext cx="76212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343040" y="2590920"/>
            <a:ext cx="68580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47960" y="2666880"/>
            <a:ext cx="144756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PLANTILL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hacen plantillas para disponer de documentos donde sólo se puedan modificar determinadas par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ar plantilla. Insertar Planti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utilizarla: Nuevo &gt; Plant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352680" y="4648320"/>
          <a:ext cx="281952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4648320"/>
                    <a:ext cx="28195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ESTILOS C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mite modificar atributos de un rango de texto determi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tana&gt;Dis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evo Estilo. Modificar etiqueta o nuevo estilo. Guar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pués aplicar. Puede edita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STILOS HTM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nel Diseño&gt; Estilos HT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crear diferentes estilos para el texto seleccionado o el párra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cogemos las distintas opciones del cuadro de di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410080" y="3782880"/>
          <a:ext cx="2538360" cy="26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3782880"/>
                    <a:ext cx="25383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MPORTAMIEN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n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&gt;Comporta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mos añadir o eliminar comportami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cciones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ar propiedad, validar formulario, carga previa de imágenes, mensaje emergente,Mostrar-Ocultar capas, etc. Pulsar al + para añadir una 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ventos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coge la acción que provoca el comportamiento definido. Pulsar la patilla que aparezca entre el evento y la 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TIOS WE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 información se almacena en ficheros: .html (texto e imagen), .gif, .jpeg (imágenes) y otros (.doc, .pdf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ttp:://www.euitt.upm.es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ttp:://www.euitt.upm.es/laeuitt/situacio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ttp:://www.euitt.upm.es/gifs/plano_situacion.g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RCICIO: Abrir el sitio con MD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entana&gt; Si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 empezar a hacer un trabajo debemos abrir un siti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VER (opción de menú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gletas, cuadrículas e imagen patr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tas de código o docu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dificar &gt; Alinear y Organ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95280" y="2819520"/>
          <a:ext cx="4724640" cy="223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819520"/>
                    <a:ext cx="472464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PLIC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s de dato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tenemos que crear una conexión con la base de datos a empl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r si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r tipo de documento (ASP, PHP, JS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r el servidor remoto con el que vamos a tra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r la conexión con la base de datos, pulsar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PLIC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inculacion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rven para utilizar datos diná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necesita realizar tres de los pasos anteriores (definir sitio, tipo de documento y servidor de prueb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lsando + podemos crear un juego de registros y podremos vincular los campos de la base de datos a nuestra página, pulsando el botón Insertar, Vincular y seleccionando el campo en cu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demos crear variables de petición, de sesión y de aplic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PLIC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mportamientos del servido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aden los comportamientos necesarios para trabajar con la base de datos a la que nos conecta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vez definido el juego de registros, podemos insertar los valores de los formularios en la base 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strar los campos de la base de datos en la página, Repetir región, Autentificación de usuario,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43000" y="4800600"/>
          <a:ext cx="2819520" cy="195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800600"/>
                    <a:ext cx="28195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TIOS WE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a crear un sitio definimos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tos lo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l sit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carpeta raíz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tos remoto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mos el modo de acceso a estos datos y donde se encuent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rvidor de prueba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troducimos el tipo de servidor y el modo de ac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dos últimos campos no siempre son neces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AGINAS WE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páginas web permiten componer la información que se quiere distribu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luyen texto+imágenes+otros (vídeo, audio, animaciones, etc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luye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enlace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para poder nave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JERCICIO: Análisis de página web. Identificación de ele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AGINAS WE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página web está escrita en 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trata de un lenguaje que se apoya en text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da elemento de una página web tiene su correspondiente etiqueta en el fichero .html correspondie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315200" y="4191120"/>
            <a:ext cx="1571760" cy="1895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162920" y="4419720"/>
            <a:ext cx="1447560" cy="838080"/>
          </a:xfrm>
          <a:prstGeom prst="ellipse">
            <a:avLst/>
          </a:prstGeom>
          <a:noFill/>
          <a:ln w="5724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876920"/>
            <a:ext cx="6705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JERCICIO: Analizar una página en MDW. Modificar elementos y ver el ef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 TEX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escribirse directamente en el editor y después darle un form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urier New"/>
              </a:rPr>
              <a:t>Ventana&gt;Prop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ar el estilo: fuente, color, cursiv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mbiar el formato: encabezados, normal, párrafo y forma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RCICIO: Escribir una página web con unos cuantos apartados combinando esti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ENCIÓN: NO SE TRATA DE UN TAPÍZ¡¡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4038480"/>
            <a:ext cx="7467480" cy="83844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A PÁGI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urier New"/>
              </a:rPr>
              <a:t>Botón derecho&gt; Propiedades de la p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mágene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lores y már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jercicio: Hacer un patrón de fondo e inclui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reación de líneas horizon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219320" y="4343400"/>
            <a:ext cx="6400800" cy="1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7238880" y="5181480"/>
            <a:ext cx="952560" cy="80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91520" y="4952880"/>
            <a:ext cx="457200" cy="1067040"/>
          </a:xfrm>
          <a:prstGeom prst="ellipse">
            <a:avLst/>
          </a:prstGeom>
          <a:noFill/>
          <a:ln w="57240">
            <a:solidFill>
              <a:srgbClr val="21f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VÍNCUL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leccionar el texto y escribir en la opción Vínculo de la ventana de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r el desti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rastrar el archivo desti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scar el arch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con el bot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867280" y="5105520"/>
            <a:ext cx="1400400" cy="75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1320" y="4876920"/>
            <a:ext cx="685800" cy="838080"/>
          </a:xfrm>
          <a:prstGeom prst="ellipse">
            <a:avLst/>
          </a:prstGeom>
          <a:noFill/>
          <a:ln w="57240">
            <a:solidFill>
              <a:srgbClr val="21f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943600" y="4267080"/>
          <a:ext cx="279360" cy="29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267080"/>
                    <a:ext cx="2793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19720" y="4876920"/>
          <a:ext cx="31248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4876920"/>
                    <a:ext cx="31248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57600" y="3352680"/>
          <a:ext cx="4419720" cy="22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3352680"/>
                    <a:ext cx="4419720" cy="2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3:50:04Z</dcterms:created>
  <dc:creator>a</dc:creator>
  <dc:description/>
  <dc:language>en-US</dc:language>
  <cp:lastModifiedBy>Ivans</cp:lastModifiedBy>
  <dcterms:modified xsi:type="dcterms:W3CDTF">2007-03-28T03:43:17Z</dcterms:modified>
  <cp:revision>43</cp:revision>
  <dc:subject/>
  <dc:title>DreamWeaver  (curso de 6 horas)</dc:title>
</cp:coreProperties>
</file>