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F70-D1DF-455D-ACBF-B374FF1B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BAF-B566-40CD-BA3A-7E6AB666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338-B8F3-48E8-9234-F744F400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270-CE5B-4348-8541-125CC4BC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8F8-4127-4F1F-945C-CB1B30F9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2B5-A340-4AEF-A623-75B33E7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795-C29E-446B-911C-84BA6561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22B-4CBE-4E49-B6D1-DDF2C8C9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3D6-3120-42C4-B527-132F8697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5E3-A765-44FD-B7A7-E1BADFB7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04F-CB6F-41BF-AD99-71CBF21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5C3-472E-4CB1-88C8-30A6B34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fff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D8F3-C6B9-457F-91A7-B8394DB90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4572000" cy="2514600"/>
          </a:xfrm>
          <a:prstGeom prst="rect">
            <a:avLst/>
          </a:prstGeom>
          <a:solidFill>
            <a:srgbClr val="fff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mstadt Cycling Club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oad, Mountain, Cyclocross and just plain Cycling Club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to all cyclists, any age, any skill level - no d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/daily training rides, group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 training and improvement; coaching and spin instruction comi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ition - road, track, mountain bike, triathlon, duathlon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cycling event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meeting/ride T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ngelfire.com/planet/bikejag/DC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 - CPT Bill Whitman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 0-6151-396-8060, Handy 0160-518-69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: william.whitman@us.army.m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903320" cy="243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29400" y="168120"/>
            <a:ext cx="2514600" cy="234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91520" y="26668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152280" y="5398920"/>
            <a:ext cx="16002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2:09:52Z</dcterms:created>
  <dc:creator>whitmanws</dc:creator>
  <dc:description/>
  <dc:language>en-US</dc:language>
  <cp:lastModifiedBy>william.whitman</cp:lastModifiedBy>
  <dcterms:modified xsi:type="dcterms:W3CDTF">2006-07-07T12:53:37Z</dcterms:modified>
  <cp:revision>7</cp:revision>
  <dc:subject/>
  <dc:title>No Slide Title</dc:title>
</cp:coreProperties>
</file>