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0E1-6456-48C5-A939-BD9ABBB7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A00-CD8A-4178-BD9B-44756229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3BD-11FD-4898-A363-0C38780A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6258-7C7A-460E-B787-4A7D44BC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161D-FE0A-4CF1-AC1C-F921CE31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A9F6-BEA1-449F-8749-EC69D4F1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CA7B-6655-455B-AE77-2D45D5A8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07A9-9478-45A6-8D57-D7D52ACF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F4A8-BB61-4B83-8A9D-B3CFCCB4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72C8-5F85-425D-A6DA-1DC8B097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B8BA-0435-457C-93BB-04D09701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E528-5E1F-4560-878B-78968319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6C97-0EEC-430E-808E-433FE66E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DC0B-D5E4-41D4-BE3D-B00FECCD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63D6-E316-4F54-9DE8-F79F5535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F021-0EF6-451A-9C4E-92CA6344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EA60-92E6-4B3B-ADD0-7567F5D0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8C9-20D3-4D32-88B6-71314F1D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C80C-DBA8-49FA-AA3F-A1BD75C7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ADAA-F62C-4D12-BB27-52071686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EB79-8CC8-4238-9618-8CE7B6A5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C3D-84C1-4DF8-A894-6F740BAA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6FE-2517-4D50-B68F-C85B5C66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33A-315F-4E3A-8666-41853A5C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EE19-19B5-478B-BAC6-06B791FC58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EDB3-F2A9-4E0C-8DF3-B913FE01DE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angelfire.com/pe/lagarto/EE300/feixe_em.mpg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cc66"/>
                </a:solidFill>
                <a:latin typeface="Times New Roman"/>
              </a:rPr>
              <a:t>A quantização da radiação, </a:t>
            </a:r>
            <a:br>
              <a:rPr sz="4000"/>
            </a:br>
            <a:r>
              <a:rPr b="0" i="1" lang="pt-BR" sz="4000" spc="-1" strike="noStrike">
                <a:solidFill>
                  <a:srgbClr val="ffcc66"/>
                </a:solidFill>
                <a:latin typeface="Times New Roman"/>
              </a:rPr>
              <a:t>carga elétrica e da energia </a:t>
            </a:r>
            <a:br>
              <a:rPr sz="4000"/>
            </a:br>
            <a:r>
              <a:rPr b="0" i="1" lang="pt-BR" sz="4000" spc="-1" strike="noStrike">
                <a:solidFill>
                  <a:srgbClr val="ffcc66"/>
                </a:solidFill>
                <a:latin typeface="Times New Roman"/>
              </a:rPr>
              <a:t>(I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743200" y="5181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Prof. Dr. Vitor Baranausk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MSc. José C. Rojas Q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6324480"/>
            <a:ext cx="373356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FEEC- UNICAM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5" name="gaiola_faraday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2133720"/>
            <a:ext cx="3567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Referênci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cc66"/>
                </a:solidFill>
                <a:latin typeface="Times New Roman"/>
              </a:rPr>
              <a:t>Uma vida eletrizant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http://revistagalileu.globo.com/Galileu/0,6993,ECT740654-2680,00.htm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cc66"/>
                </a:solidFill>
                <a:latin typeface="Times New Roman"/>
              </a:rPr>
              <a:t>Video do feixe de eletrons </a:t>
            </a: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http://bednorzmuller87.phys.cmu.edu/demonstrations/electricityandmagnetism/magneticfields/demo6306.htm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200" spc="-1" strike="noStrike">
                <a:solidFill>
                  <a:srgbClr val="ffcc66"/>
                </a:solidFill>
                <a:latin typeface="Times New Roman"/>
              </a:rPr>
              <a:t>Uma vida eletrizante </a:t>
            </a:r>
            <a:r>
              <a:rPr b="0" lang="pt-BR" sz="4200" spc="-1" strike="noStrike">
                <a:solidFill>
                  <a:srgbClr val="ffcc66"/>
                </a:solidFill>
                <a:latin typeface="Times New Roman"/>
              </a:rPr>
              <a:t>(1791-1867)</a:t>
            </a:r>
            <a:endParaRPr b="0" i="1" lang="en-US" sz="4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048120"/>
            <a:ext cx="6629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Originário de uma família humilde,</a:t>
            </a: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terceiro filho de um ferreiro de Newington, subúrbio de Londr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Com apenas treze anos foi obrigado abandonar os estudos e aos 14 anos trabalhava de aprendiz de encadernação. Tarefa que praticava com rara perfeiçã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Ele dizia o quanto se deliciava com as leituras de livros do tipo:  Conversações de Química de Marcet e as teorias sobre eletricidade encontradas na enciclopédia britânic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Viajou durante dois anos como assistente e criado de quarto conhecendo a Europa mediterrânea, entrando em contato com personalidades tipo: Volta, Ampère, etc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Descobriu o método de liquefação de gases por pressurização e resfriamento. Outra foi a descoberta do benzen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Explicou o que acontece dentro de uma </a:t>
            </a:r>
            <a:r>
              <a:rPr b="0" lang="pt-BR" sz="2000" spc="-1" strike="noStrike">
                <a:solidFill>
                  <a:srgbClr val="66ff33"/>
                </a:solidFill>
                <a:latin typeface="Times New Roman"/>
              </a:rPr>
              <a:t>gaiola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(ou carro) quando esse é alcançado por um ra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200" spc="-1" strike="noStrike">
                <a:solidFill>
                  <a:srgbClr val="ffcc66"/>
                </a:solidFill>
                <a:latin typeface="Times New Roman"/>
              </a:rPr>
              <a:t>Uma vida eletrizante </a:t>
            </a:r>
            <a:r>
              <a:rPr b="0" lang="pt-BR" sz="4200" spc="-1" strike="noStrike">
                <a:solidFill>
                  <a:srgbClr val="ffcc66"/>
                </a:solidFill>
                <a:latin typeface="Times New Roman"/>
              </a:rPr>
              <a:t>(1791-1867)</a:t>
            </a:r>
            <a:endParaRPr b="0" i="1" lang="en-US" sz="4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209680"/>
            <a:ext cx="4038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2895480"/>
            <a:ext cx="4572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Nascido e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22 de setembro de 1791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e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Newington, Surrey, ao sul de Londres, Inglaterra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Morreu e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25 de agosto 1867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e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Hampton Court, Surrey, Londres, Inglater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523880"/>
            <a:ext cx="4419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200" spc="-1" strike="noStrike">
                <a:solidFill>
                  <a:srgbClr val="ffcc66"/>
                </a:solidFill>
                <a:latin typeface="Times New Roman"/>
              </a:rPr>
              <a:t>Feliz Aniversario!!</a:t>
            </a:r>
            <a:br>
              <a:rPr sz="4200"/>
            </a:br>
            <a:r>
              <a:rPr b="0" i="1" lang="pt-BR" sz="4200" spc="-1" strike="noStrike">
                <a:solidFill>
                  <a:srgbClr val="ffcc66"/>
                </a:solidFill>
                <a:latin typeface="Times New Roman"/>
              </a:rPr>
              <a:t> Michael Faraday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308240" y="3124080"/>
          <a:ext cx="221904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8240" y="3124080"/>
                    <a:ext cx="221904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Primerias estimativas de </a:t>
            </a:r>
            <a:r>
              <a:rPr b="0" i="1" lang="pt-BR" sz="4400" spc="-1" strike="noStrike">
                <a:solidFill>
                  <a:srgbClr val="66ff33"/>
                </a:solidFill>
                <a:latin typeface="Times New Roman"/>
              </a:rPr>
              <a:t>e </a:t>
            </a: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e </a:t>
            </a:r>
            <a:r>
              <a:rPr b="0" i="1" lang="pt-BR" sz="4400" spc="-1" strike="noStrike">
                <a:solidFill>
                  <a:srgbClr val="66ff33"/>
                </a:solidFill>
                <a:latin typeface="Times New Roman"/>
              </a:rPr>
              <a:t>e/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0769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A lei de Faraday foi umas das primeiras estimativas da ordem de grandeza das cargas elétricas encontradas em átomo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(F = 96 500 C descompõe  1 peso grama iônico). Ex. 96 500 C passam através de uma solução de NaCl, 23 g de Na aparecem no catodo e 33,5 g de Cl aparecem no anod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505320" y="3886200"/>
          <a:ext cx="211140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886200"/>
                    <a:ext cx="21114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685800" y="3276720"/>
            <a:ext cx="7924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Como um peso grama iônico é igual ao peso de N</a:t>
            </a:r>
            <a:r>
              <a:rPr b="0" lang="pt-BR" sz="24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de í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800600"/>
            <a:ext cx="838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P. Zeeman calculou por primeira vez, com seu experimento de átomos colocados em campo magnético intenso, a razão e/m e também concluiu que as partículas oscilantes eram carregadas negativamente (polarização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Raios Catódic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Em 1869, o físico alemão Johann Hittorf mostrou que os raios que emanam do catodo (raios catódicos), dentro de um tubo de vidro com ar rarefeito, se deslocam segundo linhas ret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Em torno de 1879, o inglês William Crookes, com ampolas de vácuo aperfeiçoadas (os chamados tubos de Crookes), estuda mais detidamente os raios catódico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Seguem-se vários anos de experimentos e discussões sobre o que seriam os raios catódicos (partículas carregadas ou ondas do tipo das eletromagnéticas), com trabalhos importantes de Hertz, Schuster, Goldstein, Stoney, Wiedemann, Lenard, Perrin e Wiecher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Joseph John Thomson</a:t>
            </a:r>
            <a:r>
              <a:rPr b="0" i="1" lang="pt-BR" sz="4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e </a:t>
            </a:r>
            <a:r>
              <a:rPr b="0" i="1" lang="pt-BR" sz="4400" spc="-1" strike="noStrike">
                <a:solidFill>
                  <a:srgbClr val="66ff33"/>
                </a:solidFill>
                <a:latin typeface="Times New Roman"/>
              </a:rPr>
              <a:t>e/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Entre 1897 e 1899, o físico J.J. Thomson faz várias medidas com os tubos de crookes e conclui que os raios catódicos são constituídos por partículas carregadas negativament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Usando campos elétricos e magnéticos defletores, mediu a razão carga-massa desses corpúsculos; concluiu que a massa deles é muito menor que a do átomo de hidrogênio e propôs que eles são constituintes últimos presentes em toda matéri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4038480" cy="2352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4267080"/>
            <a:ext cx="4572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Voltagem 10 000 V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Gas a baixa pressão aprox. 0,001 mmH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Joseph John Thomson</a:t>
            </a:r>
            <a:r>
              <a:rPr b="0" i="1" lang="pt-BR" sz="4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e </a:t>
            </a:r>
            <a:r>
              <a:rPr b="0" i="1" lang="pt-BR" sz="4400" spc="-1" strike="noStrike">
                <a:solidFill>
                  <a:srgbClr val="66ff33"/>
                </a:solidFill>
                <a:latin typeface="Times New Roman"/>
              </a:rPr>
              <a:t>e/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Quando um campo magnético de intensidade B age perpendicularmente à trajetória original, as partículas se movem segundo uma trajetória circula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O radio desta pode ser obtido a partir da segunda lei de Newton, igualando o módulo de força magnética ao produto da massa pela aceleraçã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733920" y="3505320"/>
                <a:ext cx="16002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vB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609480" y="44197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Em um segundo método, ele ajustou campos perpendiculares B e E de forma que as partículas não fossem desviadas. Assim a velocidade ficou determinada por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429000" y="5791320"/>
                <a:ext cx="22860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v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Joseph John Thomson</a:t>
            </a:r>
            <a:r>
              <a:rPr b="0" i="1" lang="pt-BR" sz="4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e </a:t>
            </a:r>
            <a:r>
              <a:rPr b="0" i="1" lang="pt-BR" sz="4400" spc="-1" strike="noStrike">
                <a:solidFill>
                  <a:srgbClr val="66ff33"/>
                </a:solidFill>
                <a:latin typeface="Times New Roman"/>
              </a:rPr>
              <a:t>e/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Desliga então o campo B e media a deflexão das partículas na tela. Esta deflexão é constituída de duas partes. Enquanto as partículas estão entre as placas, elas sofrem uma deflexão vertical y</a:t>
            </a:r>
            <a:r>
              <a:rPr b="0" lang="pt-BR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3352680"/>
            <a:ext cx="8001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Onde x</a:t>
            </a:r>
            <a:r>
              <a:rPr b="0" lang="pt-BR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é a distância horizontal percorrida. Depois que as partículas deixam a região entre as placas, elas sofrem outra deflexã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932200" y="2362320"/>
                <a:ext cx="3087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511280" y="4508640"/>
                <a:ext cx="61596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09480" y="5638680"/>
            <a:ext cx="815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A deflexão total y</a:t>
            </a:r>
            <a:r>
              <a:rPr b="0" lang="pt-BR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+y</a:t>
            </a:r>
            <a:r>
              <a:rPr b="0" lang="pt-BR" sz="2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é proporcional a e/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2 x10</a:t>
            </a:r>
            <a:r>
              <a:rPr b="0" lang="pt-BR" sz="2400" spc="-1" strike="noStrike" baseline="30000">
                <a:solidFill>
                  <a:srgbClr val="ffffcc"/>
                </a:solidFill>
                <a:latin typeface="Times New Roman"/>
              </a:rPr>
              <a:t>11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C/Kg, valor próximo do atual: 1,76 x10</a:t>
            </a:r>
            <a:r>
              <a:rPr b="0" lang="pt-BR" sz="2400" spc="-1" strike="noStrike" baseline="30000">
                <a:solidFill>
                  <a:srgbClr val="ffffcc"/>
                </a:solidFill>
                <a:latin typeface="Times New Roman"/>
              </a:rPr>
              <a:t>11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C/K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Experimento de Thoms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29000" y="35812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3808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V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02:42:50Z</dcterms:created>
  <dc:creator>JOSE CIRO ROJAS QUISPE</dc:creator>
  <dc:description/>
  <dc:language>en-US</dc:language>
  <cp:lastModifiedBy>DSIF</cp:lastModifiedBy>
  <dcterms:modified xsi:type="dcterms:W3CDTF">2004-09-23T16:36:41Z</dcterms:modified>
  <cp:revision>74</cp:revision>
  <dc:subject/>
  <dc:title>Introdução à teoria da relatividade restrita</dc:title>
</cp:coreProperties>
</file>