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1A4-EB49-420B-8D6E-276E8AB2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162D-FDDA-47F7-BEE2-0C0DE94F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9FA8-8314-489C-BDCE-50BCF6DD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1A84-3788-44BD-B232-EBB19495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7862-42C3-42E9-9107-0F6573F6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0F5D-9D14-47DA-80EC-C91689E1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FEB2-A5B1-418B-B4CC-16C22788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27FE-17DA-4416-A41F-9A825BDD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E48F-C40E-45F7-8F9D-B5E7E8F8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FDC8-08C8-4822-89AB-501BE13B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8052-E9F4-43DD-B950-D01513A6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11D6-FA81-4FA7-B314-829907C2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F0D1-3EC8-4A1D-A55C-F3008E92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A07F-C6AB-416B-9FE3-36C93ED9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E956-A67C-4914-BC92-BE1FF2D6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5DC3-880E-46B1-8DA5-06E5705E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1C62-2BC6-427D-AE96-EED647DA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913B-4DFA-4340-A2FA-C16DF687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E12A-702B-4E59-905F-4DC8060A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EF15-85AF-4E68-BDE1-E3395956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EEF6-62B2-40C3-8927-28795DE2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FD1E-64D5-4E9F-B3D0-9E8E9074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45B2-4703-4626-9E82-1458CADA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3976-47ED-43BB-8405-70401256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6BF8-F2AA-4484-B45F-686A8B24D5F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0B32-55B6-4DFA-BF09-D6FA66AF179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ffcc66"/>
                </a:solidFill>
                <a:latin typeface="Times New Roman"/>
              </a:rPr>
              <a:t>A teoria Cinética </a:t>
            </a:r>
            <a:br>
              <a:rPr sz="4800"/>
            </a:br>
            <a:r>
              <a:rPr b="0" i="1" lang="pt-BR" sz="4800" spc="-1" strike="noStrike">
                <a:solidFill>
                  <a:srgbClr val="ffcc66"/>
                </a:solidFill>
                <a:latin typeface="Times New Roman"/>
              </a:rPr>
              <a:t>da Materia (IV)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743200" y="5181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Prof. Dr. Vitor Baranausk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MSc. José C. Rojas Q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6324480"/>
            <a:ext cx="373356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FEEC- UNICAM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380988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cc66"/>
                </a:solidFill>
                <a:latin typeface="Times New Roman"/>
              </a:rPr>
              <a:t>Exercício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9933"/>
                </a:solidFill>
                <a:latin typeface="TimesNewRoman,BoldItalic;TimesN"/>
              </a:rPr>
              <a:t>	</a:t>
            </a:r>
            <a:r>
              <a:rPr b="0" i="1" lang="pt-BR" sz="2200" spc="-1" strike="noStrike">
                <a:solidFill>
                  <a:srgbClr val="ffffff"/>
                </a:solidFill>
                <a:latin typeface="TimesNewRoman,BoldItalic;TimesN"/>
              </a:rPr>
              <a:t>Apresente, justificando-as, as hipóteses que se fazem, na teoria cinética, acerca das moléculas de um gás no modelo do gás ideal. Diga como se interpreta a pressão exercida pelo gás e qual o significado que se atribui à temperatura absoluta do gás nesta teoria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2743200"/>
            <a:ext cx="8381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TimesNewRoman"/>
              </a:rPr>
              <a:t>Porque as distâncias médias entre as moléculas são muito grandes quando comparadas com as dimensões das próprias moléculas admite-se que as </a:t>
            </a:r>
            <a:r>
              <a:rPr b="0" lang="pt-BR" sz="2200" spc="-1" strike="noStrike">
                <a:solidFill>
                  <a:srgbClr val="ff9933"/>
                </a:solidFill>
                <a:latin typeface="TimesNewRoman"/>
              </a:rPr>
              <a:t>moléculas não ocupam volume</a:t>
            </a:r>
            <a:r>
              <a:rPr b="0" lang="pt-BR" sz="2200" spc="-1" strike="noStrike">
                <a:solidFill>
                  <a:srgbClr val="ffffcc"/>
                </a:solidFill>
                <a:latin typeface="TimesNewRoman"/>
              </a:rPr>
              <a:t>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TimesNewRoman"/>
              </a:rPr>
              <a:t>Pelo mesmo motivo (distâncias médias entre moléculas muito grandes) assume-se que as moléculas </a:t>
            </a:r>
            <a:r>
              <a:rPr b="0" lang="pt-BR" sz="2200" spc="-1" strike="noStrike">
                <a:solidFill>
                  <a:srgbClr val="ff9933"/>
                </a:solidFill>
                <a:latin typeface="TimesNewRoman"/>
              </a:rPr>
              <a:t>não exercem forças de atração</a:t>
            </a:r>
            <a:r>
              <a:rPr b="0" lang="pt-BR" sz="2200" spc="-1" strike="noStrike">
                <a:solidFill>
                  <a:srgbClr val="ffffcc"/>
                </a:solidFill>
                <a:latin typeface="TimesNewRoman"/>
              </a:rPr>
              <a:t> (ou repulsão) umas sobre as outras. Só interagem quando chocam entre si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Times New Roman"/>
              </a:rPr>
              <a:t>Admite-se que os choques entre moléculas e contra as paredes dos reservatórios que contêm os gases, são perfeitamente elásticos;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cc66"/>
                </a:solidFill>
                <a:latin typeface="Times New Roman"/>
              </a:rPr>
              <a:t>Exercício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2286000"/>
            <a:ext cx="8001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66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TimesNewRoman"/>
              </a:rPr>
              <a:t>Assume-se que as moléculas se movem incessantemente e que os seus movimentos são completamente aleatórios, isto é, todas as direções de</a:t>
            </a:r>
            <a:r>
              <a:rPr b="0" lang="pt-BR" sz="2200" spc="-1" strike="noStrike">
                <a:solidFill>
                  <a:srgbClr val="ffffcc"/>
                </a:solidFill>
                <a:latin typeface="TimesNewRoman"/>
              </a:rPr>
              <a:t>	</a:t>
            </a:r>
            <a:r>
              <a:rPr b="0" lang="pt-BR" sz="2200" spc="-1" strike="noStrike">
                <a:solidFill>
                  <a:srgbClr val="ffffcc"/>
                </a:solidFill>
                <a:latin typeface="TimesNewRoman"/>
              </a:rPr>
              <a:t>movimento têm a mesma probabilidade de ocorrerem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66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TimesNewRoman"/>
              </a:rPr>
              <a:t>Admite-se que podem aplicar-se ao movimento das moléculas as leis de Newton (da Mecânica Clássica)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cc66"/>
                </a:solidFill>
                <a:latin typeface="Times New Roman"/>
              </a:rPr>
              <a:t>Exercício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22860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cc66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TimesNewRoman"/>
              </a:rPr>
              <a:t>A teoria cinética interpreta a pressão exercida pelos gases sobre as paredes dos reservatórios onde estão encerrados, como sendo o resultado das forças exercidas nas referidas paredes, por unidade de área, pelas moléculas quando com elas chocam.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cc66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TimesNewRoman"/>
              </a:rPr>
              <a:t>Segundo a mesma teoria a temperatura absoluta de um gás é diretamente proporcional ao valor médio da energia cinética de translação das suas moléculas, isto é, pode considerar-se que a referida temperatura é uma medida da energia cinética média de translação das moléculas do gás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9933"/>
                </a:solidFill>
                <a:latin typeface="TimesNewRoman,BoldItalic;TimesN"/>
              </a:rPr>
              <a:t>	</a:t>
            </a:r>
            <a:r>
              <a:rPr b="0" i="1" lang="pt-BR" sz="2200" spc="-1" strike="noStrike">
                <a:solidFill>
                  <a:srgbClr val="ffffff"/>
                </a:solidFill>
                <a:latin typeface="TimesNewRoman,BoldItalic;TimesN"/>
              </a:rPr>
              <a:t>Interpretação d a pressão exercida pelo gás e qual o significado que se atribui à temperatura absoluta do gás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cc66"/>
                </a:solidFill>
                <a:latin typeface="Times New Roman"/>
              </a:rPr>
              <a:t>Exercício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9933"/>
                </a:solidFill>
                <a:latin typeface="TimesNewRoman,BoldItalic;TimesN"/>
              </a:rPr>
              <a:t>	</a:t>
            </a:r>
            <a:r>
              <a:rPr b="0" i="1" lang="pt-BR" sz="2000" spc="-1" strike="noStrike">
                <a:solidFill>
                  <a:srgbClr val="ffffff"/>
                </a:solidFill>
                <a:latin typeface="TimesNewRoman,Italic"/>
              </a:rPr>
              <a:t>Um dado gás à temperatura ambiente e pressão de 100 kPa tem uma massa volúmica de cerca de 1,29 kg m</a:t>
            </a:r>
            <a:r>
              <a:rPr b="0" i="1" lang="pt-BR" sz="2000" spc="-1" strike="noStrike" baseline="30000">
                <a:solidFill>
                  <a:srgbClr val="ffffff"/>
                </a:solidFill>
                <a:latin typeface="TimesNewRoman,Italic"/>
              </a:rPr>
              <a:t>-3</a:t>
            </a:r>
            <a:r>
              <a:rPr b="0" i="1" lang="pt-BR" sz="2000" spc="-1" strike="noStrike">
                <a:solidFill>
                  <a:srgbClr val="ffffff"/>
                </a:solidFill>
                <a:latin typeface="TimesNewRoman,Italic"/>
              </a:rPr>
              <a:t>. Supondo que é constituído apenas por um tipo de moléculas, determine o valor da velocidade quadrática média das suas molécul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057400" y="2590920"/>
          <a:ext cx="498168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590920"/>
                    <a:ext cx="498168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2071800" y="3886200"/>
          <a:ext cx="227160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71800" y="3886200"/>
                    <a:ext cx="227160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5334120" y="3878280"/>
          <a:ext cx="1752480" cy="84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3878280"/>
                    <a:ext cx="175248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513160" y="5105520"/>
          <a:ext cx="4192560" cy="105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3160" y="5105520"/>
                    <a:ext cx="41925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cc66"/>
                </a:solidFill>
                <a:latin typeface="Times New Roman"/>
              </a:rPr>
              <a:t>Exercício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9933"/>
                </a:solidFill>
                <a:latin typeface="TimesNewRoman,BoldItalic;Times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Já que a energia interna de um gás depende da agitação das suas partículas, e a temperatura é a grandeza que mede o nível de agitação destas mesmas partículas, será que podemos afirmar que, se tivermos dois gases, um com temperatura de 300 K e outro com temperatura de 500 K, o que tiver maior temperatura terá também necessariamente maior energia interna 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2514600"/>
            <a:ext cx="3200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cc"/>
                </a:solidFill>
                <a:latin typeface="Times New Roman"/>
              </a:rPr>
              <a:t>A resposta é..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514600"/>
            <a:ext cx="144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cc"/>
                </a:solidFill>
                <a:latin typeface="Times New Roman"/>
              </a:rPr>
              <a:t>não !!!</a:t>
            </a: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3200400"/>
            <a:ext cx="8001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A temperatura não depende do número de partículas, mas a energia interna sim. Se eu tiver somente </a:t>
            </a:r>
            <a:r>
              <a:rPr b="0" lang="pt-BR" sz="2000" spc="-1" strike="noStrike">
                <a:solidFill>
                  <a:srgbClr val="ff9933"/>
                </a:solidFill>
                <a:latin typeface="Times New Roman"/>
              </a:rPr>
              <a:t>cinco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partículas muito agitadas dentro de um recipiente A, e </a:t>
            </a:r>
            <a:r>
              <a:rPr b="0" lang="pt-BR" sz="2000" spc="-1" strike="noStrike">
                <a:solidFill>
                  <a:srgbClr val="ff9933"/>
                </a:solidFill>
                <a:latin typeface="Times New Roman"/>
              </a:rPr>
              <a:t>um milhão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de partículas menos agitadas dentro de outro recipiente B, o recipiente A terá maior temperatura que o recipiente B (pois suas partículas estão mais agitadas), mas a soma das energias de todas as suas cinco partículas dará menos do que a soma das energias de todas as partículas do recipiente B (pois B tem muito mais partículas). Então a energia interna de B será logicamente maior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209680" y="5867280"/>
          <a:ext cx="1524240" cy="7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867280"/>
                    <a:ext cx="152424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257800" y="5943600"/>
          <a:ext cx="1600200" cy="6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5943600"/>
                    <a:ext cx="160020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Calor específic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Calor é o processo de transferência de energia de um corpo a outro exclusivamente devido a diferença de temperatura entre ele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Com a experiência de Joule, na qual um certo corpo, caindo de uma altura, faz girar uma hélice no interior de um líquido e, com isso, aumenta a temperatura do líquido, verifica-se a equivalência entre o trabalho mecânico e o calor. O assim chamado equivalente mecânico do calor é a relação </a:t>
            </a:r>
            <a:r>
              <a:rPr b="1" lang="pt-BR" sz="2400" spc="-1" strike="noStrike">
                <a:solidFill>
                  <a:srgbClr val="ff9933"/>
                </a:solidFill>
                <a:latin typeface="Times New Roman"/>
              </a:rPr>
              <a:t>1 cal = 4,2 J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. Caloria é a quantidade de energia necessária para elevar a temperatura de uma grama de água de </a:t>
            </a:r>
            <a:r>
              <a:rPr b="1" lang="pt-BR" sz="2400" spc="-1" strike="noStrike">
                <a:solidFill>
                  <a:srgbClr val="ff9933"/>
                </a:solidFill>
                <a:latin typeface="Times New Roman"/>
              </a:rPr>
              <a:t>14,5 </a:t>
            </a:r>
            <a:r>
              <a:rPr b="1" lang="pt-BR" sz="2400" spc="-1" strike="noStrike" baseline="30000">
                <a:solidFill>
                  <a:srgbClr val="ff9933"/>
                </a:solidFill>
                <a:latin typeface="Times New Roman"/>
              </a:rPr>
              <a:t>o</a:t>
            </a:r>
            <a:r>
              <a:rPr b="1" lang="pt-BR" sz="2400" spc="-1" strike="noStrike">
                <a:solidFill>
                  <a:srgbClr val="ff9933"/>
                </a:solidFill>
                <a:latin typeface="Times New Roman"/>
              </a:rPr>
              <a:t>C para 15,5 </a:t>
            </a:r>
            <a:r>
              <a:rPr b="1" lang="pt-BR" sz="2400" spc="-1" strike="noStrike" baseline="30000">
                <a:solidFill>
                  <a:srgbClr val="ff9933"/>
                </a:solidFill>
                <a:latin typeface="Times New Roman"/>
              </a:rPr>
              <a:t>o</a:t>
            </a:r>
            <a:r>
              <a:rPr b="1" lang="pt-BR" sz="2400" spc="-1" strike="noStrike">
                <a:solidFill>
                  <a:srgbClr val="ff9933"/>
                </a:solidFill>
                <a:latin typeface="Times New Roman"/>
              </a:rPr>
              <a:t>C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cc66"/>
                </a:solidFill>
                <a:latin typeface="Times New Roman"/>
              </a:rPr>
              <a:t>Calores específicos molares de um gás idea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Definido por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438280" y="2057400"/>
            <a:ext cx="4267440" cy="1289160"/>
            <a:chOff x="2438280" y="2057400"/>
            <a:chExt cx="4267440" cy="1289160"/>
          </a:xfrm>
        </p:grpSpPr>
        <p:graphicFrame>
          <p:nvGraphicFramePr>
            <p:cNvPr id="101" name=""/>
            <p:cNvGraphicFramePr/>
            <p:nvPr/>
          </p:nvGraphicFramePr>
          <p:xfrm>
            <a:off x="2666880" y="2057400"/>
            <a:ext cx="3810240" cy="487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6880" y="2057400"/>
                      <a:ext cx="3810240" cy="48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"/>
            <p:cNvGraphicFramePr/>
            <p:nvPr/>
          </p:nvGraphicFramePr>
          <p:xfrm>
            <a:off x="2438280" y="2895480"/>
            <a:ext cx="4267440" cy="451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38280" y="2895480"/>
                      <a:ext cx="4267440" cy="45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5" name=""/>
          <p:cNvGrpSpPr/>
          <p:nvPr/>
        </p:nvGrpSpPr>
        <p:grpSpPr>
          <a:xfrm>
            <a:off x="685800" y="3505320"/>
            <a:ext cx="7848720" cy="2044440"/>
            <a:chOff x="685800" y="3505320"/>
            <a:chExt cx="7848720" cy="2044440"/>
          </a:xfrm>
        </p:grpSpPr>
        <p:sp>
          <p:nvSpPr>
            <p:cNvPr id="106" name=""/>
            <p:cNvSpPr/>
            <p:nvPr/>
          </p:nvSpPr>
          <p:spPr>
            <a:xfrm>
              <a:off x="685800" y="3505320"/>
              <a:ext cx="784872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spcBef>
                  <a:spcPts val="499"/>
                </a:spcBef>
                <a:spcAft>
                  <a:spcPts val="499"/>
                </a:spcAft>
                <a:buClr>
                  <a:srgbClr val="ffcc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cc"/>
                  </a:solidFill>
                  <a:latin typeface="Times New Roman"/>
                </a:rPr>
                <a:t>Considerando um processo a volume constante. Sendo assim W=0. A primeira lei da (Num sistema isolado a energia interna permanece constante):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aphicFrame>
          <p:nvGraphicFramePr>
            <p:cNvPr id="107" name=""/>
            <p:cNvGraphicFramePr/>
            <p:nvPr/>
          </p:nvGraphicFramePr>
          <p:xfrm>
            <a:off x="990720" y="4876920"/>
            <a:ext cx="2971800" cy="672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90720" y="4876920"/>
                      <a:ext cx="2971800" cy="67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"/>
            <p:cNvSpPr/>
            <p:nvPr/>
          </p:nvSpPr>
          <p:spPr>
            <a:xfrm>
              <a:off x="4343400" y="4952880"/>
              <a:ext cx="990720" cy="381240"/>
            </a:xfrm>
            <a:prstGeom prst="rightArrow">
              <a:avLst>
                <a:gd name="adj1" fmla="val 50000"/>
                <a:gd name="adj2" fmla="val 64967"/>
              </a:avLst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aphicFrame>
        <p:nvGraphicFramePr>
          <p:cNvPr id="110" name=""/>
          <p:cNvGraphicFramePr/>
          <p:nvPr/>
        </p:nvGraphicFramePr>
        <p:xfrm>
          <a:off x="6019920" y="4883040"/>
          <a:ext cx="1881000" cy="75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883040"/>
                    <a:ext cx="18810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609480" y="58672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66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TimesNewRoman"/>
              </a:rPr>
              <a:t>A relação anterior se aplica a todos os gases ideais, sejam monoatômicos ou não. 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09480" y="175248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66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TimesNewRoman"/>
              </a:rPr>
              <a:t>Para mudanças infinitesimais  de temperatura se têm: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219320" y="2209680"/>
            <a:ext cx="4647960" cy="1114560"/>
            <a:chOff x="1219320" y="2209680"/>
            <a:chExt cx="4647960" cy="1114560"/>
          </a:xfrm>
        </p:grpSpPr>
        <p:graphicFrame>
          <p:nvGraphicFramePr>
            <p:cNvPr id="115" name=""/>
            <p:cNvGraphicFramePr/>
            <p:nvPr/>
          </p:nvGraphicFramePr>
          <p:xfrm>
            <a:off x="1219320" y="2438280"/>
            <a:ext cx="1896840" cy="885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2438280"/>
                      <a:ext cx="18968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7" name=""/>
            <p:cNvSpPr/>
            <p:nvPr/>
          </p:nvSpPr>
          <p:spPr>
            <a:xfrm>
              <a:off x="3352680" y="2209680"/>
              <a:ext cx="251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ffffcc"/>
                  </a:solidFill>
                  <a:latin typeface="TimesNewRoman"/>
                </a:rPr>
                <a:t>Lembrando que: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86200" y="266688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aphicFrame>
        <p:nvGraphicFramePr>
          <p:cNvPr id="119" name=""/>
          <p:cNvGraphicFramePr/>
          <p:nvPr/>
        </p:nvGraphicFramePr>
        <p:xfrm>
          <a:off x="5715000" y="2362320"/>
          <a:ext cx="1828800" cy="92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362320"/>
                    <a:ext cx="182880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948120" y="4343400"/>
          <a:ext cx="1309680" cy="8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48120" y="4343400"/>
                    <a:ext cx="13096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609480" y="358128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TimesNewRoman"/>
              </a:rPr>
              <a:t>Calor especifico para um gás monoâtomico a volume constante é: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556272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TimesNewRoman"/>
              </a:rPr>
              <a:t>Essa expressão concorda bem com os resultados em gases reais.: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cc66"/>
                </a:solidFill>
                <a:latin typeface="Times New Roman"/>
              </a:rPr>
              <a:t>Calores específicos molares de um gás idea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9480" y="175248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66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TimesNewRoman"/>
              </a:rPr>
              <a:t>Considerando um processo a pressão constante: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350532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TimesNewRoman"/>
              </a:rPr>
              <a:t>Resulta: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523880" y="2362320"/>
          <a:ext cx="6134400" cy="65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362320"/>
                    <a:ext cx="613440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838080" y="510552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66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TimesNewRoman"/>
              </a:rPr>
              <a:t>Para um gás ideal monoâtomico se tem::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581280" y="5715000"/>
          <a:ext cx="200664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5715000"/>
                    <a:ext cx="200664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3" name=""/>
          <p:cNvGrpSpPr/>
          <p:nvPr/>
        </p:nvGrpSpPr>
        <p:grpSpPr>
          <a:xfrm>
            <a:off x="1447920" y="3962520"/>
            <a:ext cx="3948120" cy="763560"/>
            <a:chOff x="1447920" y="3962520"/>
            <a:chExt cx="3948120" cy="763560"/>
          </a:xfrm>
        </p:grpSpPr>
        <p:graphicFrame>
          <p:nvGraphicFramePr>
            <p:cNvPr id="134" name=""/>
            <p:cNvGraphicFramePr/>
            <p:nvPr/>
          </p:nvGraphicFramePr>
          <p:xfrm>
            <a:off x="1447920" y="3962520"/>
            <a:ext cx="2417760" cy="763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447920" y="3962520"/>
                      <a:ext cx="2417760" cy="7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"/>
            <p:cNvSpPr/>
            <p:nvPr/>
          </p:nvSpPr>
          <p:spPr>
            <a:xfrm>
              <a:off x="4419720" y="41148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aphicFrame>
        <p:nvGraphicFramePr>
          <p:cNvPr id="137" name=""/>
          <p:cNvGraphicFramePr/>
          <p:nvPr/>
        </p:nvGraphicFramePr>
        <p:xfrm>
          <a:off x="5791320" y="4054320"/>
          <a:ext cx="167616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1320" y="4054320"/>
                    <a:ext cx="167616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cc66"/>
                </a:solidFill>
                <a:latin typeface="Times New Roman"/>
              </a:rPr>
              <a:t>Calores específicos molares de um gás idea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Capacidades térmicas mola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876920" y="2362320"/>
          <a:ext cx="41148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362320"/>
                    <a:ext cx="41148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4952880" y="1676520"/>
            <a:ext cx="4038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TimesNewRoman"/>
              </a:rPr>
              <a:t>20 </a:t>
            </a:r>
            <a:r>
              <a:rPr b="1" lang="pt-BR" sz="3000" spc="-1" strike="noStrike" baseline="30000">
                <a:solidFill>
                  <a:srgbClr val="ffffff"/>
                </a:solidFill>
                <a:latin typeface="TimesNewRoman"/>
              </a:rPr>
              <a:t>o</a:t>
            </a:r>
            <a:r>
              <a:rPr b="1" lang="pt-BR" sz="3000" spc="-1" strike="noStrike">
                <a:solidFill>
                  <a:srgbClr val="ffffff"/>
                </a:solidFill>
                <a:latin typeface="TimesNewRoman"/>
              </a:rPr>
              <a:t>C e 1 atm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320" y="1752480"/>
            <a:ext cx="47242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cc"/>
                </a:solidFill>
                <a:latin typeface="Times New Roman"/>
              </a:rPr>
              <a:t>A tabela a seguir mostra que o modelo de esfera rígida é um bom modelo para as moléculas de hélio e argônio a 20 </a:t>
            </a:r>
            <a:r>
              <a:rPr b="0" lang="pt-BR" sz="2300" spc="-1" strike="noStrike" baseline="30000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pt-BR" sz="2300" spc="-1" strike="noStrike">
                <a:solidFill>
                  <a:srgbClr val="ffffcc"/>
                </a:solidFill>
                <a:latin typeface="Times New Roman"/>
              </a:rPr>
              <a:t>C. Também é um bom modelo para moléculas de hidrogênio e nitrogênio nessa temperatura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267080"/>
            <a:ext cx="4800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cc"/>
                </a:solidFill>
                <a:latin typeface="Times New Roman"/>
              </a:rPr>
              <a:t>Isto significa que o modelo de molécula rígida não é apropriado, ou seja, mesmo a 20 </a:t>
            </a:r>
            <a:r>
              <a:rPr b="0" lang="pt-BR" sz="2300" spc="-1" strike="noStrike" baseline="30000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pt-BR" sz="2300" spc="-1" strike="noStrike">
                <a:solidFill>
                  <a:srgbClr val="ffffcc"/>
                </a:solidFill>
                <a:latin typeface="Times New Roman"/>
              </a:rPr>
              <a:t>C os choques intermoleculares causam vibrações nas moléculas e os correspondentes graus de liberdade devem ser levados em conta. 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5410080"/>
            <a:ext cx="4572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ffffcc"/>
                </a:solidFill>
                <a:latin typeface="Times New Roman"/>
              </a:rPr>
              <a:t>Gases como o H</a:t>
            </a:r>
            <a:r>
              <a:rPr b="0" lang="pt-BR" sz="21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pt-BR" sz="2100" spc="-1" strike="noStrike">
                <a:solidFill>
                  <a:srgbClr val="ffffcc"/>
                </a:solidFill>
                <a:latin typeface="Times New Roman"/>
              </a:rPr>
              <a:t> e o N</a:t>
            </a:r>
            <a:r>
              <a:rPr b="0" lang="pt-BR" sz="21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pt-BR" sz="2100" spc="-1" strike="noStrike">
                <a:solidFill>
                  <a:srgbClr val="ffffcc"/>
                </a:solidFill>
                <a:latin typeface="Times New Roman"/>
              </a:rPr>
              <a:t>, podem ter outro comportamento a temperaturas mais altas.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cc66"/>
                </a:solidFill>
                <a:latin typeface="Times New Roman"/>
              </a:rPr>
              <a:t>Processos politrópico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1430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Times New Roman"/>
              </a:rPr>
              <a:t>Para a grande maioria das aplicações de nosso interesse, o comportamento da pressão interna do sistema em função do volume específico pode ser expresso por uma relação como: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438280" y="2362320"/>
          <a:ext cx="4343400" cy="6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362320"/>
                    <a:ext cx="434340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304920" y="33526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Times New Roman"/>
              </a:rPr>
              <a:t>Diferenciando a expressão obtemos: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276720" y="3962520"/>
          <a:ext cx="2666880" cy="60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962520"/>
                    <a:ext cx="266688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304920" y="48006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Times New Roman"/>
              </a:rPr>
              <a:t>Que finalmente termina sendo: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409840" y="5334120"/>
          <a:ext cx="4371840" cy="13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9840" y="5334120"/>
                    <a:ext cx="437184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cc66"/>
                </a:solidFill>
                <a:latin typeface="Times New Roman"/>
              </a:rPr>
              <a:t>Processos politrópico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905120"/>
            <a:ext cx="3200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Times New Roman"/>
              </a:rPr>
              <a:t>Assim temos que: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962520" y="1905120"/>
          <a:ext cx="4952880" cy="42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905120"/>
                    <a:ext cx="49528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04920" y="3394080"/>
          <a:ext cx="3305160" cy="10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394080"/>
                    <a:ext cx="330516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cc66"/>
                </a:solidFill>
                <a:latin typeface="Times New Roman"/>
              </a:rPr>
              <a:t>Processos politrópico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800240" y="205704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OA expansão isobár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OA' - compressão isobár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OB - compressão isométr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OB' - expansão isométr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OD - compressão isotérm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OD' - expansão isotérm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OC - compressão adiabá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OC' - expansão adiabá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80880" y="2286000"/>
          <a:ext cx="3962520" cy="34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396252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0T02:42:50Z</dcterms:created>
  <dc:creator>JOSE CIRO ROJAS QUISPE</dc:creator>
  <dc:description/>
  <dc:language>en-US</dc:language>
  <cp:lastModifiedBy>JOSE CIRO ROJAS QUISPE</cp:lastModifiedBy>
  <dcterms:modified xsi:type="dcterms:W3CDTF">2004-09-20T11:55:17Z</dcterms:modified>
  <cp:revision>113</cp:revision>
  <dc:subject/>
  <dc:title>Introdução à teoria da relatividade restrita</dc:title>
</cp:coreProperties>
</file>