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C7-D658-4E09-9A53-80FE0EB7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BAA-548D-4427-A02A-FD73B8A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AAE-9FD7-44D7-B943-C2DD8912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6A8-BEFB-4776-A56F-0EE0291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66DB-5C76-4182-B406-B8F36416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6ED7-42F3-40BD-B191-BAD2663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37BD-5319-44E5-923F-146CF0D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1FA-5419-4EFD-8D37-61FBFAC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E82E-7D9B-4B1E-9CE1-8C695153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4B9E-CABE-486E-8487-2D4F0805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0DA6-8A81-45EE-AC22-24AB758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B13-9D79-4BDC-80CA-4EBB9DBB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2A68-E93D-487B-86DD-070AB0F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443B-2313-48C6-A98E-7D6B354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E6CF-B4D8-4024-90F5-4E3C94D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01B5-A4FA-4D91-AE7A-6FD32926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16E7-CE8D-4A38-9C46-9A3601BD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A81-EAE4-48E9-8071-FF35543C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418-F29D-442A-9B08-AD2088D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8D7-66A9-47A8-8A91-1F8A4B3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88F-BE4D-419A-A071-FC355B3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3D5-6BBE-406A-B975-32BD007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59A-D5BF-4015-8AAC-4D82FAFB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23E-CA6E-40F2-A324-5DB57FC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02C-7B2A-4041-9FE6-DC066FDAD4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35B-6352-4AF8-858C-1D95C90D3A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cc66"/>
                </a:solidFill>
                <a:latin typeface="Times New Roman"/>
              </a:rPr>
              <a:t>A teoria Cinética </a:t>
            </a:r>
            <a:br>
              <a:rPr sz="4800"/>
            </a:br>
            <a:r>
              <a:rPr b="0" i="1" lang="pt-BR" sz="4800" spc="-1" strike="noStrike">
                <a:solidFill>
                  <a:srgbClr val="ffcc66"/>
                </a:solidFill>
                <a:latin typeface="Times New Roman"/>
              </a:rPr>
              <a:t>da Materia (III)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f. Dr. Vitor Baranausk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Sc. José C. Rojas Q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324480"/>
            <a:ext cx="373356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FEEC- UNIC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809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2670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MT"/>
              </a:rPr>
              <a:t>Considerando que neste cubo não existe direção privilegiada, os valores médios das diversas componentes serão iguais, ou sej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905120"/>
            <a:ext cx="7848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stamos representando o valor médio de uma grandeza </a:t>
            </a:r>
            <a:r>
              <a:rPr b="1" i="1" lang="pt-BR" sz="2000" spc="-1" strike="noStrike">
                <a:solidFill>
                  <a:srgbClr val="ffffcc"/>
                </a:solidFill>
                <a:latin typeface="ArialMT;Arial-ItalicMT"/>
              </a:rPr>
              <a:t>A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or </a:t>
            </a:r>
            <a:r>
              <a:rPr b="1" i="1" lang="pt-BR" sz="2000" spc="-1" strike="noStrike">
                <a:solidFill>
                  <a:srgbClr val="ffffcc"/>
                </a:solidFill>
                <a:latin typeface="ArialMT;Arial-ItalicMT"/>
              </a:rPr>
              <a:t>&lt;A&gt;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. Como as moléculas não são distinguíveis, os valores médios das componentes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x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 cada uma das moléculas são iguais, ou sej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90920" y="3252960"/>
          <a:ext cx="39672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52960"/>
                    <a:ext cx="39672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887480" y="5165640"/>
          <a:ext cx="535140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7480" y="5165640"/>
                    <a:ext cx="53514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2900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sse mod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9528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Onde consideramos que o volume do cubo é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V = L</a:t>
            </a:r>
            <a:r>
              <a:rPr b="0" i="1" lang="pt-BR" sz="2000" spc="-1" strike="noStrike" baseline="30000">
                <a:solidFill>
                  <a:srgbClr val="ffffcc"/>
                </a:solidFill>
                <a:latin typeface="ArialMT;Arial-ItalicMT"/>
              </a:rPr>
              <a:t>3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. Podemos ainda dizer qu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 como temos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N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moléculas nesse gás ideal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09680" y="2514600"/>
          <a:ext cx="472464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7246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104920" y="3962520"/>
          <a:ext cx="49816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4920" y="3962520"/>
                    <a:ext cx="49816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59120" y="5791320"/>
          <a:ext cx="165096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9120" y="5791320"/>
                    <a:ext cx="16509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257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ncontramos qu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419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 considerando que o valor médio é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Mas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N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é a massa total do gás pois: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N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é número de moléculas e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é a massa de cada molécula. Por outro lado, a massa total também pode ser expressa como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ois: </a:t>
            </a:r>
            <a:r>
              <a:rPr b="0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é o número de moles e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é a massa molar. Portanto, usando a equação dos gases ideai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743200" y="3352680"/>
          <a:ext cx="36576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52680"/>
                    <a:ext cx="36576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889440" y="5692680"/>
          <a:ext cx="144468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9440" y="5692680"/>
                    <a:ext cx="14446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105520" y="4386240"/>
          <a:ext cx="171612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386240"/>
                    <a:ext cx="17161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051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ntretanto a massa molar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é igual ao número de Avogadro vezes a massa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 uma molécula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M= N</a:t>
            </a:r>
            <a:r>
              <a:rPr b="0" i="1" lang="pt-BR" sz="2000" spc="-1" strike="noStrike" baseline="-25000">
                <a:solidFill>
                  <a:srgbClr val="ffffcc"/>
                </a:solidFill>
                <a:latin typeface="ArialMT;Arial-ItalicMT"/>
              </a:rPr>
              <a:t>A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, e a constante universal dos gases pode ser escrita como 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R= N</a:t>
            </a:r>
            <a:r>
              <a:rPr b="0" i="1" lang="pt-BR" sz="2000" spc="-1" strike="noStrike" baseline="-25000">
                <a:solidFill>
                  <a:srgbClr val="ffffcc"/>
                </a:solidFill>
                <a:latin typeface="ArialMT;Arial-ItalicMT"/>
              </a:rPr>
              <a:t>A</a:t>
            </a:r>
            <a:r>
              <a:rPr b="0" i="1" lang="pt-BR" sz="2000" spc="-1" strike="noStrike">
                <a:solidFill>
                  <a:srgbClr val="ffffcc"/>
                </a:solidFill>
                <a:latin typeface="ArialMT;Arial-ItalicMT"/>
              </a:rPr>
              <a:t>kB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, e desse modo teremos qu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505320" y="3546360"/>
          <a:ext cx="220968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46360"/>
                    <a:ext cx="220968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nergia cinética de translaç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9051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MT"/>
              </a:rPr>
              <a:t>Como já foi mencionada, em um gás ideal as moléculas não interagem, portanto não existem energia potencial e o único tipo de energia possível é a energia cinética de translação. A energia cinética média de uma partícula é dada por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682720" y="3429000"/>
          <a:ext cx="387036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720" y="3429000"/>
                    <a:ext cx="387036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838680" y="4714920"/>
          <a:ext cx="149544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8680" y="4714920"/>
                    <a:ext cx="1495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Calores específicos molares de um gás ide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90512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Se tivermos uma certa massa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m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 uma substância, podemos tentar relacionar qual a variação de temperatura </a:t>
            </a:r>
            <a:r>
              <a:rPr b="0" lang="pt-BR" sz="2000" spc="-1" strike="noStrike">
                <a:solidFill>
                  <a:srgbClr val="ffffcc"/>
                </a:solidFill>
                <a:latin typeface="ArialMT;Arial-ItalicMT;Symbol"/>
              </a:rPr>
              <a:t>.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T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que sofrerá essa massa, quando ela absorver uma quantidade de calor </a:t>
            </a:r>
            <a:r>
              <a:rPr b="0" lang="pt-BR" sz="2000" spc="-1" strike="noStrike">
                <a:solidFill>
                  <a:srgbClr val="ffffcc"/>
                </a:solidFill>
                <a:latin typeface="ArialMT;Arial-ItalicMT;Symbol"/>
              </a:rPr>
              <a:t>.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Q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. Existe uma relação, que tem a form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513240" y="3189240"/>
          <a:ext cx="212544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3240" y="3189240"/>
                    <a:ext cx="21254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33520" y="464832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Onde chamamos a grandeza 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 calor específico. Quando lidamos com gases, surge a necessidade de definir uma relação mais específica que leve em contas as especificidades deste fluid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Calores específicos molares de um gás ide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20968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finimos o 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calor específico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 a 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volume constante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ara relacionar variação de temperatura </a:t>
            </a:r>
            <a:r>
              <a:rPr b="0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ffffcc"/>
                </a:solidFill>
                <a:latin typeface="ArialMT;Arial-ItalicMT;Symbol"/>
              </a:rPr>
              <a:t>.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T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que sofrerá um gás, quando ele absorver uma quantidade de calor </a:t>
            </a:r>
            <a:r>
              <a:rPr b="0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Q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na situação em que o recipiente que contém o gás é mantido a volume constante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 maneira equivalente, definimos o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calor específico a pressão constante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ara relacionar variação de temperatura </a:t>
            </a:r>
            <a:r>
              <a:rPr b="0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T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que sofrerá um gás, quando ele absorver uma quantidade de calor </a:t>
            </a:r>
            <a:r>
              <a:rPr b="0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Q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na situação em que o recipiente que contém o gás é mantido a pressão consta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Gas ideal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9246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ffcc66"/>
                </a:solidFill>
                <a:latin typeface="Times New Roman"/>
              </a:rPr>
              <a:t>Gas real: </a:t>
            </a:r>
            <a:br>
              <a:rPr sz="3800"/>
            </a:br>
            <a:r>
              <a:rPr b="0" i="1" lang="pt-BR" sz="3800" spc="-1" strike="noStrike">
                <a:solidFill>
                  <a:srgbClr val="ffcc66"/>
                </a:solidFill>
                <a:latin typeface="Times New Roman"/>
              </a:rPr>
              <a:t>Isotérmica do Dióxido de Carbono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1704960"/>
          <a:ext cx="7086600" cy="44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04960"/>
                    <a:ext cx="708660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essão atmosféric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Daniel Bernoulli, em 1738, foi o primeiro a entender a pressão atmosférica em termos moleculares. Ele imaginou um cilindro vertical, fechado com um pistão no topo, o pistão tendo um peso sobre ele, ambos o pistão e o peso sendo suportados pela pressão dentro do cilindr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248440" y="2133720"/>
          <a:ext cx="2730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2133720"/>
                    <a:ext cx="2730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638680" y="22860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- Bernou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essão atmosférica - Bernoull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Ele descreveu o que ocorria dentro do cilindro da seguinte forma: "imagine que a cavidade contenha partículas muito pequenas, que movimentam-se freneticamente para lá e para cá, de modo que quando estas partículas batam no pistão elas o sustentam com repetidos impactos, formando um fluido que expande sobre si caso o peso for retirado ou diminuído ..."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2457360"/>
            <a:ext cx="23241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essão atmosférica - Bernoull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É triste dizer que seu relato, apesar de correto, não foi aceito de maneira geral. A maioria dos cientistas acreditavam que as moléculas de um gás estavam em repouso, repelindo-se à distância, fixas de alguma forma por um éter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50532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Newton mostrou que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PV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= constante era uma conseqüência dessa teoria, se a repulsão dependesse inversamente com o quadrado da distância. De fato, em 1820 um inglês,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John Herapath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, deduziu uma relação entre pressão e velocidade molecular, e tentou publicá-la pela Royal Society (a academia de ciências britânica). Foi rejeitada pelo presidente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, Humphry Davy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, que replicou que igualando pressão e temperatura, como feito por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Herapath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, implicava que deveria existir um zero absoluto de temperatura, uma idéia que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Davy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relutava em aceitar.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14440" y="19807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Vamos considerar N  molécula de um gás em um recipiente em forma de um cubo de aresta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e considerar os eixos cartesianos paralelos as arestas, como na figura do lad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1828800"/>
          <a:ext cx="2476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2476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343480" y="4800600"/>
          <a:ext cx="3343320" cy="14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3480" y="4800600"/>
                    <a:ext cx="33433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267080"/>
            <a:ext cx="4800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Considerando que as moléculas desse gás estão continuamente colidindo com a parede do recipiente. Vamos analisar especificamente a colisão de uma molécula, paralela ao plano yz e que passa pela orige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95320" y="19807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Usando a lei de Newton na forma F</a:t>
            </a:r>
            <a:r>
              <a:rPr b="1" lang="pt-BR" sz="2200" spc="-1" strike="noStrike">
                <a:solidFill>
                  <a:srgbClr val="ffffcc"/>
                </a:solidFill>
                <a:latin typeface="Times New Roman"/>
              </a:rPr>
              <a:t>orça = taxa de variação do momento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, vemos que o momento de uma partícula muda de </a:t>
            </a:r>
            <a:r>
              <a:rPr b="1" lang="pt-BR" sz="2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pt-BR" sz="2200" spc="-1" strike="noStrike">
                <a:solidFill>
                  <a:srgbClr val="ffffcc"/>
                </a:solidFill>
                <a:latin typeface="Times New Roman"/>
              </a:rPr>
              <a:t>mv</a:t>
            </a:r>
            <a:r>
              <a:rPr b="1" i="1" lang="pt-BR" sz="2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t-BR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a cada vez que ela atinge o pistã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95160" y="2023920"/>
          <a:ext cx="334332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23920"/>
                    <a:ext cx="33433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09480" y="4648320"/>
            <a:ext cx="7620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O tempo entre impactos é 2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De modo que a freqüência entre impactos é 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/2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 por segundo. Isto significa que se não houvesse uma força de equilíbrio, por conservação de momento a partícula iria causar uma mudança no momento da pistão de 2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m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/2</a:t>
            </a:r>
            <a:r>
              <a:rPr b="0" i="1" lang="pt-BR" sz="2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 unidades por segund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6576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ffcc"/>
                </a:solidFill>
                <a:latin typeface="Symbol;Arial-ItalicMT"/>
              </a:rPr>
              <a:t>p = p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Symbol;Arial-ItalicMT"/>
              </a:rPr>
              <a:t>f</a:t>
            </a:r>
            <a:r>
              <a:rPr b="0" i="1" lang="pt-BR" sz="2200" spc="-1" strike="noStrike">
                <a:solidFill>
                  <a:srgbClr val="ffffcc"/>
                </a:solidFill>
                <a:latin typeface="Symbol;Arial-ItalicMT"/>
              </a:rPr>
              <a:t> – p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Symbol;Arial-ItalicMT"/>
              </a:rPr>
              <a:t>i</a:t>
            </a:r>
            <a:r>
              <a:rPr b="0" i="1" lang="pt-BR" sz="2200" spc="-1" strike="noStrike">
                <a:solidFill>
                  <a:srgbClr val="ffffcc"/>
                </a:solidFill>
                <a:latin typeface="Symbol;Arial-ItalicMT"/>
              </a:rPr>
              <a:t> = m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Symbol;Arial-ItalicMT"/>
              </a:rPr>
              <a:t>x </a:t>
            </a:r>
            <a:r>
              <a:rPr b="0" i="1" lang="pt-BR" sz="2200" spc="-1" strike="noStrike">
                <a:solidFill>
                  <a:srgbClr val="ffffcc"/>
                </a:solidFill>
                <a:latin typeface="Symbol;Arial-ItalicMT"/>
              </a:rPr>
              <a:t>– (-m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Symbol;Arial-ItalicMT"/>
              </a:rPr>
              <a:t>x</a:t>
            </a:r>
            <a:r>
              <a:rPr b="0" i="1" lang="pt-BR" sz="2200" spc="-1" strike="noStrike">
                <a:solidFill>
                  <a:srgbClr val="ffffcc"/>
                </a:solidFill>
                <a:latin typeface="Symbol;Arial-ItalicMT"/>
              </a:rPr>
              <a:t>) = 2mv</a:t>
            </a:r>
            <a:r>
              <a:rPr b="0" i="1" lang="pt-BR" sz="2200" spc="-1" strike="noStrike" baseline="-25000">
                <a:solidFill>
                  <a:srgbClr val="ffffcc"/>
                </a:solidFill>
                <a:latin typeface="Symbol;Arial-ItalicMT"/>
              </a:rPr>
              <a:t>x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álculo cinético da pres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Isto é a taxa de variação do momento, e logo deve ser igual à força de equilíbrio, que é portanto: 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mv</a:t>
            </a:r>
            <a:r>
              <a:rPr b="1" i="1" lang="pt-BR" sz="20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t-BR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66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Agora podemos generalizar ao caso de muitas partículas (N) que movimentam-se freneticamente dentro de uma caixa retangular de comprimento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na direção </a:t>
            </a:r>
            <a:r>
              <a:rPr b="0" i="1" lang="pt-BR" sz="20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(que é ao longo de uma das arestas do cubo)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784600" y="3832200"/>
          <a:ext cx="35398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832200"/>
                    <a:ext cx="35398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86000" y="5562720"/>
          <a:ext cx="46483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562720"/>
                    <a:ext cx="46483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57200" y="4800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MT"/>
              </a:rPr>
              <a:t>A pressão que essas moléculas exercerão dependerá da força média e será dada por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42:50Z</dcterms:created>
  <dc:creator>JOSE CIRO ROJAS QUISPE</dc:creator>
  <dc:description/>
  <dc:language>en-US</dc:language>
  <cp:lastModifiedBy>JOSE CIRO ROJAS QUISPE</cp:lastModifiedBy>
  <dcterms:modified xsi:type="dcterms:W3CDTF">2004-09-15T12:19:43Z</dcterms:modified>
  <cp:revision>77</cp:revision>
  <dc:subject/>
  <dc:title>Introdução à teoria da relatividade restrita</dc:title>
</cp:coreProperties>
</file>