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AA5-CD51-499A-9CAE-74047644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4FC-EEAB-4B5C-8961-9DAB3219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0E7-5A95-4B18-B97C-529E7409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99D-F428-41F2-BAF3-8FE4D4A7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D97D-D330-44E4-8DB4-82044988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DDF3-4751-48DA-8EE0-0F6FE77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A71-0B01-4286-9A48-D468035C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87E-AF05-49C8-A51C-6A7BCA5F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C240-DB18-4CB1-9056-8762390E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96BD-83FE-40DD-99D6-362654A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00DE-4628-4316-892B-C68F58F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3CA-1484-407E-84A8-A8753A46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E64B-6ED6-49C5-A83F-A3C1F9D4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5D10-5C83-43D2-BC7B-8BE3D26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147E-1CCD-4799-900E-4751870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8D9-F038-402A-B664-6D84939B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FE9-D43F-4012-A6EC-88305CB2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C02-B3FF-45E6-8FF0-B722047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467-7942-45D4-9774-5C01CF8F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F0C-EA39-459E-BB40-42D17D0D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4A6-A78A-4D50-88A2-04E82B3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D22-1F14-416C-9937-5D5C588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743-C169-438E-BF40-47448F45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0CF-5675-4DC9-950D-E6A6F19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723-715A-4D2B-BF03-249589F709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B61-8DA4-4797-B4CD-D80A88E93D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trodução à teoria da relatividade restri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f. Dr. Vitor Baranausk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Sc. José C. Rojas Q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emc2" descr=""/>
          <p:cNvPicPr/>
          <p:nvPr/>
        </p:nvPicPr>
        <p:blipFill>
          <a:blip r:embed="rId1"/>
          <a:stretch/>
        </p:blipFill>
        <p:spPr>
          <a:xfrm>
            <a:off x="441360" y="1600200"/>
            <a:ext cx="324648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324480"/>
            <a:ext cx="3733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FEEC- UNIC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abela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62000" y="1730520"/>
          <a:ext cx="512460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730520"/>
                    <a:ext cx="512460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onseqüências dos postula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uponhamos que existam dois gêmeos com 20 anos de idade . O gêmeo A resolve fazer um viagem  até a estrela situada a aproximadamente 11  anos-luz do nosso planeta . O gêmeo B fica na terra , aguardando a volta do irmão . A nave espacial viaja numa velocidade equivalente a 90% da velocidade da luz ; sua  massa  na terra é de  uma tonelada (1000 kg) e  o comprimento aqui é de 100 metros . Os relógios e marcadores de tempo (da terra e da nave espacial) são sincronizados na hora da partida . Para a viagem de ida e volta  . (considere-se o ano de 360 dias e o mês de 30 dias )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onseqüências dos postula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Durante a viagem a massa será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 nave terá o comprimento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Segundo a teoria da relatividade  o tempo de ida e volta da nave espacial medido pelos marcadores internos seria de 22 anos . Então o gêmeo A ( da nave espacial) estará - no retorno , com 42 anos , enquanto na terra   teriam decorridos __ anos __ meses e ___ dias , o gêmeo B (que ficou na terra)   teria então ___ anos __ meses e __ dias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abela  indicativa dos efeitos da relativida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5f5f5f"/>
                </a:solidFill>
                <a:latin typeface="Arial"/>
              </a:rPr>
              <a:t>% V.  Luz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Gêmeo 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Gêmeo 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Comprimento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assa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90 %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2 anos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70 anos e 5 mes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3 m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2 294 kg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94 %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2 anos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84 anos e 6 mes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34 m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2 931 kg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96 %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2 ano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98 anos e 8 mes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28 m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3 571 kg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98 %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2 ano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110 anos e 6 mes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20 m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5 025 kg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99,999 %</a:t>
            </a:r>
            <a:r>
              <a:rPr b="0" lang="pt-B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2 ano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512 anos e 1 mes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 m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492 059 k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Testes experimenta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uitas experiências foram executadas por cientistas objetivando provar a praticidade desta teoria . Transcrevemos algumas delas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É possível testemunhar a dilatação do tempo em partículas atômicas que viajam a velocidades próximas à da luz . Trata-se dos raios cósmicos, que alcançam a terra vindos do espaço . O tempo de vida e sua massa são muito maiores do que quando estão em repouso . Os mésons formam-se na alta atmosfera da Terra , quando os raios cósmicos incidem sobre as moléculas de gás . Caso não houvesse a dilatação do tempo , a velocidade destas partículas seria suficiente apenas para cobrir uma distância de ______ m antes de se modificarem ; entretanto os cientistas conseguiram detectá-los ___ km abaixo de onde são formados ,  comprovando assim a dilatação do tempo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Testes experimenta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Dois relógios atômicos (de alta precisão ) foram sincronizados . Um deles colocado em órbita e recolhido algum tempo depois . Os cientistas comprovaram que o relógio colocado em órbita tinha ficado  "atrasado" em relação ao relógio colocado da terra 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Durante eclipses solares os cientistas têm verificado que os raios   luminosos provindos  das estrelas sofrem desvios nas proximidades do Sol, comprovando assim a curvatura do espaço tempo na proximidade de uma massa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Referênc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Relatividade de Galile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http://www.feiradeciencias.com.br/sala23/23_R02.a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The Special Theory of Relativ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http://www.upscale.utoronto.ca/GeneralInterest/Harrison/SpecRel/SpecRel.html#Expl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cc"/>
                </a:solidFill>
                <a:latin typeface="Times New Roman"/>
              </a:rPr>
              <a:t>2.130</a:t>
            </a: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      Teoria da relatividade restrita</a:t>
            </a:r>
            <a:br>
              <a:rPr sz="3600"/>
            </a:br>
            <a:r>
              <a:rPr b="0" i="1" lang="pt-BR" sz="3600" spc="-1" strike="noStrike">
                <a:solidFill>
                  <a:srgbClr val="ffffcc"/>
                </a:solidFill>
                <a:latin typeface="Times New Roman"/>
              </a:rPr>
              <a:t>329.900</a:t>
            </a: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  Restrict relative theor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google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118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ransformação de Galile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s leis de Newton são supostas válidas quando observadas de um referencial inercial qualquer, satisfazendo, portanto, o princípio de Galileu, de que nenhum referencial inercial é privilegiado. (Newton considerou, em seu tratado “Principia”, a possível existência de um referencial absoluto ligado ás estrelas fixas, entretanto este referencial absoluto não entra explicitamente na teoria de Newton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s leis de Newton são invariantes com relação à transformação de Galileu que é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X' = X – vt ;  Y’ = Y e  Z’= Z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' = m     e      t' =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orque estudar a TRR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e a relatividade de Galileu se aplica tão bem aos fenômenos usuais, podemos nos perguntar: qual é o interesse em estudar alguns aspectos fundamentais da teoria da relatividade de Einstein, para aqueles que em sua vida profissional não terão oportunidade de utilizá-la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erguntas semelhantes podem ser feitas com relação a um grande número de outras conquistas do intelecto humano -quantas pessoas, de fato, no transcurso de sua vida profissional, utilizam o conhecimento de que a Terra gira em torno do Sol e não o contrário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Principio básico dos experimentos de Michelson-Morle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Faremos dois experimentos em pensamento, ambos utilizando uma lancha: no primeiro a lancha se moverá ao longo de um rio; no segundo se moverá no sentido de atravessá-l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Experimento mental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562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Principio básico dos experimentos de Michelson-Morle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Experimento mental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ffffcc"/>
                </a:solidFill>
                <a:latin typeface="Times New Roman"/>
              </a:rPr>
              <a:t>Se ela parte do ponto A devendo atracar no ponto B, diretamente através do rio, terá de manter o seu curso ligeiramente contra a correnteza para compensar o arrastamento da água. Assim, enquanto ela cobrir a distância AC com relação à água, desviar-se-á correnteza abaixo ao longo da distância CB. Isto corresponde a dizer que: o tempo para ir de A até C é o mesmo (e simultâneo) para ir de C até B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5120" y="4146480"/>
            <a:ext cx="53766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Principio básico dos experimentos de Michelson-Morle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 que Michelson e Morley fizeram em seu famoso experimento, foi substituir o rio corrente pelo vento de éter e a lancha pela onda de lu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s postulados de Einste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.  As leis físicas são as mesmas em todos os sistemas de referência inercia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2. A velocidade da luz no vácuo é constante, sem depender da velocidade de sua fonte ou do observador 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abela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03200" y="2057400"/>
          <a:ext cx="653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2057400"/>
                    <a:ext cx="653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42:50Z</dcterms:created>
  <dc:creator>JOSE CIRO ROJAS QUISPE</dc:creator>
  <dc:description/>
  <dc:language>en-US</dc:language>
  <cp:lastModifiedBy>DSIF</cp:lastModifiedBy>
  <dcterms:modified xsi:type="dcterms:W3CDTF">2004-09-05T22:58:41Z</dcterms:modified>
  <cp:revision>21</cp:revision>
  <dc:subject/>
  <dc:title>Introdução à teoria da relatividade restrita</dc:title>
</cp:coreProperties>
</file>