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7218-8134-4BE2-960E-F2809C4A6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1BC8-6B74-4031-92BB-697D70DD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2138-CD5C-4D68-886C-D26BCCFF7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321C-8D55-4F1A-BD94-5C63CF6A2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4FDE-51D3-4D1A-AAED-B04F3D1A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E196-EB5A-400C-A043-DE9ABA12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35EF-27FB-4D12-8405-D6BFDD35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A2D1-6492-417A-94E0-12A06C8E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E3E0-C63C-4872-8739-0A9D4F2F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8943-C8D0-490D-AD53-CEB08BD5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A400-B24A-4828-9426-EC6C53B2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FFCF-04E0-4DAF-AA52-9CD74FD5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4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02FA-43E9-43D3-A201-C0E1FC454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12.147.194.109/CIM/Faculty/Annmarie_leap/annmarie_leap.html" TargetMode="External"/><Relationship Id="rId2" Type="http://schemas.openxmlformats.org/officeDocument/2006/relationships/hyperlink" Target="mailto:Bwedel@iadt-pitt.com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ve@dtumpa.com" TargetMode="External"/><Relationship Id="rId2" Type="http://schemas.openxmlformats.org/officeDocument/2006/relationships/hyperlink" Target="mailto:Dkung@iadt-pitt.com" TargetMode="External"/><Relationship Id="rId3" Type="http://schemas.openxmlformats.org/officeDocument/2006/relationships/hyperlink" Target="mailto:DMcCullough@iadt-pitt.com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4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 u="sng">
                <a:solidFill>
                  <a:srgbClr val="003399"/>
                </a:solidFill>
                <a:uFillTx/>
                <a:latin typeface="Times New Roman"/>
              </a:rPr>
              <a:t>IAD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International Academy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Design &amp; 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ttsbur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7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4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ress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555 Grant Stree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ttsburgh, PA  152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one (toll free)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(800) 447-83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on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(412) 391-41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x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(412) 391-42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D04917_" descr=""/>
          <p:cNvPicPr/>
          <p:nvPr/>
        </p:nvPicPr>
        <p:blipFill>
          <a:blip r:embed="rId1"/>
          <a:stretch/>
        </p:blipFill>
        <p:spPr>
          <a:xfrm>
            <a:off x="2666880" y="228600"/>
            <a:ext cx="345132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7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4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3399"/>
                </a:solidFill>
                <a:uFillTx/>
                <a:latin typeface="Times New Roman"/>
              </a:rPr>
              <a:t>Programs Offer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 information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ual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ice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siness admin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BD00146_" descr=""/>
          <p:cNvPicPr/>
          <p:nvPr/>
        </p:nvPicPr>
        <p:blipFill>
          <a:blip r:embed="rId1"/>
          <a:stretch/>
        </p:blipFill>
        <p:spPr>
          <a:xfrm>
            <a:off x="5791320" y="2819520"/>
            <a:ext cx="2590560" cy="2709720"/>
          </a:xfrm>
          <a:prstGeom prst="rect">
            <a:avLst/>
          </a:prstGeom>
          <a:ln w="0">
            <a:noFill/>
          </a:ln>
        </p:spPr>
      </p:pic>
    </p:spTree>
  </p:cSld>
  <p:transition advTm="7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4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003399"/>
                </a:solidFill>
                <a:uFillTx/>
                <a:latin typeface="Times New Roman"/>
              </a:rPr>
              <a:t>Facult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sie Georgetti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12.147.194.109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M/Faculty/Cass_Georgetti/body_cass_georgetti.ht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nmarie Le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http://12.147.194.109/CIM/Faculty/Annmarie_leap/annmarie_leap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nnie Wedel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Bwedel@iadt-pitt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4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003399"/>
                </a:solidFill>
                <a:uFillTx/>
                <a:latin typeface="Times New Roman"/>
              </a:rPr>
              <a:t>Facult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id Tumpa: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dave@dtumpa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na Kung: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Dkung@iadt-pit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na McCullough: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3"/>
              </a:rPr>
              <a:t>DMcCullough@iadt-pit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4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003399"/>
                </a:solidFill>
                <a:uFillTx/>
                <a:latin typeface="Times New Roman"/>
              </a:rPr>
              <a:t>Facult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rge McHale: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McHale@iadt-pit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lary Borneo: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borneo@iadt-pit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son Wickline: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wickline@iadt-pitt.com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4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Pittsburg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elers Football @ Heinz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rates Baseball @ PNC P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guins Hockey @ Mellon Ar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BD00009_" descr=""/>
          <p:cNvPicPr/>
          <p:nvPr/>
        </p:nvPicPr>
        <p:blipFill>
          <a:blip r:embed="rId1"/>
          <a:stretch/>
        </p:blipFill>
        <p:spPr>
          <a:xfrm>
            <a:off x="7391520" y="1219320"/>
            <a:ext cx="94428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BD00012_" descr=""/>
          <p:cNvPicPr/>
          <p:nvPr/>
        </p:nvPicPr>
        <p:blipFill>
          <a:blip r:embed="rId2"/>
          <a:stretch/>
        </p:blipFill>
        <p:spPr>
          <a:xfrm>
            <a:off x="6934320" y="2819520"/>
            <a:ext cx="776160" cy="1025280"/>
          </a:xfrm>
          <a:prstGeom prst="rect">
            <a:avLst/>
          </a:prstGeom>
          <a:ln w="0">
            <a:noFill/>
          </a:ln>
        </p:spPr>
      </p:pic>
      <p:pic>
        <p:nvPicPr>
          <p:cNvPr id="61" name="BD00014_" descr=""/>
          <p:cNvPicPr/>
          <p:nvPr/>
        </p:nvPicPr>
        <p:blipFill>
          <a:blip r:embed="rId3"/>
          <a:stretch/>
        </p:blipFill>
        <p:spPr>
          <a:xfrm>
            <a:off x="7696080" y="4114800"/>
            <a:ext cx="990720" cy="961920"/>
          </a:xfrm>
          <a:prstGeom prst="rect">
            <a:avLst/>
          </a:prstGeom>
          <a:ln w="0">
            <a:noFill/>
          </a:ln>
        </p:spPr>
      </p:pic>
    </p:spTree>
  </p:cSld>
  <p:transition advTm="7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4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3399"/>
                </a:solidFill>
                <a:uFillTx/>
                <a:latin typeface="Times New Roman"/>
              </a:rPr>
              <a:t>Pittsburg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ht see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oint with 3 riv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iew @ Mt Washing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urches with there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th Side, South Side, East Sid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est End, and Downtown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D06455_" descr=""/>
          <p:cNvPicPr/>
          <p:nvPr/>
        </p:nvPicPr>
        <p:blipFill>
          <a:blip r:embed="rId1"/>
          <a:stretch/>
        </p:blipFill>
        <p:spPr>
          <a:xfrm>
            <a:off x="7391520" y="4114800"/>
            <a:ext cx="974520" cy="966960"/>
          </a:xfrm>
          <a:prstGeom prst="rect">
            <a:avLst/>
          </a:prstGeom>
          <a:ln w="0">
            <a:noFill/>
          </a:ln>
        </p:spPr>
      </p:pic>
    </p:spTree>
  </p:cSld>
  <p:transition advTm="7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4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003399"/>
                </a:solidFill>
                <a:uFillTx/>
                <a:latin typeface="Times New Roman"/>
              </a:rPr>
              <a:t>LINK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pittsburgh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my.iadtpitts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pittsburgh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0T21:31:26Z</dcterms:created>
  <dc:creator>Setup</dc:creator>
  <dc:description/>
  <dc:language>en-US</dc:language>
  <cp:lastModifiedBy>Setup</cp:lastModifiedBy>
  <dcterms:modified xsi:type="dcterms:W3CDTF">2003-08-11T16:07:17Z</dcterms:modified>
  <cp:revision>12</cp:revision>
  <dc:subject/>
  <dc:title>IADT</dc:title>
</cp:coreProperties>
</file>