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DE66-4881-4178-B098-F724DFBA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3ABB-B1D5-4E28-9545-86897737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0276-DFEF-4973-B851-B5565F0CF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0ABE-EA89-463C-A864-5D7F3A3FB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EAFE-D00E-4C58-8A41-733AFBA1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12EE-C99B-43DF-8E48-FBCEC904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2FF9-D682-4A29-B64E-3987C638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FCA5-5420-4791-AE48-F464558B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D446-6AF5-4805-9516-63541F6E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6698-0EF6-496D-8A72-6A92009A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730D-7519-4A49-8120-9ABD8384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B06F-6824-40CA-8777-72DC72B7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897D-745B-4EF5-B8DE-EAB3B150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BF37-C535-40BF-B312-F869BB1C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F426-3CDA-4D1A-A45C-7584955E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181D-85D8-499D-9232-54895C722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871E-13DE-4307-9D1C-A8E80576C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13183-FBEC-4E52-BE4E-DFBA0BCD6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E4701-07E3-4291-B94A-79FE7185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E3BFB-9C60-47B9-B149-43D1D321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AE1DF-16EA-4676-B150-FE421D19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7AB4D-2403-4E1A-9992-22F270FA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73E6-2981-423D-9BE3-C8BF4665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F8267-6452-4864-9891-3EBF4BD9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F9D6F-D7BB-470F-B7BD-900A4C10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14687-A161-434E-975B-578C6026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0B3EF-CB2B-40E8-8519-FB19EF9D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FA60C-155A-417C-B14E-C06FE3F0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68936-8F40-4FE5-87CB-425A10DF4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30DAD-BDC0-4014-AC61-9D9AFF662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9C736-15B7-45E3-AC04-AE2CD3341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FF5F0-5975-4575-98F3-3A9D6F27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23FAD-B06A-48BA-9586-D4624452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E051-5098-4A14-B409-B175DC02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7C735-DF17-4531-9466-97DAE202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9E56E-1FFD-4DA4-AB37-B1075C3A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E9209-CFFC-4C44-94AC-FCE24FBE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92B1D-A39F-4553-9A05-0B09252A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1B79C-9BFC-44CA-8F65-AFD09C51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D1BCE-C792-4882-B5AD-15282058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E752A-191A-43CB-8848-B2655EAA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07956-5B00-4C70-8663-078433E97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7B045-5122-4B77-BA24-7DB2D6066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32785-7F4E-4D12-83B7-79EE2D3AD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55AA-20BC-4CDA-93EC-BABC6650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1A1E1-1962-4D5F-95F8-DB96EDF5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4C115-6FAE-4F69-B702-41EA9963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28861-562E-4673-BCF2-80742E8C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F50CF-AEC0-43F0-ABB4-E70CD6BB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FBA3F-4EC0-4C8D-A1FA-57786E62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D0B97-1B52-4807-8472-C32CD23D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BEBE0-F072-4BC0-B0B5-C1757CDC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2802E-9372-4094-BE75-7BC1A306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2A7E9-8B1A-4901-8435-23F0ABB9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F2CD9-6E26-43E4-A463-B8DD9FFD2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E132-074F-4F8F-A56A-695AFB12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7B1C7-68C0-4BF5-9A50-07216AE66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B88B9-0133-40AF-B976-221B94DF5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D6648-EC5E-418B-8F29-57C250F0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AF452-FEEF-45F8-A05A-F165AC60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F2FB8-8C50-4581-8D36-5DE18044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6AD0A-BDBD-48F1-ABAE-9B27A63D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FE540-8B42-4E06-B624-253E1976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0A42E-78BD-4C22-8561-68DDD49D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FEB09-805F-4778-91CB-F4B6A4D0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364A0-8E4B-4EC3-892A-90459785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B045-69C8-4E1C-B959-B8FABCA9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0F7F7-F60E-4728-818D-8751E126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DCA59-8E65-41D9-B303-69C917C8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7CB32-D167-4C8D-9098-99E2E2AF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D6323-C48D-4F19-9DF8-0490A63DD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042BE-17CC-468E-8256-993B31DB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AD682-3ED5-4114-B2FC-C2087AA5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CC6F1-EA54-441C-B2F2-E40951C7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B3E6E-F9C4-4A62-93A8-3EE7CEB6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66922-C20A-481C-8014-26B3B4A6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E79D0-02D0-40C8-9F37-418C01ED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743D-6235-405E-A9FD-264746FB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2D0D2-1CA6-4A3B-A97E-90949669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BBB27-A136-4602-BB84-0B9E5203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1D116-B1EA-4E4F-878B-479D2818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D29CE-5FE6-4D31-B3AD-9C8C05F13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A8314-1A3B-4833-968A-0AD82DD9E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F464-4FB8-4237-A26B-663FAF6D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9C94-91D7-4F3F-AC42-EDB87E553F5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D27D-4BC0-41E3-BB85-BADB13E5D72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1FC7-1BB4-42E0-9C55-452B772E11B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B302-1478-493A-99F7-157AED9F845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F09F-6AEA-47F7-836B-BD2AFBA8240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0CAB-257E-49C6-825F-3B249ED79FC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A2C4-98FA-4962-B8FB-F22728EEE0A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ayhueque.com/argentina_tours/featured_trips/argentina_for_adventurers_15_days.php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ayhueque.com/argentina_tours/featured_trips/argentina_highlights_12_days.php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isit Argentin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19" name="Picture 9" descr="http://www.questconnect.org/images/argent-map.gif"/>
          <p:cNvPicPr/>
          <p:nvPr/>
        </p:nvPicPr>
        <p:blipFill>
          <a:blip r:embed="rId1"/>
          <a:stretch/>
        </p:blipFill>
        <p:spPr>
          <a:xfrm>
            <a:off x="2743200" y="1249200"/>
            <a:ext cx="4572000" cy="530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Argentina for Adventurers - $1885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15 days 14 nigh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ur Argentina´s glaciers, hike Patagonia mountain trails, explore Iguazu Falls and kayak Tierra del Fuego National Park. This trip has it all. From Buenos Aires´ tango shows and eclectic neighborhoods to the surreal, southern city of Ushuaia, heed the call of the wild and visit Argentina for a taste of adventure!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9" name="Picture 4" descr="Argentina for Adventurers 15 Day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5562720"/>
            <a:ext cx="3105000" cy="112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at to d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utdoor activit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iking, sailing, horseback riding, biking,                    bird watching, paragliding, wind surfing,           kayak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quisite cuisi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tur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serts, waterfalls, tropical rain forests, beaches, snow covered mountains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tional Pa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mping, fishing, trekking, rafting, mountain biking, wildlif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2" name="Picture 6" descr="ANd9GcTTyv0HIwFfcfZuoikpPSCdvwjXbIfKeeZtUepYLelBD1qo6ZvrZw"/>
          <p:cNvPicPr/>
          <p:nvPr/>
        </p:nvPicPr>
        <p:blipFill>
          <a:blip r:embed="rId1"/>
          <a:stretch/>
        </p:blipFill>
        <p:spPr>
          <a:xfrm>
            <a:off x="7238880" y="22860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343" name="waterfall.wav" descr=""/>
          <p:cNvPicPr/>
          <p:nvPr/>
        </p:nvPicPr>
        <p:blipFill>
          <a:blip r:embed="rId2"/>
          <a:stretch/>
        </p:blipFill>
        <p:spPr>
          <a:xfrm>
            <a:off x="8077320" y="3048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2502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rgentina for Pleasur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1" name="Picture 4" descr="thumbnail"/>
          <p:cNvPicPr/>
          <p:nvPr/>
        </p:nvPicPr>
        <p:blipFill>
          <a:blip r:embed="rId1"/>
          <a:stretch/>
        </p:blipFill>
        <p:spPr>
          <a:xfrm>
            <a:off x="2743200" y="1600200"/>
            <a:ext cx="3735360" cy="51055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istor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irst explored by Juan Diaz de Solis in 1516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Began under Spanish colonial rule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rgentinians setup own government in 1810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ormally declared independence in 1816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National unity government established in 1861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apital – Buenos Aire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1880 to 1930 was one of world’s 10 wealthiest nation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ravel Inform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Valid passport required with maximum duration of stay ninety day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Visa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t required for duration of stay up to ninety day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Language – Spanish (official), Italian, English, German, and French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afety and Security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rivers frequently ignore traffic law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Vehicles often travel at excessive spe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monstrations are common in major cit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ublic transportation is reliable and saf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ransport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47560" y="14475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i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ny cities fly to the main Argentine International Airport, commonly known as Ezeiza International Airpor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ntrance tax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67960" indent="-223920">
              <a:lnSpc>
                <a:spcPct val="8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pplies to all visitors holding passports from U.S., Canada, and Australi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67960" indent="-223920">
              <a:lnSpc>
                <a:spcPct val="8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ne time fee of $131 USD for U.S. citizen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udget and first class seats, sleeping bed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r Rent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ost types of driver licenses are suffici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nual transmiss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ften start at $80 USD per da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ivate Car and Driver Serv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ferred to as a “remis” often $20 USD an hou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 advTm="5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3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3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3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3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mate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int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July to Octob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ld and rain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ays are short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umm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cember to Mar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t and humi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ays are long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pring and Fall are ideal since the climate is relatively war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eneral Etiquett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Meeting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itial greetings are formal, greet eldest or most important person firs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andard handshake, direct eye contact, and smil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ait to be introduced by host/hostess at small gathering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y good-bye to each person individuall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Dining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ress wel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rrive 30 to 45 minutes later than invit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elephone hosts the following day to thank the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ravel Packag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uenos Aires travel 4 days, 3 nights - $872 includes: single room Reconquista Luxor Hotel, round trip transportation from airport, accommodations at hotel with daily breakfast, tours with Spanish/English speaking guid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guazu Waterfalls travel 3 days 2 nights - $463 includes: single room Recanto Park Hotel, round trip transportation from airport, accommodations at hotel with daily breakfast, full day Argentinean Falls + half day Brazilian side of the falls, tours with Spanish/English speaking guide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0" lang="en-US" sz="3500" spc="-1" strike="noStrike">
                <a:solidFill>
                  <a:srgbClr val="572314"/>
                </a:solidFill>
                <a:latin typeface="Gill Sans MT"/>
              </a:rPr>
              <a:t>Argentina Highlights Package - $1435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47560" y="19047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12 days 11 nigh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rgentina´s highlights await. From the incredible jungle trails of Iguazu Falls to the southern-most city in the world, Ushuaia, explore Tierra del Fuego National Park, tour Perito Moreno Glacier/Patagonia and discover Buenos Aires´ tango shows as you soak up the local Argentine culture on this 12 day adventure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6" name="Picture 4" descr="Argentina Highlights 12 Day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152280"/>
            <a:ext cx="3105000" cy="112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1T01:13:34Z</dcterms:created>
  <dc:creator>bevans</dc:creator>
  <dc:description/>
  <dc:language>en-US</dc:language>
  <cp:lastModifiedBy>bevans</cp:lastModifiedBy>
  <dcterms:modified xsi:type="dcterms:W3CDTF">2011-08-12T20:55:06Z</dcterms:modified>
  <cp:revision>55</cp:revision>
  <dc:subject/>
  <dc:title>Argentina</dc:title>
</cp:coreProperties>
</file>