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91A-D7F3-489F-9BE5-128484F9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2C1-1E4C-4409-9872-35EDA3BC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CE1-174E-4715-B1CE-652B8419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593-EEF3-4756-861E-30D42970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72C9-2AF9-48B7-BD3F-347706C5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3A4E-E64D-4C92-9FE0-2CD3FD96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BAB7-929A-4BE3-8D64-F0F266DF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2C9A-21BC-41EC-AF90-97C912EF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25CD-599E-45D3-A4A6-29E6A4EA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A0D0-B9E9-485A-91E9-EAF14E5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1E9E-0B2E-4625-9F18-9850243D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19E-67A7-4903-921B-35C4BDF8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3361-DC1C-4A4A-84A0-C93A00B2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3B60-CCE2-488E-A0BF-94385868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B823-E91C-4D81-A452-555983FD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E615-C34A-47EF-91C0-E6D4ABD0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0B93-9579-485B-A92A-6F68676B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4BC5-2A1D-45AE-9CED-DC9878D2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D5918-BC63-45AE-AE46-A6260465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7ADE-662E-41FF-AEF6-9799DFCD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89F6-4518-48CD-8FEF-8A09E23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41A7-0DE0-475A-9AEF-5EED131F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E2F-0388-4BC7-BFE0-2E511D65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D85F7-E294-409C-9333-10C84BEC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7DCC-EA3D-4964-9068-C62E4015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7589-A9CD-45F4-99C3-3017757A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0E3F-7FA2-4C69-BB11-EF2A6727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3096-4CA0-41D5-A76D-957DE648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A5EA-6B94-4A7B-AB3D-FD006414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1BB4E-CC26-4AF3-915A-628AE64A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EAF12-C684-49C8-9586-894E4766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FC9A-0C77-4904-A17E-0C27EC2E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A86E0-0D0C-4932-BA36-07181662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30A-4E8F-40AE-81F1-EFAE22B7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6C7F-448B-4B28-8824-2C799F58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ABA0B-EBC6-4862-A4AA-DE9DC56C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60EE5-9A48-45BF-BD15-8C198E57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0BF5-2D87-4A7E-9AFB-5AAA83E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0AF05-9336-46E7-85A2-2B410247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C73C8-108C-4F26-87D2-50466E1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C7506-F262-4657-9063-EFC7CD08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D143-42C2-447E-8FA0-C909C141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28330-D7B3-4A9B-98F0-A5989561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A8679-5B13-47BE-8AA7-5162EF3E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DD8-C705-474E-9E8D-BDA4B55C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5D692-EA12-46D5-BC39-4E04E7FA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AA6F-EE4E-4AEF-BB62-0293C517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B682-C772-4D19-9389-F6AE780F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E950-67EB-46FD-82CA-B6E2DDD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780AC-A1D9-483C-B32C-05B3EE14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ED0EC-0585-414D-ABAE-4D969A25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DD0C-2AB1-405A-B8B1-154696E5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B817-04D6-4063-82EC-B887634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C4B8-BFAD-428B-8D5C-3E5E4204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F1DA-C68D-41F1-8A41-53767965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301-4607-400A-97E0-80830E03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FFCD7-3CD5-4583-B671-46ED2BCA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017C6-F1A3-4346-8652-B43E130C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D7870-F296-4BE4-B123-417CD68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51A4-2DF2-40B7-B187-1BB1763F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ABA3-39D3-494B-856F-D8AED3B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BBFE6-7EAA-4BBE-A834-4A461D89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E6A51-697C-4B87-AD39-BC8301ED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2E9E-FFF6-47E8-850E-955FC5D7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7772-8FDE-4D9A-B2A0-5C303A0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0AEB5-922D-47FA-B192-3B1BBAF5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A83-06CB-427F-B4EE-D1EDF81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2B755-3EE5-47C6-B688-9BE2F3A8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A5C74-3819-43BF-AEF1-CEA67ECA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FBF1-B946-4503-814F-2981F9D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D8AE6-6F1B-46CB-BB2C-F5C9C481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7E320-B634-49FD-A311-95BC9B88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25877-0383-4A8C-BDE5-101B66C3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27237-10A3-4918-870B-2C22165E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8264B-A9B6-4346-82C1-79175D92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EDD2E-61AE-4395-B98F-3B7777A9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BCDAF-ABF9-464D-B671-BAA673D4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249-EED3-49B9-A8B5-73E555F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BA7E-716B-445B-9111-296990E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7FDF-DBC7-45AB-94F2-648EEAF4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B01DE-B929-45F7-98F5-0F70D94F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7454-284E-45F4-A1ED-7FA7CA34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29FF6-7251-4976-8BCE-6F090904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D95-7844-401F-BCD9-6B70E39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7CFA-32FB-4D8B-AB22-6F535297C17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3616-6681-4F54-A531-6C17285EA17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FDF4-4923-41B0-B729-345F04352A9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044D-7E09-4DA6-945A-E87C4C0B934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E033-9F30-48A3-8F3E-7DDFAA5EE5A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90A8-E472-435C-BD8A-3C082AA54F9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A4F-3AAD-43A7-9578-B9A9D51A164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sit Argen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9" descr="http://www.questconnect.org/images/argent-map.gif"/>
          <p:cNvPicPr/>
          <p:nvPr/>
        </p:nvPicPr>
        <p:blipFill>
          <a:blip r:embed="rId1"/>
          <a:stretch/>
        </p:blipFill>
        <p:spPr>
          <a:xfrm>
            <a:off x="2743200" y="1249200"/>
            <a:ext cx="4572000" cy="53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ernate Ener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 Pow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ibutes a 0.21% to the energ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marily used for pumping drinking wa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rriers to Develop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ck of incen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vernment intervention in energy mar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to fi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ramework in Pl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onal Law 26, 190/2006 sets a target that renewable energy should meet 8% of total demand by 201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0" name="Picture 7" descr="thumbnail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"/>
          <p:cNvPicPr/>
          <p:nvPr/>
        </p:nvPicPr>
        <p:blipFill>
          <a:blip r:embed="rId2"/>
          <a:stretch/>
        </p:blipFill>
        <p:spPr>
          <a:xfrm>
            <a:off x="76201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8021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lternate Energ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iofue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orld’s largest export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largest producer of biodiesel, mostly made from soybean o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w mandates a 5% biofuels mix in gasoline and dies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9" descr="thumbnail"/>
          <p:cNvPicPr/>
          <p:nvPr/>
        </p:nvPicPr>
        <p:blipFill>
          <a:blip r:embed="rId1"/>
          <a:stretch/>
        </p:blipFill>
        <p:spPr>
          <a:xfrm>
            <a:off x="4952880" y="4191120"/>
            <a:ext cx="18702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rgentina for Busines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4" descr="thumbnail"/>
          <p:cNvPicPr/>
          <p:nvPr/>
        </p:nvPicPr>
        <p:blipFill>
          <a:blip r:embed="rId1"/>
          <a:stretch/>
        </p:blipFill>
        <p:spPr>
          <a:xfrm>
            <a:off x="2057400" y="2590920"/>
            <a:ext cx="5562720" cy="311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usiness Etiquet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Relationship-driven culture, build networks and use them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Like to do business with people they know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f a favor is done for you, you will eventually be called upon to return favor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efer face-to-face meeting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void confrontatio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how deference and respect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archy is important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ppointments are necessary, arrive on ti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ave all printed material in English and Spanish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eetings are for discussion and exchange of ideas, decisions are not ma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nvironmental Issu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fores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il degrad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ertif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ir pollu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ater pollu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conom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bor fo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griculture – 5%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dustry – 23%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– 72%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employment rate - 7.9%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lation rate – 22%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5000">
    <p:wheel spokes="2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atural Resour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ertile plains of the pampa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ineral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Zin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i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pp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ron o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ngane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trole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ran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riculture Produ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unflower seed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m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oybea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Grap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r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bacco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eanut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e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ea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ivestock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dustri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47560" y="1447560"/>
            <a:ext cx="7499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od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tor vehic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umer dur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xti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mic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trochemic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769608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ANd9GcTKWRkrpKYPNWzvrrmYzXZH2UggWXxUfztpW4jKQXFrXq9prT1S"/>
          <p:cNvPicPr/>
          <p:nvPr/>
        </p:nvPicPr>
        <p:blipFill>
          <a:blip r:embed="rId2"/>
          <a:stretch/>
        </p:blipFill>
        <p:spPr>
          <a:xfrm>
            <a:off x="5029200" y="4648320"/>
            <a:ext cx="241920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9647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port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ils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egetable oi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u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ai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mport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chiner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ehicles and transport produ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hemica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troleum and natural g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 advTm="5000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01:13:34Z</dcterms:created>
  <dc:creator>bevans</dc:creator>
  <dc:description/>
  <dc:language>en-US</dc:language>
  <cp:lastModifiedBy>bevans</cp:lastModifiedBy>
  <dcterms:modified xsi:type="dcterms:W3CDTF">2011-08-12T15:41:18Z</dcterms:modified>
  <cp:revision>52</cp:revision>
  <dc:subject/>
  <dc:title>Argentina</dc:title>
</cp:coreProperties>
</file>