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3FD-C121-4762-A70D-5F711A8B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7C4-49DA-43E4-BF29-7ED01616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F0F-C37C-4AA6-A06A-C6DE563A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215-014B-4C5B-A7FA-DE3E289E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1F2-45A5-45F8-8332-880195A2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B01-0A95-4D29-B3BF-5CDA1D5E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600-62DC-4384-9680-43106951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D88-7AC8-427C-8CCB-26F58C7A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4A68-7F4E-4247-81A0-1270EF97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7CF-BBC0-4F99-81EA-17030070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746-D164-4289-8FF0-08A9F1AD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474-12CE-4B36-8B39-6AC900DF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3B56-7C6B-4476-AD42-07C5ADC34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G_entirecarsecti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Magneto"/>
              </a:rPr>
              <a:t>Custom Vintage Auto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echnical"/>
              </a:rPr>
              <a:t>Designer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chnical"/>
              </a:rPr>
              <a:t>Lyn Samaniego, Rana Kap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chnical"/>
              </a:rPr>
              <a:t>Brady Aseret, and David Ku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Magneto"/>
              </a:rPr>
              <a:t>Lyn Samanieg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810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chnical"/>
              </a:rPr>
              <a:t>Message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chnical"/>
              </a:rPr>
              <a:t>Chat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chnical"/>
              </a:rPr>
              <a:t>Image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chnical"/>
              </a:rPr>
              <a:t>Member Cre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chnical"/>
              </a:rPr>
              <a:t>Chrysler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ukyou11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30477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Magneto"/>
              </a:rPr>
              <a:t>Brady Asere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chnical"/>
              </a:rPr>
              <a:t>Redirect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chnical"/>
              </a:rPr>
              <a:t>Order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chnical"/>
              </a:rPr>
              <a:t>Mailing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chnical"/>
              </a:rPr>
              <a:t>Invisible Cook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chnical"/>
              </a:rPr>
              <a:t>Ford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oy" descr=""/>
          <p:cNvPicPr/>
          <p:nvPr/>
        </p:nvPicPr>
        <p:blipFill>
          <a:blip r:embed="rId1"/>
          <a:srcRect l="0" t="0" r="0" b="7496"/>
          <a:stretch/>
        </p:blipFill>
        <p:spPr>
          <a:xfrm>
            <a:off x="1676520" y="1981080"/>
            <a:ext cx="2143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Magneto"/>
              </a:rPr>
              <a:t>Rana Kap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chnical"/>
              </a:rPr>
              <a:t>Meta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chnical"/>
              </a:rPr>
              <a:t>Background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chnic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chnical"/>
              </a:rPr>
              <a:t>E-mail ac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chnical"/>
              </a:rPr>
              <a:t>Source cre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chnical"/>
              </a:rPr>
              <a:t>Import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rana1" descr=""/>
          <p:cNvPicPr/>
          <p:nvPr/>
        </p:nvPicPr>
        <p:blipFill>
          <a:blip r:embed="rId1"/>
          <a:srcRect l="15018" t="15018" r="15018" b="15018"/>
          <a:stretch/>
        </p:blipFill>
        <p:spPr>
          <a:xfrm>
            <a:off x="4648320" y="21337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Magneto"/>
              </a:rPr>
              <a:t>David Kub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19360" y="2133720"/>
            <a:ext cx="38098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chnic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chnical"/>
              </a:rPr>
              <a:t>Main Pag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chnical"/>
              </a:rPr>
              <a:t>Marqu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chnical"/>
              </a:rPr>
              <a:t>Ed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chnical"/>
              </a:rPr>
              <a:t>General Motors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oy1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2893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08:06:23Z</dcterms:created>
  <dc:creator>Rudy</dc:creator>
  <dc:description/>
  <dc:language>en-US</dc:language>
  <cp:lastModifiedBy>Heald College</cp:lastModifiedBy>
  <dcterms:modified xsi:type="dcterms:W3CDTF">2001-01-11T18:40:16Z</dcterms:modified>
  <cp:revision>6</cp:revision>
  <dc:subject/>
  <dc:title>Custom Vintage Au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842144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