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422-DDA8-46DE-8EBD-4439106E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189-961D-4B4E-A830-00274573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9C9-BFD6-4905-BF73-535A6554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F4E-0DD9-49AE-A00D-BB2507C7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EF0-A199-4352-ADCC-15527B98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E0E-4172-4326-B6B4-2BFB27C4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80A-E840-4064-8FC1-D679C198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B5F-BC9D-4628-AFEC-FC39C13C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D20-431E-48C6-B362-CCA876B2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2BE-37B6-4F87-B165-C86CF768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CE2-61C9-4334-8E0D-A749523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5CF-C56E-4B14-8E3B-B2194EA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7B8A-1524-494E-A9FD-1EA81F061E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itiquing Popular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Session 5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pplied Learning Pape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e next we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4429080" cy="5353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352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47920" y="38862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81280" y="60958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stthomasu.ca/inkshed/nletta03/bump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of the more inadequate ways that Christians go about offering a critique of popular culture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have been the effects of Christian boycott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4267080"/>
            <a:ext cx="2362320" cy="2006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472464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200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are the problems with equating patriotism with Christian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696440" cy="5765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 what are Christians know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24172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benefits might there be for the church and our culture if Christians performed the task of cultural criticism more adequatel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ames 1: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720" y="10663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f any of you lacks wisdom, let him ask of God, who gives to all generously and without reproach, and it will be given to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91440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5-19T02:26:02Z</dcterms:modified>
  <cp:revision>141</cp:revision>
  <dc:subject/>
  <dc:title>Discipleship Across the Lifespan</dc:title>
</cp:coreProperties>
</file>