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50C-5654-46DB-AD03-C5A4C22C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29C-FCAB-44C0-96EC-356F3E3F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BF4-2D03-46DD-B830-9B8D853E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232-9A1D-4280-BB38-B809B6AF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62D-4118-443B-B482-BDC616C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806-70EE-4657-A58D-F90B9DE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A3F-90D7-42AC-AE77-80EAC81E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409-AD7F-4AF1-83C7-14B65F50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A02-4861-426B-A147-53A8FFF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AFC-7924-4C0D-B280-7A0AFFF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7C4-92BE-47EB-B85D-705C7791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3BB-1A24-48D8-9F4A-EF3D7E2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FB3D-6400-44B2-AAF9-996B735DD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erning Cultural 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ession 5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mans 14:11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990720"/>
            <a:ext cx="6629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written, “As I live, says the Lord, every knee shall bow to Me, And every tongue shall give praise to God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144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5120" y="44956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es this promise relate to the cultures of the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should be the Church’s role in criticizing popular cultur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70160"/>
            <a:ext cx="403848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ditional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26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between clergy and 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326088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270160"/>
            <a:ext cx="403884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ormed 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33720" y="380880"/>
            <a:ext cx="49528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tio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gdom of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4038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life versus contemplativ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206960"/>
            <a:ext cx="4038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s a call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2:15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God took the man and put him into the garden of Eden to cultivate it and keep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Thessalonians 4:9-1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s to the love of the brethren, you have no need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rite to you, for you yourselves are taught by God to love one another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indeed you do practice it toward all the brethren who are in all Macedonia. But we urge you, brethren, to excel still more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o make it your ambition to lead a quiet life and attend to your own business and work with your hands, just as we commanded you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you may behave properly toward outsiders and not be in any n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3623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819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260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5943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581280" y="4191120"/>
            <a:ext cx="1752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58680" y="4191120"/>
            <a:ext cx="1447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Thessalonians 4:9-1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s to the love of the brethren, you have no need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rite to you, for you yourselves are taught by God to love one another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indeed you do practice it toward all the brethren who are in all Macedonia. But we urge you, brethren, to excel still more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o make it your ambition to lead a quiet life and attend to your own business and work with your hands, just as we commanded you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you may behave properly toward outsiders and not be in any n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416400"/>
            <a:ext cx="1676520" cy="761760"/>
          </a:xfrm>
          <a:prstGeom prst="horizontalScroll">
            <a:avLst>
              <a:gd name="adj" fmla="val 12500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429000"/>
            <a:ext cx="1676160" cy="762120"/>
          </a:xfrm>
          <a:prstGeom prst="horizontalScroll">
            <a:avLst>
              <a:gd name="adj" fmla="val 12500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hesians 4:28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him who steals steal no longer; but rather let him labor, performing with his own hands what is good, in order that he may h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with him who has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70160"/>
            <a:ext cx="403848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ditional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26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between clergy and 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326088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270160"/>
            <a:ext cx="403884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ormed 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33720" y="380880"/>
            <a:ext cx="49528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tio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gdom of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191120"/>
            <a:ext cx="4038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life versus contemplativ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4206960"/>
            <a:ext cx="4038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s a call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257800"/>
            <a:ext cx="670572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been the ex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ach of these two view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 of Biblical Concept of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Come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e fall, there is a secular view of work that stands in opposition to the Biblical view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s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ider the varieties and implications of how Christians relate to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flect upon the task of Christian criticism of popular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actice the craft of learning from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ider the concept of vocation in the Kingdom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um up what we have learned about Christian thinking and li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70160"/>
            <a:ext cx="4038480" cy="1311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ecular View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f Work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270160"/>
            <a:ext cx="4038480" cy="1311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iblical View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f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33720" y="380880"/>
            <a:ext cx="49528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tio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gdom of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565440"/>
            <a:ext cx="4038480" cy="2987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rk in order to get status or to get money to do the things that I really want to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565440"/>
            <a:ext cx="4038480" cy="2987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rk because God has designed me for a labor of service to Himself and to my fellow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 of Biblical Concept of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Come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e fall, there is a secular view of work that stands in opposition to the Biblical view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realize that my earthly work is a service, not only to men, but also to God, then it takes on eternal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blical View of Work brings a sense of 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plied Learning Pap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nex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Review of Church Mode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990720"/>
            <a:ext cx="4267440" cy="266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versionist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38760" y="1219320"/>
            <a:ext cx="4038480" cy="1828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1295280"/>
            <a:ext cx="1218960" cy="1067040"/>
          </a:xfrm>
          <a:prstGeom prst="upArrowCallout">
            <a:avLst>
              <a:gd name="adj1" fmla="val 41055"/>
              <a:gd name="adj2" fmla="val 28559"/>
              <a:gd name="adj3" fmla="val 50389"/>
              <a:gd name="adj4" fmla="val 100778"/>
            </a:avLst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4920" y="24382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’s Re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295280"/>
            <a:ext cx="1523880" cy="144792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57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64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71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Forming students to transform the world through Christ”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76360" y="380880"/>
            <a:ext cx="2438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U’s Mot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95480"/>
            <a:ext cx="6400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commit Trinity to an explicit cultural strateg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good about this mot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liabilities in this mot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we presume that one strategy is best for all Christians in all times and all plac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1676520"/>
            <a:ext cx="6400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consensus as to the best cultural strategy for Christians to assume today in our North American contex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ultiple strategies by Christians in the same cultural context enrich and advance God’s kingdom – or do they conflict, possibly negate and thus hinder kingdom adv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lture and Church in Ten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1680" y="1143000"/>
            <a:ext cx="8537400" cy="533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3960" y="55656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the world, but not of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1600200"/>
            <a:ext cx="8080200" cy="3660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8040" y="441972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’s Real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0040" y="1752480"/>
            <a:ext cx="2440080" cy="2136960"/>
          </a:xfrm>
          <a:prstGeom prst="upArrowCallout">
            <a:avLst>
              <a:gd name="adj1" fmla="val 41036"/>
              <a:gd name="adj2" fmla="val 28546"/>
              <a:gd name="adj3" fmla="val 50389"/>
              <a:gd name="adj4" fmla="val 100778"/>
            </a:avLst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6600" y="1752480"/>
            <a:ext cx="3049560" cy="289872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971800"/>
            <a:ext cx="1905120" cy="685800"/>
          </a:xfrm>
          <a:prstGeom prst="leftRightArrow">
            <a:avLst>
              <a:gd name="adj1" fmla="val 50000"/>
              <a:gd name="adj2" fmla="val 55302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are Christians to relate to the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3733920" cy="441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, nor the things in the world. If anyone loves the world, the love of the Father is not in him (1 John 2:15)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981080"/>
            <a:ext cx="3733560" cy="441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 so loved the world, that He gave His only begotten Son, that whoever believes in Him should not perish, but have eternal life (John 3: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337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mans 8:20-2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2640" y="990720"/>
            <a:ext cx="6629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reation was subjected to futility, not of its own will, but because of Him who subjected it, in hop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the creation itself also will be set free from its slavery to corruption into the freedom of the glory of the children of Go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we know that the whole creation groans and suffers the pains of childbirth together until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29718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34732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6-14T12:41:00Z</dcterms:modified>
  <cp:revision>156</cp:revision>
  <dc:subject/>
  <dc:title>Discipleship Across the Lifespan</dc:title>
</cp:coreProperties>
</file>