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B75-CE21-41AD-BD3C-47665CDE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1EB-F9C3-47C6-8B80-2340429B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7E5-B681-4D55-AB3D-C877B80E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191-FCBF-476C-8B49-E8AE3F25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847-6E23-4BB2-840E-EF78DD7C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6D3-EB54-48CF-91D5-FCCB4116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79D-5F0F-4335-9FF2-65B3C848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9AE-1E32-4A07-9732-7F0665B3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29B-8447-4AB3-96C6-AC10DD7C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2D3-5312-4955-BA51-F34AC42A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BE3-59F8-4842-9B3E-94803D7A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1B5-233F-4537-A183-A27C965A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9536-CC03-4206-A50C-74AC81EB61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dernity, Christian Liberalism &amp; Evangelicalis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Sessio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Fundamentali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447560"/>
            <a:ext cx="6019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rrancy of the Script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irgin birth and the deity of Jes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stitutionary atonement by grace through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ily resurrection of Jes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iteral second coming of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ohn Gresham Mach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159984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or of Greek New Testament at Princeton Semi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ot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ristianity and Liberal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which he maintained that Liberalism was the chief modern rival to Christia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847880" cy="2895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52680" y="1066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881 – 193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724280"/>
            <a:ext cx="8839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d in controversy after Harry Emerson Fosdick's May 1922 sermon “Shall the Fundamentalists Win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minar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38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umbia Theological Sem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vard Divinity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theran Theological Sem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eton Theological Sem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Theological Sem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le Divinity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1640" y="106632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umbia International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llas Theological Sem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x Theological Sem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ormed Theological Sem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nity Evangelical Divinity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minster Theological Sem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Jesus Move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197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ing a return to First Century Christia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vary Cha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395520" cy="4473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merging Chur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modern 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struc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ve spirit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rows from traditions of 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2971800" cy="257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79600"/>
            <a:ext cx="72388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n you think of ways in which conservative Christianity also may sometimes adopt an accommodationist approach to culture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62520" y="5181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57960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, if anything, surprised you about the history of American fundamentalism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09880" y="48769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579600"/>
            <a:ext cx="57150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does learning something about the history of American evangelicalism help you live more faithfully as a Christian now? 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r, does it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9880" y="518148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579600"/>
            <a:ext cx="67057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do you think it will mean for “the church to be the church” in an American culture that does not share the church’s Christian view of the world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9880" y="52578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 Corinthians 10:3-5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10663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ough we walk in the flesh, we do not war according to the flesh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weapons of our warfare are not of the flesh, but divinely powerful for the destruction of fortresse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a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oying speculations and every lofty thing raised up against the knowledge of God,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a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every thought captive to the obedience of Chris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914400"/>
            <a:ext cx="7391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ass Objectiv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nderstand the impact of modernity and post modernity upon Christia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sider the roots of contemporary evangelic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nalyze the workings and pulse of popular culture in order to reflect Christianly about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manuel K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19520" y="1676160"/>
            <a:ext cx="5867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or of Logic and Metaphysics at the University of Königsberg in Prus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ed issues of logic, ethics, and epistim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raced agnos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1066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724 - 18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876920"/>
            <a:ext cx="6095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d therefore to remove knowledge, in order to make room for belief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193968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manuel K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76160"/>
            <a:ext cx="6477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egorical Imperative:  “So act that your principle of action might safely be made a law for the whole worl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w duty as the great foundation of 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 can know anything except by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al duty presupposes a Ju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066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724 - 18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193968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org Wilhelm Friedrich Hege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is + Antithesis = Synthe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is rel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teaches us that man learns nothing from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1066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770 - 183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444760" cy="3094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760" y="4876920"/>
            <a:ext cx="8486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ligions possess some fragmentary insight into the truth and all are necessary steps along th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Jewish father converted to the Protestant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mbraced athe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ed Hegel’s concept of thesis, antithesis, and synthesis to econ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nvisioned a classless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1066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818 - 188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02280" y="1676520"/>
            <a:ext cx="272268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520" y="1676160"/>
            <a:ext cx="5867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d medicine &amp; th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-year voyage aboard the HMS Bea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Origin of the Species by Means of Natural Sel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18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2308320" cy="3047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352680" y="1066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809 – 188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4876920"/>
            <a:ext cx="6095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ed to agnosticism after the death of one of his daugh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ulius Wellhaus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1676160"/>
            <a:ext cx="6248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ed Darwinian evolution to the question of the origin of the Pentate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ed Moses as the author of the Pentate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zed that the Pentateuch had originally consisted of four independent documents brought together by a later red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1066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844 – 19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36520" y="1736640"/>
            <a:ext cx="1797120" cy="26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ulius Wellhaus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1676160"/>
            <a:ext cx="655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 sources were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 – Stands for Jehov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– Stands for Elo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– The book of Deuter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– Priestly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sulting theory is known as the “Documentary Hypothesis” or the JEDP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1066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844 – 19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36520" y="1736640"/>
            <a:ext cx="1797120" cy="26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6-05T12:32:51Z</dcterms:modified>
  <cp:revision>149</cp:revision>
  <dc:subject/>
  <dc:title>Discipleship Across the Lifespan</dc:title>
</cp:coreProperties>
</file>