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99E-1397-485F-B05A-5E838816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8A8-F1D4-43B6-A145-7DB34E00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E03-8EE5-4E36-A7FB-83E6BFB3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342-944E-4706-9479-12540644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C07-5335-461D-B13A-CC851EA3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9B0-88D2-43B7-B420-C092D9D7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908-0A5C-4753-B6AB-9A6EB317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BFE-2FBA-495C-A7A2-A8C39636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BA9-3890-4F1A-9DC7-3FC5BA95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417-58F8-495A-B612-0910D3B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B15-E6BC-4FE1-AC65-4DD97CE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0DE-9A54-4A17-B486-D35623EE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FFC3-A798-4358-A788-C5E66F730B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pular Art &amp;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Sess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47960" y="6217920"/>
            <a:ext cx="3429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Prince Caspian)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19360" y="304920"/>
            <a:ext cx="42670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c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Aslan, you're big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la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That is because you are older, little on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c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Not because you ar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la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I am not. But every year you grow, you will find me bigge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543800" cy="607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495680" y="5335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three and a half centuries ago, linked by faith and bound by a common desire for liberty, a small band of pilgrims sought out a place in the New World where they could worship according to their own beliefs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353880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ur Roles for Popular A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62720" y="1752480"/>
            <a:ext cx="218412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298296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433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35640" y="1676520"/>
            <a:ext cx="30002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83680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289548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am Tim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7271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for Group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657600" y="2898720"/>
            <a:ext cx="17524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ohn Calvin,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ommentary on Genesi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vention of the arts, and other things which serve the common use and conveniences of life, is a gift of God by no means to be despised and a faculty worthy of commend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32240" y="1295280"/>
            <a:ext cx="33022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istian world view impacts how we see the God, the world, and our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have used different approaches in the past and present to deal with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our culture will always impact us, an awareness of that impact will help us to evaluate that impact and, when necessary, to counter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ms of Music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ent mu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180180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62520" y="5257800"/>
            <a:ext cx="4038480" cy="1442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867280" y="2666880"/>
            <a:ext cx="27212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salm 33:1-3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for joy in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you righteous on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is becoming to the uprigh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e thanks to the LORD with the lyr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 praises to Him with a harp of ten str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g to Him a new song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skillfully with a shout of jo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9144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salm 150:3-5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aise Him with trumpet soun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m with harp and lyr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aise Him with timbrel and dancing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m with stringed instruments and pip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aise Him with loud cymbal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Him with resounding cymb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9144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ms of Music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ent mu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al mu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s &amp; Jaz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 &amp; Ro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1801800" cy="226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62520" y="5257800"/>
            <a:ext cx="4038480" cy="1442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867280" y="2666880"/>
            <a:ext cx="27212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of the similarities among movie theaters, concert halls, and church sanctuaries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hould be a Christian response to popular movies and entertainmen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895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aw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vely enjoy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40384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m as a bridge to teach truth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m for their insights into today’s culture an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mni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One day he’ll be here, and the next he won’t.  But you mustn’t press him.  After all, he’s not a tame l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56386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c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o, but he’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6-02T13:59:43Z</dcterms:modified>
  <cp:revision>125</cp:revision>
  <dc:subject/>
  <dc:title>Discipleship Across the Lifespan</dc:title>
</cp:coreProperties>
</file>