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694-A609-4BE2-B662-410EB43D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6EE-F963-455A-9AA9-02454C7D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E68-41A6-458F-A2C6-43EB5C55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65A-5DC3-4A6B-8DBB-D0DF9CE4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131-2DA2-4D9B-9EBF-0F1D6EB1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0A0-FA09-4948-BCBB-3B499F34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4E8-876D-4284-82C5-961F3684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37C-B217-467F-9233-4C53C6F2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381-757F-4427-BB26-7C0544E7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962-EA1F-406E-9AD3-2B09EA52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DC7-827C-46A9-8BD4-27E6B97A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2601-EF82-4D17-9195-E71DA5EB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0B89-AB90-4D47-9C6E-F514F91035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iving Faithfully No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Sess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99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103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07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14983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638680" y="3124080"/>
            <a:ext cx="2819520" cy="1798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4648320" y="228600"/>
            <a:ext cx="4267080" cy="2669400"/>
            <a:chOff x="4648320" y="228600"/>
            <a:chExt cx="4267080" cy="2669400"/>
          </a:xfrm>
        </p:grpSpPr>
        <p:sp>
          <p:nvSpPr>
            <p:cNvPr id="114" name=""/>
            <p:cNvSpPr/>
            <p:nvPr/>
          </p:nvSpPr>
          <p:spPr>
            <a:xfrm>
              <a:off x="4648320" y="228600"/>
              <a:ext cx="426708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280" y="2438280"/>
              <a:ext cx="41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62440" y="457200"/>
              <a:ext cx="403812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86600" y="533160"/>
              <a:ext cx="1218600" cy="1067040"/>
            </a:xfrm>
            <a:prstGeom prst="upArrowCallout">
              <a:avLst>
                <a:gd name="adj1" fmla="val 41043"/>
                <a:gd name="adj2" fmla="val 28551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08600" y="167616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00600" y="533160"/>
              <a:ext cx="152352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267080" y="0"/>
            <a:ext cx="381240" cy="2895480"/>
            <a:chOff x="4267080" y="0"/>
            <a:chExt cx="381240" cy="2895480"/>
          </a:xfrm>
        </p:grpSpPr>
        <p:sp>
          <p:nvSpPr>
            <p:cNvPr id="121" name=""/>
            <p:cNvSpPr/>
            <p:nvPr/>
          </p:nvSpPr>
          <p:spPr>
            <a:xfrm>
              <a:off x="4267080" y="1066680"/>
              <a:ext cx="38124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7080" y="0"/>
              <a:ext cx="38124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27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131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35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819520" cy="1798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4648320" y="838080"/>
            <a:ext cx="4267080" cy="2669400"/>
            <a:chOff x="4648320" y="838080"/>
            <a:chExt cx="4267080" cy="2669400"/>
          </a:xfrm>
        </p:grpSpPr>
        <p:sp>
          <p:nvSpPr>
            <p:cNvPr id="141" name=""/>
            <p:cNvSpPr/>
            <p:nvPr/>
          </p:nvSpPr>
          <p:spPr>
            <a:xfrm>
              <a:off x="4648320" y="83808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4640" y="304776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1320" y="99036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3600" y="114300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2200" y="121896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000" y="243828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267080" y="837720"/>
            <a:ext cx="381240" cy="2667600"/>
            <a:chOff x="4267080" y="837720"/>
            <a:chExt cx="381240" cy="2667600"/>
          </a:xfrm>
        </p:grpSpPr>
        <p:sp>
          <p:nvSpPr>
            <p:cNvPr id="148" name=""/>
            <p:cNvSpPr/>
            <p:nvPr/>
          </p:nvSpPr>
          <p:spPr>
            <a:xfrm>
              <a:off x="4267080" y="3124080"/>
              <a:ext cx="38124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267080" y="837720"/>
              <a:ext cx="38124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54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158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62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724280" y="274680"/>
            <a:ext cx="396252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en the world recognizes the church as a part of society, should Christians withdraw for the sake of purity or take advantage of the situation and attempt to influence the cultu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70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174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78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819520" cy="1798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4572000" y="2819520"/>
            <a:ext cx="4267080" cy="2669400"/>
            <a:chOff x="4572000" y="2819520"/>
            <a:chExt cx="4267080" cy="2669400"/>
          </a:xfrm>
        </p:grpSpPr>
        <p:sp>
          <p:nvSpPr>
            <p:cNvPr id="184" name=""/>
            <p:cNvSpPr/>
            <p:nvPr/>
          </p:nvSpPr>
          <p:spPr>
            <a:xfrm>
              <a:off x="4572000" y="281952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22400" y="5029200"/>
              <a:ext cx="41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14640" y="3124440"/>
              <a:ext cx="182844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76760" y="342900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78800" y="350532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17800" y="401328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267080" y="2819520"/>
            <a:ext cx="304920" cy="2666880"/>
            <a:chOff x="4267080" y="2819520"/>
            <a:chExt cx="304920" cy="2666880"/>
          </a:xfrm>
        </p:grpSpPr>
        <p:sp>
          <p:nvSpPr>
            <p:cNvPr id="191" name=""/>
            <p:cNvSpPr/>
            <p:nvPr/>
          </p:nvSpPr>
          <p:spPr>
            <a:xfrm>
              <a:off x="4267080" y="4952880"/>
              <a:ext cx="30492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267080" y="2819520"/>
              <a:ext cx="30492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97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201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205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4876920" y="2717640"/>
            <a:ext cx="4267080" cy="2543040"/>
            <a:chOff x="4876920" y="2717640"/>
            <a:chExt cx="4267080" cy="2543040"/>
          </a:xfrm>
        </p:grpSpPr>
        <p:sp>
          <p:nvSpPr>
            <p:cNvPr id="210" name=""/>
            <p:cNvSpPr/>
            <p:nvPr/>
          </p:nvSpPr>
          <p:spPr>
            <a:xfrm>
              <a:off x="4876920" y="2717640"/>
              <a:ext cx="4267080" cy="2514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53240" y="480096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920" y="2860920"/>
              <a:ext cx="2057400" cy="18680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72200" y="3004920"/>
              <a:ext cx="1828800" cy="150876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00800" y="3076560"/>
              <a:ext cx="1219320" cy="1005840"/>
            </a:xfrm>
            <a:prstGeom prst="upArrowCallout">
              <a:avLst>
                <a:gd name="adj1" fmla="val 43566"/>
                <a:gd name="adj2" fmla="val 30306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5600" y="422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267080" y="380520"/>
            <a:ext cx="609840" cy="6477120"/>
            <a:chOff x="4267080" y="380520"/>
            <a:chExt cx="609840" cy="6477120"/>
          </a:xfrm>
        </p:grpSpPr>
        <p:sp>
          <p:nvSpPr>
            <p:cNvPr id="217" name=""/>
            <p:cNvSpPr/>
            <p:nvPr/>
          </p:nvSpPr>
          <p:spPr>
            <a:xfrm flipV="1">
              <a:off x="4267080" y="5274360"/>
              <a:ext cx="609840" cy="158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267080" y="380520"/>
              <a:ext cx="228600" cy="467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495680" y="355680"/>
            <a:ext cx="4267440" cy="2542680"/>
            <a:chOff x="4495680" y="355680"/>
            <a:chExt cx="4267440" cy="2542680"/>
          </a:xfrm>
        </p:grpSpPr>
        <p:sp>
          <p:nvSpPr>
            <p:cNvPr id="220" name=""/>
            <p:cNvSpPr/>
            <p:nvPr/>
          </p:nvSpPr>
          <p:spPr>
            <a:xfrm>
              <a:off x="4495680" y="355680"/>
              <a:ext cx="4267440" cy="2514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243864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10160" y="570960"/>
              <a:ext cx="4038480" cy="17240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34320" y="642600"/>
              <a:ext cx="1218960" cy="1005840"/>
            </a:xfrm>
            <a:prstGeom prst="upArrowCallout">
              <a:avLst>
                <a:gd name="adj1" fmla="val 43553"/>
                <a:gd name="adj2" fmla="val 30297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6320" y="172044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48320" y="642600"/>
              <a:ext cx="1523880" cy="136476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ich Model describes your Church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228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235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242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249" name="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6477120" y="1371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ich model makes the most sense to you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258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265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272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279" name="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6477120" y="1371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Priestho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4120" y="5410080"/>
            <a:ext cx="3581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ierarchical priest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2667240" cy="3543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703440" y="1676520"/>
            <a:ext cx="2449440" cy="35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0880" y="541008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esthood of all belie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200400" y="1600200"/>
            <a:ext cx="2666520" cy="4267080"/>
            <a:chOff x="3200400" y="1600200"/>
            <a:chExt cx="2666520" cy="4267080"/>
          </a:xfrm>
        </p:grpSpPr>
        <p:sp>
          <p:nvSpPr>
            <p:cNvPr id="292" name=""/>
            <p:cNvSpPr/>
            <p:nvPr/>
          </p:nvSpPr>
          <p:spPr>
            <a:xfrm>
              <a:off x="3200400" y="1600200"/>
              <a:ext cx="26665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ffff"/>
                  </a:solidFill>
                  <a:latin typeface="Arial"/>
                </a:rPr>
                <a:t>How does the principle of the priesthood relate to your life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4"/>
            <a:stretch/>
          </p:blipFill>
          <p:spPr>
            <a:xfrm>
              <a:off x="3846600" y="4572000"/>
              <a:ext cx="137376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nabapti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24280" y="152388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ion from the prevailing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leled by the Essenes in the first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04920" y="1447920"/>
            <a:ext cx="4267080" cy="2669400"/>
            <a:chOff x="304920" y="1447920"/>
            <a:chExt cx="4267080" cy="2669400"/>
          </a:xfrm>
        </p:grpSpPr>
        <p:sp>
          <p:nvSpPr>
            <p:cNvPr id="297" name=""/>
            <p:cNvSpPr/>
            <p:nvPr/>
          </p:nvSpPr>
          <p:spPr>
            <a:xfrm>
              <a:off x="304920" y="1447920"/>
              <a:ext cx="426708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840" y="36576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" y="17524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10040" y="16765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0" y="17524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65560" y="28954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hould Christians be involved in politic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engagement in politics necessarily result in a trade-off or some degree of compromi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809880" y="25909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ass Objectiv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sider the past history of the church to observe the different stances taken toward culture by Chris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flect upon the commands of the Bible for Christians with regard to culture – and the priorities or tensions which res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467480" cy="485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95120" y="380880"/>
            <a:ext cx="3429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re movements like the Religious Right similar to or different from the medieval papac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6400800" y="2286000"/>
            <a:ext cx="212256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65534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the relationship between the Great Commission and the Cultural Mandat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reat Commiss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294920" y="1066320"/>
            <a:ext cx="6629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sus came up and spoke to them, saying, “All authority has been given to Me in heaven and on earth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 therefore and make disciples of all the nations, baptizing them in the name of the Father and the Son and the Holy Spirit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aching them to observe all that I commanded you; and lo, I am with you always, even to the end of the age.” (Matthew 28:18-2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8380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ltural Mand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142640" y="1066320"/>
            <a:ext cx="6629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blessed them; and God said to them, “Be fruitful and multiply, and fill the earth, and subdue it; and rule over the fish of the sea and over the birds of the sky and over every living thing that moves on the earth.” (Genesis 1:2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8380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4114800" cy="1218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ultural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nda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41148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date to rule the world as the representatives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304920"/>
            <a:ext cx="4114800" cy="1218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rea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m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1523880"/>
            <a:ext cx="41148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ission to go into all the world and make dis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29718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a fruitful multi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29718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a fruitful multi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4038480"/>
            <a:ext cx="4114800" cy="2362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upon a delegated authority conferred to those made in the imag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95680" y="4038480"/>
            <a:ext cx="4114800" cy="2362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upon a delegated authority to those who are joined to Christ to whom has been given all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4724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ing the rule of Christ to the entir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1219320"/>
            <a:ext cx="3429000" cy="2305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imarily through making disciples of the n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33920" y="1905120"/>
            <a:ext cx="1523880" cy="990360"/>
          </a:xfrm>
          <a:prstGeom prst="rightArrow">
            <a:avLst>
              <a:gd name="adj1" fmla="val 50000"/>
              <a:gd name="adj2" fmla="val 64647"/>
            </a:avLst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304560" y="1218960"/>
            <a:ext cx="3429000" cy="2305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fulfill the cultural mandate toda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ichard Niebuh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62160" y="220968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against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of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above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transforming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and culture in paradox (a tension between the tw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114300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or at Y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66800" y="2286000"/>
            <a:ext cx="2662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Five Solas of the Reform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 scriptura ("by Scripture alone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 fide ("by faith alone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 gratia ("by grace alone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s Christus ("Christ alone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 Deo gloria ("glory to God alone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does a review of church history have to do with “living faithfully now?”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the Authority of the Bib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9480" y="2590920"/>
            <a:ext cx="3200400" cy="2286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man Catholic View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The Church is over the Bibl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05520" y="2590920"/>
            <a:ext cx="3200400" cy="2286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ormed View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Sola Scriptur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3276720"/>
            <a:ext cx="1600200" cy="990360"/>
          </a:xfrm>
          <a:prstGeom prst="leftRightArrow">
            <a:avLst>
              <a:gd name="adj1" fmla="val 47111"/>
              <a:gd name="adj2" fmla="val 4792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ow are these manifested in today’s churches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341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348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355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362" name="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8" name="" descr=""/>
          <p:cNvPicPr/>
          <p:nvPr/>
        </p:nvPicPr>
        <p:blipFill>
          <a:blip r:embed="rId6"/>
          <a:stretch/>
        </p:blipFill>
        <p:spPr>
          <a:xfrm>
            <a:off x="6477120" y="1371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6201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ffff"/>
                </a:solidFill>
                <a:latin typeface="Arial"/>
              </a:rPr>
              <a:t>A little thing is a little thing, but faithfulness in a little thing is a big thing.</a:t>
            </a:r>
            <a:br>
              <a:rPr sz="4000"/>
            </a:br>
            <a:r>
              <a:rPr b="0" i="1" lang="en-US" sz="4000" spc="-1" strike="noStrike">
                <a:solidFill>
                  <a:srgbClr val="ccffff"/>
                </a:solidFill>
                <a:latin typeface="Arial"/>
                <a:ea typeface="Arial"/>
              </a:rPr>
              <a:t>―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Hudson Tayl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 Corinthians 10:1-4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10663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do not want you to be unaware, brethren, that our fathers were all under the cloud and all passed through the sea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all were baptized into Moses in the cloud and in the sea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all ate the same spiritual food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all drank the same spiritual drink, for they were drinking from a spiritual rock which followed them; and the rock was Chri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914400"/>
            <a:ext cx="7391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 Corinthians 10:5-6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0663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theless, with most of them God was not well-pleased; for they were laid low in the wildernes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w these things happened as examples for us, so that we would not crave evil things as they also crav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914400"/>
            <a:ext cx="7391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 Corinthians 10:7-10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0663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o not be idolaters, as some of them were; as it is written, "The people sat down to eat and drink, and stood up to play."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r let us act immorally, as some of them did, and twenty-three thousand fell in one day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r let us try the Lord, as some of them did, and were destroyed by the serpent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r grumble, as some of them did, and were destroyed by the destroy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14400"/>
            <a:ext cx="7391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 Corinthians 10:1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720" y="10663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se things happened to them as an example, and they were written for our instruction, upon whom the ends of the ages have c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914400"/>
            <a:ext cx="7391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65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69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73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1498320" cy="190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638680" y="3124080"/>
            <a:ext cx="2819520" cy="1798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83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87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91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724280" y="274680"/>
            <a:ext cx="3962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pared to the early church, is it harder, easier, or about the same for us to be Christians in our world toda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6-02T14:39:46Z</dcterms:modified>
  <cp:revision>135</cp:revision>
  <dc:subject/>
  <dc:title>Discipleship Across the Lifespan</dc:title>
</cp:coreProperties>
</file>