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7A3-9C45-40C4-81C2-035B1624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671-0B2D-4E20-BC53-02A9193D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E0B-0135-4C19-8A38-5C4D246A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4A5-E7B9-4DD3-97C6-FB835F58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8155-83CF-44EF-A97A-09F1B922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FC73-6102-4FAD-8020-8F1240F3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4BE-FF8D-47D3-AA56-25BB622F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CAA-C694-4022-B130-9CBFC3A2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3311-5EB7-4D14-9E4A-A41DB8E6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800-4862-437D-8A68-FA1D7B44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A4B-3C2F-4649-A035-595D7D9F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D15-61AA-496F-B780-EA002A5A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AE6B-41BC-4C1A-B661-979C574D57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Christian World View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d its Implic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Sessio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50292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ristians and Cultu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724280" y="990720"/>
            <a:ext cx="4267440" cy="2669400"/>
            <a:chOff x="4724280" y="990720"/>
            <a:chExt cx="4267440" cy="2669400"/>
          </a:xfrm>
        </p:grpSpPr>
        <p:sp>
          <p:nvSpPr>
            <p:cNvPr id="84" name=""/>
            <p:cNvSpPr/>
            <p:nvPr/>
          </p:nvSpPr>
          <p:spPr>
            <a:xfrm>
              <a:off x="4724280" y="990720"/>
              <a:ext cx="4267440" cy="2666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0600" y="3200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38760" y="1219320"/>
              <a:ext cx="4038480" cy="18288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62920" y="1295280"/>
              <a:ext cx="1218960" cy="1067040"/>
            </a:xfrm>
            <a:prstGeom prst="upArrowCallout">
              <a:avLst>
                <a:gd name="adj1" fmla="val 41055"/>
                <a:gd name="adj2" fmla="val 28559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8492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76920" y="1295280"/>
              <a:ext cx="152388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8600" y="990720"/>
            <a:ext cx="4267080" cy="2669400"/>
            <a:chOff x="228600" y="990720"/>
            <a:chExt cx="4267080" cy="2669400"/>
          </a:xfrm>
        </p:grpSpPr>
        <p:sp>
          <p:nvSpPr>
            <p:cNvPr id="91" name=""/>
            <p:cNvSpPr/>
            <p:nvPr/>
          </p:nvSpPr>
          <p:spPr>
            <a:xfrm>
              <a:off x="228600" y="990720"/>
              <a:ext cx="4267080" cy="266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520" y="3200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880" y="12952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720" y="12193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12952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8924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28600" y="3886200"/>
            <a:ext cx="4267080" cy="2669400"/>
            <a:chOff x="228600" y="3886200"/>
            <a:chExt cx="4267080" cy="2669400"/>
          </a:xfrm>
        </p:grpSpPr>
        <p:sp>
          <p:nvSpPr>
            <p:cNvPr id="98" name=""/>
            <p:cNvSpPr/>
            <p:nvPr/>
          </p:nvSpPr>
          <p:spPr>
            <a:xfrm>
              <a:off x="228600" y="3886200"/>
              <a:ext cx="4267080" cy="266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920" y="6095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71600" y="4038480"/>
              <a:ext cx="2057400" cy="19814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3880" y="4191120"/>
              <a:ext cx="1828800" cy="160020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52480" y="42670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07280" y="54864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572000" y="4495680"/>
            <a:ext cx="4572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of the gospel transforms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 Catholic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ormed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ristians and Cultu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724280" y="990720"/>
            <a:ext cx="4267440" cy="2669400"/>
            <a:chOff x="4724280" y="990720"/>
            <a:chExt cx="4267440" cy="2669400"/>
          </a:xfrm>
        </p:grpSpPr>
        <p:sp>
          <p:nvSpPr>
            <p:cNvPr id="107" name=""/>
            <p:cNvSpPr/>
            <p:nvPr/>
          </p:nvSpPr>
          <p:spPr>
            <a:xfrm>
              <a:off x="4724280" y="990720"/>
              <a:ext cx="4267440" cy="2666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00600" y="3200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38760" y="1219320"/>
              <a:ext cx="4038480" cy="18288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62920" y="1295280"/>
              <a:ext cx="1218960" cy="1067040"/>
            </a:xfrm>
            <a:prstGeom prst="upArrowCallout">
              <a:avLst>
                <a:gd name="adj1" fmla="val 41055"/>
                <a:gd name="adj2" fmla="val 28559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8492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920" y="1295280"/>
              <a:ext cx="152388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28600" y="990720"/>
            <a:ext cx="4267080" cy="2669400"/>
            <a:chOff x="228600" y="990720"/>
            <a:chExt cx="4267080" cy="2669400"/>
          </a:xfrm>
        </p:grpSpPr>
        <p:sp>
          <p:nvSpPr>
            <p:cNvPr id="114" name=""/>
            <p:cNvSpPr/>
            <p:nvPr/>
          </p:nvSpPr>
          <p:spPr>
            <a:xfrm>
              <a:off x="228600" y="990720"/>
              <a:ext cx="4267080" cy="266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3200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880" y="12952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12193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66880" y="12952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924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8600" y="3886200"/>
            <a:ext cx="4267080" cy="2669400"/>
            <a:chOff x="228600" y="3886200"/>
            <a:chExt cx="4267080" cy="2669400"/>
          </a:xfrm>
        </p:grpSpPr>
        <p:sp>
          <p:nvSpPr>
            <p:cNvPr id="121" name=""/>
            <p:cNvSpPr/>
            <p:nvPr/>
          </p:nvSpPr>
          <p:spPr>
            <a:xfrm>
              <a:off x="228600" y="3886200"/>
              <a:ext cx="4267080" cy="266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6095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71600" y="4038480"/>
              <a:ext cx="2057400" cy="19814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23880" y="4191120"/>
              <a:ext cx="1828800" cy="160020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52480" y="42670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07280" y="54864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724280" y="3886200"/>
            <a:ext cx="4267440" cy="2669400"/>
            <a:chOff x="4724280" y="3886200"/>
            <a:chExt cx="4267440" cy="2669400"/>
          </a:xfrm>
        </p:grpSpPr>
        <p:sp>
          <p:nvSpPr>
            <p:cNvPr id="128" name=""/>
            <p:cNvSpPr/>
            <p:nvPr/>
          </p:nvSpPr>
          <p:spPr>
            <a:xfrm>
              <a:off x="4724280" y="3886200"/>
              <a:ext cx="4267440" cy="266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75040" y="60958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ccommodation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67280" y="4191120"/>
              <a:ext cx="1828800" cy="175248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29400" y="44956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007200"/>
                </a:gs>
                <a:gs pos="100000">
                  <a:srgbClr val="660033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31440" y="45720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70440" y="50799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ristians and Cultu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724280" y="990720"/>
            <a:ext cx="4267440" cy="2669400"/>
            <a:chOff x="4724280" y="990720"/>
            <a:chExt cx="4267440" cy="2669400"/>
          </a:xfrm>
        </p:grpSpPr>
        <p:sp>
          <p:nvSpPr>
            <p:cNvPr id="136" name=""/>
            <p:cNvSpPr/>
            <p:nvPr/>
          </p:nvSpPr>
          <p:spPr>
            <a:xfrm>
              <a:off x="4724280" y="990720"/>
              <a:ext cx="4267440" cy="2666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00600" y="3200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38760" y="1219320"/>
              <a:ext cx="4038480" cy="18288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62920" y="1295280"/>
              <a:ext cx="1218960" cy="1067040"/>
            </a:xfrm>
            <a:prstGeom prst="upArrowCallout">
              <a:avLst>
                <a:gd name="adj1" fmla="val 41055"/>
                <a:gd name="adj2" fmla="val 28559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8492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1295280"/>
              <a:ext cx="152388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" y="990720"/>
            <a:ext cx="4267080" cy="2669400"/>
            <a:chOff x="228600" y="990720"/>
            <a:chExt cx="4267080" cy="2669400"/>
          </a:xfrm>
        </p:grpSpPr>
        <p:sp>
          <p:nvSpPr>
            <p:cNvPr id="143" name=""/>
            <p:cNvSpPr/>
            <p:nvPr/>
          </p:nvSpPr>
          <p:spPr>
            <a:xfrm>
              <a:off x="228600" y="990720"/>
              <a:ext cx="4267080" cy="266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20" y="3200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12952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3720" y="12193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12952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924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28600" y="3886200"/>
            <a:ext cx="4267080" cy="2669400"/>
            <a:chOff x="228600" y="3886200"/>
            <a:chExt cx="4267080" cy="2669400"/>
          </a:xfrm>
        </p:grpSpPr>
        <p:sp>
          <p:nvSpPr>
            <p:cNvPr id="150" name=""/>
            <p:cNvSpPr/>
            <p:nvPr/>
          </p:nvSpPr>
          <p:spPr>
            <a:xfrm>
              <a:off x="228600" y="3886200"/>
              <a:ext cx="4267080" cy="266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920" y="6095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71600" y="4038480"/>
              <a:ext cx="2057400" cy="19814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3880" y="4191120"/>
              <a:ext cx="1828800" cy="160020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42670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07280" y="54864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724280" y="3886200"/>
            <a:ext cx="4267440" cy="2669400"/>
            <a:chOff x="4724280" y="3886200"/>
            <a:chExt cx="4267440" cy="2669400"/>
          </a:xfrm>
        </p:grpSpPr>
        <p:sp>
          <p:nvSpPr>
            <p:cNvPr id="157" name=""/>
            <p:cNvSpPr/>
            <p:nvPr/>
          </p:nvSpPr>
          <p:spPr>
            <a:xfrm>
              <a:off x="4724280" y="3886200"/>
              <a:ext cx="4267440" cy="266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75040" y="60958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ccommodation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7280" y="4191120"/>
              <a:ext cx="1828800" cy="175248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29400" y="44956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007200"/>
                </a:gs>
                <a:gs pos="100000">
                  <a:srgbClr val="660033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31440" y="45720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70440" y="50799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ristians and Cultu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895480" y="259056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elieve Christians should be actively engaged with culture; studying it, discerning positive and negative aspects, and working to redeem it” (Romanowski, Pg 4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1974960" cy="2971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952880" y="11430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4920" y="1143000"/>
            <a:ext cx="67057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does a biblical understanding of culture and stewardship affect the way we think about the popular arts and cultur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am Tim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47271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 for Group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657600" y="2898720"/>
            <a:ext cx="175248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ristian world view impacts how we see the God, the world, and our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s have used different approaches in the past and present to deal with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our culture will always impact us, an awareness of that impact will help us to evaluate that impact and, when necessary, to counter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Christian World View of Cre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440" y="1676160"/>
            <a:ext cx="5791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it mean to have dominion over na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t wrong to hunt animals for fu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t permissible to kills pests and predato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bout animal righ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we encourage population contro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23558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579240"/>
            <a:ext cx="71625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Christian World View of Si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240" y="2408400"/>
            <a:ext cx="70102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other world views say about s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gious plur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some sins worse than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6553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Christian World View of Si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2590560"/>
            <a:ext cx="4952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in can be on a corporate as well as an individual level, how might that affect the way that Christians and the church think about and deal with sin in this wor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have Christians’ World Views been affected by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8120" y="2361960"/>
            <a:ext cx="4495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xual ori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33920" y="50292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Cultur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895480" y="1523520"/>
            <a:ext cx="5486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represents human responses to God’s first and foundational command: ‘Be fruitful and increase in number; fill the earth and subdue it’ (Gen 1:28).  God entrusts human beings with the continuing process of creation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Romanowski, Pg 4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19749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ristians and Cultu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8600" y="990720"/>
            <a:ext cx="4267080" cy="2669400"/>
            <a:chOff x="228600" y="990720"/>
            <a:chExt cx="4267080" cy="2669400"/>
          </a:xfrm>
        </p:grpSpPr>
        <p:sp>
          <p:nvSpPr>
            <p:cNvPr id="59" name=""/>
            <p:cNvSpPr/>
            <p:nvPr/>
          </p:nvSpPr>
          <p:spPr>
            <a:xfrm>
              <a:off x="228600" y="990720"/>
              <a:ext cx="4267080" cy="2666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3200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880" y="12952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12193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66880" y="12952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8924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724280" y="990720"/>
            <a:ext cx="3962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divorces itself from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astic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ristians and Cultu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24280" y="990720"/>
            <a:ext cx="4267440" cy="2669400"/>
            <a:chOff x="4724280" y="990720"/>
            <a:chExt cx="4267440" cy="2669400"/>
          </a:xfrm>
        </p:grpSpPr>
        <p:sp>
          <p:nvSpPr>
            <p:cNvPr id="68" name=""/>
            <p:cNvSpPr/>
            <p:nvPr/>
          </p:nvSpPr>
          <p:spPr>
            <a:xfrm>
              <a:off x="4724280" y="990720"/>
              <a:ext cx="4267440" cy="2666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00600" y="3200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38760" y="1219320"/>
              <a:ext cx="4038480" cy="18288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2920" y="1295280"/>
              <a:ext cx="1218960" cy="1067040"/>
            </a:xfrm>
            <a:prstGeom prst="upArrowCallout">
              <a:avLst>
                <a:gd name="adj1" fmla="val 41055"/>
                <a:gd name="adj2" fmla="val 28559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8492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6920" y="1295280"/>
              <a:ext cx="152388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28600" y="990720"/>
            <a:ext cx="4267080" cy="2669400"/>
            <a:chOff x="228600" y="990720"/>
            <a:chExt cx="4267080" cy="2669400"/>
          </a:xfrm>
        </p:grpSpPr>
        <p:sp>
          <p:nvSpPr>
            <p:cNvPr id="75" name=""/>
            <p:cNvSpPr/>
            <p:nvPr/>
          </p:nvSpPr>
          <p:spPr>
            <a:xfrm>
              <a:off x="228600" y="990720"/>
              <a:ext cx="4267080" cy="266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3200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0880" y="12952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33720" y="12193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66880" y="12952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924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724280" y="3733920"/>
            <a:ext cx="44197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urch seeks to convert individuals from the world to the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same time, individuals impact culture with Christian val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8-05-27T17:24:30Z</dcterms:modified>
  <cp:revision>115</cp:revision>
  <dc:subject/>
  <dc:title>Discipleship Across the Lifespan</dc:title>
</cp:coreProperties>
</file>