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2E9-D66C-455D-A2E0-95E969C3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AB78-BE1E-461E-BA63-5EC8D983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600-BCEF-4960-A5D3-DE5D0C9D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F9C-5BDA-4FD8-8993-0E2BD3B5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5518-5F95-4534-B577-9B120FE3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8F60-00D7-4BE8-9BD3-987B883A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749-FC72-4208-8A49-15875EA7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F81-3889-4360-899C-6E625F51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5FD-9F65-4E19-8F0D-02100C9B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37B7-60D4-476F-9E66-3A9D11F0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260-E146-4371-A267-C0753731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466-0085-48FE-9FE8-CABA5D5E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174F-A4B8-43E6-87D6-1B4F7491BF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87360"/>
            <a:ext cx="5562720" cy="18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rue Spiritu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557676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1752480"/>
            <a:ext cx="8458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50a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Christian World Vie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50a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phesians 5:1-2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837720" y="990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be imitators of God, as beloved children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walk in love, just as Christ also loved you and gave Himself up for us, an offering and a sacrifice to God as a fragrant aro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838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phesians 5:3-4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37720" y="990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mmorality or any impurity or greed must not even be named among you, as is proper among saints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re must be n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thiness and silly talk, or coarse jesting, which are not fitting, but rather giving of than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838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4114800"/>
            <a:ext cx="2895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lossians 3:5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37720" y="990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consider the members of your earthly body as dead to immorality, impurity, passion, evil desire, and greed, which amounts to idola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838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3886200" cy="7653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t Is No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38862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hat ends with the new bi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438280" y="228600"/>
            <a:ext cx="432936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ue Spiritual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66680"/>
            <a:ext cx="3886200" cy="7653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t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828800"/>
            <a:ext cx="388620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hat begins with the new bi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29000"/>
            <a:ext cx="3886200" cy="68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ily exte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3429000"/>
            <a:ext cx="3886200" cy="68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ily inte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114800"/>
            <a:ext cx="3886200" cy="2590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ed primarily on the negative, on what you don’t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4114800"/>
            <a:ext cx="3886200" cy="2590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ed primarily on the positive, on what you do as a result of who you 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rue Spirituality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0" y="4724280"/>
            <a:ext cx="3657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ancis Schaef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2803680" cy="420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181480" y="2209680"/>
            <a:ext cx="2562480" cy="255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important is the New Birth to the Christian Walk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important is your physical birth to your life tod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86200" y="4572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would you tell a new Christian to do (or not to do) nex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86200" y="4572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thew 22:35-38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7720" y="990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m, a lawyer, asked Hi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ques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esting Hi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Teacher, which is the great commandment in the Law?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He said to him, “You shall love the Lord your God with all your heart, and with all your soul, and with all your min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is is the great and foremost commandmen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838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thew 22:39-40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7720" y="990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ond is like it, ‘You shall love your neighbor as yourself.’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se two commandments depend the whole Law and the Prophet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838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23880" y="3505320"/>
            <a:ext cx="1073160" cy="2590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352680" y="3505320"/>
            <a:ext cx="1828800" cy="27432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743200"/>
              <a:gd name="textAreaBottom" fmla="*/ 2653920 h 2743200"/>
            </a:gdLst>
            <a:ahLst/>
            <a:rect l="textAreaLeft" t="textAreaTop" r="textAreaRight" b="textAreaBottom"/>
            <a:pathLst>
              <a:path w="21600" h="32398">
                <a:moveTo>
                  <a:pt x="3600" y="0"/>
                </a:moveTo>
                <a:arcTo wR="3600" hR="3600" stAng="16200000" swAng="-5400000"/>
                <a:lnTo>
                  <a:pt x="0" y="28798"/>
                </a:lnTo>
                <a:arcTo wR="3600" hR="3600" stAng="10800000" swAng="-5400000"/>
                <a:lnTo>
                  <a:pt x="18000" y="32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3505320"/>
            <a:ext cx="1828800" cy="27432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743200"/>
              <a:gd name="textAreaBottom" fmla="*/ 2653920 h 2743200"/>
            </a:gdLst>
            <a:ahLst/>
            <a:rect l="textAreaLeft" t="textAreaTop" r="textAreaRight" b="textAreaBottom"/>
            <a:pathLst>
              <a:path w="21600" h="32398">
                <a:moveTo>
                  <a:pt x="3600" y="0"/>
                </a:moveTo>
                <a:arcTo wR="3600" hR="3600" stAng="16200000" swAng="-5400000"/>
                <a:lnTo>
                  <a:pt x="0" y="28798"/>
                </a:lnTo>
                <a:arcTo wR="3600" hR="3600" stAng="10800000" swAng="-5400000"/>
                <a:lnTo>
                  <a:pt x="18000" y="32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en Commandmen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ther g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id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aking God’s name in v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bb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352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nor father &amp; m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u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adult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te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false wi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ov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107316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en Commandmen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ther g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id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aking God’s name in v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bb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352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nor father &amp; m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u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adult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te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false wi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No cov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107316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en does proper desire become coveting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it fails to include the love of God and the love of oth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86200" y="23623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09-06-15T11:37:49Z</dcterms:modified>
  <cp:revision>91</cp:revision>
  <dc:subject/>
  <dc:title>Discipleship Across the Lifespan</dc:title>
</cp:coreProperties>
</file>