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9341-AF0B-49AC-B160-B3DA71CEE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978F-1DA9-4725-B860-F96801F07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464A-3391-4549-BA5F-96F2C7DDA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4CFA-D92C-4A8F-8D68-1B2A99B5A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DEF9-2362-40DE-B6B3-64D495192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3F35-C9F8-4BB0-81D0-B62052717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789A-39DB-4CB9-80E3-BEE8FB588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75A8-FE9E-4032-A01B-D263CC4EC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E990-3E39-43A3-8A30-54CC9533E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B089-0635-4806-A58C-156BDEE5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CF9A-6AE5-4710-8BAF-9DBB5462C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1C78-3E81-4EB2-A9E1-C1A8B39E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0F379-7620-4A88-9930-C3739A81175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6324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Issues in Christian Thinking and Living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s and Abuses of Spiritual Gif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502920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© John Stevenson, 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1280" y="2763720"/>
            <a:ext cx="129564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3cc"/>
              </a:gs>
              <a:gs pos="100000">
                <a:srgbClr val="001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371600" y="5318280"/>
            <a:ext cx="220968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3cc"/>
              </a:gs>
              <a:gs pos="100000">
                <a:srgbClr val="001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05520" y="3260880"/>
            <a:ext cx="220968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3cc"/>
              </a:gs>
              <a:gs pos="100000">
                <a:srgbClr val="001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371600" y="2286000"/>
            <a:ext cx="220968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3cc"/>
              </a:gs>
              <a:gs pos="100000">
                <a:srgbClr val="001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1 Corinthians 13:8-10 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1218960"/>
            <a:ext cx="6400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ve never fails; but if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re are gifts of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hecy, they will be done away; if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re ar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ngues, they will cease; if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re i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nowledge, it will be done away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we know in part and we prophesy in part;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ut when the perfect comes, the partial will be done away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38080" y="99072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944960" y="2766960"/>
            <a:ext cx="190512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3cc"/>
              </a:gs>
              <a:gs pos="100000">
                <a:srgbClr val="001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1 Corinthians 13:8-11 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1218960"/>
            <a:ext cx="6400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I was a child, I used to speak like a child, think like a child, reason like a child; when I became a man, I did away with childish thin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99072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are some of the divisions in Christian thinking regarding Spiritual Gifts?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733920" y="396252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are some of the gifts listed in the Scriptures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09320" y="3428640"/>
            <a:ext cx="4419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mans 12:6-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Corinthians 12:4-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Corinthians 12:28-3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phesians 4: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Peter 4:10-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657600" y="1981080"/>
            <a:ext cx="1295280" cy="1295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09320" y="990360"/>
            <a:ext cx="4953240" cy="36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purposes do spiritual gifts serve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Ephesians 4:11-13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1219320"/>
            <a:ext cx="64008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He gave some as apostles, and some as prophets, and some as evangelists, and some as pastors and teacher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99072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867280" y="3733920"/>
            <a:ext cx="2743200" cy="15562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the building up of the body of Chr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34120" y="4191120"/>
            <a:ext cx="609480" cy="609480"/>
          </a:xfrm>
          <a:prstGeom prst="rightArrow">
            <a:avLst>
              <a:gd name="adj1" fmla="val 42704"/>
              <a:gd name="adj2" fmla="val 39324"/>
            </a:avLst>
          </a:prstGeom>
          <a:gradFill rotWithShape="0">
            <a:gsLst>
              <a:gs pos="0">
                <a:srgbClr val="66ccff"/>
              </a:gs>
              <a:gs pos="100000">
                <a:srgbClr val="2f5e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05320" y="3733920"/>
            <a:ext cx="1904760" cy="15562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e work of ser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971800" y="4191120"/>
            <a:ext cx="609480" cy="609480"/>
          </a:xfrm>
          <a:prstGeom prst="rightArrow">
            <a:avLst>
              <a:gd name="adj1" fmla="val 42704"/>
              <a:gd name="adj2" fmla="val 39324"/>
            </a:avLst>
          </a:prstGeom>
          <a:gradFill rotWithShape="0">
            <a:gsLst>
              <a:gs pos="0">
                <a:srgbClr val="66ccff"/>
              </a:gs>
              <a:gs pos="100000">
                <a:srgbClr val="2f5e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3733920"/>
            <a:ext cx="2590920" cy="15562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e equipping of the sai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556272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til we all attain… to the measure of the stature which belongs to the fullness of Chri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Hebrews 2:3-4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1219320"/>
            <a:ext cx="6400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it was at the first spoken through the Lord, it was confirmed to us by those who heard,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od also testifying with them, both by signs and wonders and by various miracles and by gifts of the Holy Spirit according to His own wi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99072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600" y="914040"/>
            <a:ext cx="647712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What are some of the “sign gifts”?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1 Corinthians 14:21-22 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1218960"/>
            <a:ext cx="6400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Law it is written, “By men of strange tongues and by the lips of strangers I will speak to this people, and even so they will not listen to me,” says the Lord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o then tongues are for a sign, not to those who believe but to unbelievers; but prophecy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s for a sig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not to unbelievers but to those who belie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99072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600" y="914040"/>
            <a:ext cx="647712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Have the “sign gifts” ceased?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JohnStevenson</cp:lastModifiedBy>
  <dcterms:modified xsi:type="dcterms:W3CDTF">2009-05-21T14:02:23Z</dcterms:modified>
  <cp:revision>146</cp:revision>
  <dc:subject/>
  <dc:title>Discipleship Across the Lifespan</dc:title>
</cp:coreProperties>
</file>