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304920" y="838080"/>
            <a:ext cx="8305560" cy="5715000"/>
            <a:chOff x="304920" y="838080"/>
            <a:chExt cx="8305560" cy="5715000"/>
          </a:xfrm>
        </p:grpSpPr>
        <p:sp>
          <p:nvSpPr>
            <p:cNvPr id="41" name=""/>
            <p:cNvSpPr/>
            <p:nvPr/>
          </p:nvSpPr>
          <p:spPr>
            <a:xfrm>
              <a:off x="304920" y="243828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es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or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95680" y="25146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o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tthe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010280" y="54864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enry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orre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388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o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r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om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tins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5181480"/>
              <a:ext cx="1905120" cy="13716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usty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inn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Kather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066680" y="18284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66680" y="182880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72400" y="182880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28600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9880" y="1828440"/>
              <a:ext cx="0" cy="335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257800" y="18284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55308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400" y="8380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8320" y="8380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4343400" cy="4309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4343400" cy="46292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04920" y="838080"/>
            <a:ext cx="8305560" cy="5715000"/>
            <a:chOff x="304920" y="838080"/>
            <a:chExt cx="8305560" cy="5715000"/>
          </a:xfrm>
        </p:grpSpPr>
        <p:sp>
          <p:nvSpPr>
            <p:cNvPr id="90" name=""/>
            <p:cNvSpPr/>
            <p:nvPr/>
          </p:nvSpPr>
          <p:spPr>
            <a:xfrm>
              <a:off x="304920" y="243828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es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or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25146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o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tthe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0280" y="54864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enr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orre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388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o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r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om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tins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5480" y="5181480"/>
              <a:ext cx="1905120" cy="13716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usty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inn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Kather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66680" y="18284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6680" y="182880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2400" y="182880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28600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809880" y="1828440"/>
              <a:ext cx="0" cy="335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257800" y="18284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55308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43400" y="8380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8320" y="8380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47920" y="609480"/>
            <a:ext cx="379872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243828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e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91320" y="380880"/>
            <a:ext cx="3066840" cy="541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2014560" cy="320688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867280" y="380880"/>
            <a:ext cx="2649600" cy="316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3828960" cy="6166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243828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e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581280" y="2514600"/>
            <a:ext cx="5477040" cy="38084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5257800" cy="5116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243828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e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3574800" cy="4768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2131920" cy="3200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243828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e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038480" y="380880"/>
            <a:ext cx="4540320" cy="60912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920" y="838080"/>
            <a:ext cx="8305560" cy="5715000"/>
            <a:chOff x="304920" y="838080"/>
            <a:chExt cx="8305560" cy="5715000"/>
          </a:xfrm>
        </p:grpSpPr>
        <p:sp>
          <p:nvSpPr>
            <p:cNvPr id="122" name=""/>
            <p:cNvSpPr/>
            <p:nvPr/>
          </p:nvSpPr>
          <p:spPr>
            <a:xfrm>
              <a:off x="304920" y="243828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es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or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25146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o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tthe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54864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enr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orre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388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o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r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om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tins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95480" y="5181480"/>
              <a:ext cx="1905120" cy="13716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usty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inn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Kather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066680" y="18284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182880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72400" y="182880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28600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09880" y="1828440"/>
              <a:ext cx="0" cy="335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257800" y="18284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55308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8380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48320" y="8380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3630600" cy="5396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83080" y="461880"/>
            <a:ext cx="4314960" cy="6091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895480" y="5181480"/>
            <a:ext cx="190512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ust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n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803400" cy="3886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797280" y="457200"/>
            <a:ext cx="4821120" cy="5943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95480" y="5181480"/>
            <a:ext cx="190512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ust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n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305560" cy="5506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23880" y="388620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5181480"/>
            <a:ext cx="190512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ust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n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3951360" cy="514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914400"/>
            <a:ext cx="41148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March 9, 1893 in Elk City, Montgomery, Kan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siblings were Catherine (Brown), Nellie (Reed), Will, and 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ed to Rachael Catherine Fomby on February 7, 19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d July 16, 19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31040" y="6597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4920" y="838080"/>
            <a:ext cx="8305560" cy="5715000"/>
            <a:chOff x="304920" y="838080"/>
            <a:chExt cx="8305560" cy="5715000"/>
          </a:xfrm>
        </p:grpSpPr>
        <p:sp>
          <p:nvSpPr>
            <p:cNvPr id="149" name=""/>
            <p:cNvSpPr/>
            <p:nvPr/>
          </p:nvSpPr>
          <p:spPr>
            <a:xfrm>
              <a:off x="304920" y="243828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es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or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25146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o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tthe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0280" y="54864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enr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orre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o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r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132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om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tins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5181480"/>
              <a:ext cx="1905120" cy="13716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usty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inn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Kather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1066680" y="18284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182880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72400" y="182880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28600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09880" y="1828440"/>
              <a:ext cx="0" cy="335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257800" y="18284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55308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43400" y="8380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48320" y="8380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4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34520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495680" y="251460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o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tth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809880" y="3886200"/>
            <a:ext cx="4876920" cy="25272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7296120" cy="4557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19920" y="3048120"/>
            <a:ext cx="45720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251460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o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tth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04920" y="838080"/>
            <a:ext cx="8305560" cy="5715000"/>
            <a:chOff x="304920" y="838080"/>
            <a:chExt cx="8305560" cy="5715000"/>
          </a:xfrm>
        </p:grpSpPr>
        <p:sp>
          <p:nvSpPr>
            <p:cNvPr id="173" name=""/>
            <p:cNvSpPr/>
            <p:nvPr/>
          </p:nvSpPr>
          <p:spPr>
            <a:xfrm>
              <a:off x="304920" y="243828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es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or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5680" y="25146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o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tthe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10280" y="54864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enr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orre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388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o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r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132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om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tins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95480" y="5181480"/>
              <a:ext cx="1905120" cy="13716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usty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inn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Kather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066680" y="18284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6680" y="182880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72400" y="182880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28600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09880" y="1828440"/>
              <a:ext cx="0" cy="335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257800" y="18284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55308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3400" y="8380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8380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791320" y="388620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4465800" cy="54230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8915400" cy="618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791320" y="388620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04920" y="838080"/>
            <a:ext cx="8305560" cy="5715000"/>
            <a:chOff x="304920" y="838080"/>
            <a:chExt cx="8305560" cy="5715000"/>
          </a:xfrm>
        </p:grpSpPr>
        <p:sp>
          <p:nvSpPr>
            <p:cNvPr id="195" name=""/>
            <p:cNvSpPr/>
            <p:nvPr/>
          </p:nvSpPr>
          <p:spPr>
            <a:xfrm>
              <a:off x="304920" y="243828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es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or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95680" y="25146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o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tthe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54864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enr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orre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o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r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1320" y="3886200"/>
              <a:ext cx="1600200" cy="990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om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tins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95480" y="5181480"/>
              <a:ext cx="1905120" cy="13716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usty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inni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Kather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066680" y="18284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66680" y="182880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72400" y="182880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28600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809880" y="1828440"/>
              <a:ext cx="0" cy="335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257800" y="18284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553080" y="182844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3400" y="8380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48320" y="8380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4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010280" y="548640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n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4807080" cy="6019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7848360" cy="5396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10280" y="548640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n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5248440" cy="5262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010280" y="548640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n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914400" y="380880"/>
            <a:ext cx="3062160" cy="62676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14800" y="304920"/>
            <a:ext cx="4543560" cy="4952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920" y="2685960"/>
            <a:ext cx="4876560" cy="350208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950240" cy="63291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010280" y="5486400"/>
            <a:ext cx="160020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n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79360" y="406440"/>
            <a:ext cx="8585280" cy="60451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4764240" cy="585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4920" y="5562720"/>
            <a:ext cx="1981080" cy="914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o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292640" y="45720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724280" y="5410080"/>
            <a:ext cx="1981440" cy="914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d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772400" cy="6267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971800" y="5943600"/>
            <a:ext cx="1981080" cy="914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28600" y="17136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604656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33920" y="990720"/>
            <a:ext cx="5070240" cy="547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2280" y="415800"/>
            <a:ext cx="8915400" cy="60613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-135000"/>
            <a:ext cx="9220320" cy="713736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5884920" cy="59436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4833720" cy="6019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724280" y="31352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-760320" y="-147600"/>
            <a:ext cx="10666440" cy="71532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600200" y="1905120"/>
            <a:ext cx="5562720" cy="23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evens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mily Histo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1320" y="533520"/>
            <a:ext cx="3643560" cy="5181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838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2112840"/>
            <a:ext cx="5486400" cy="41292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00240" y="759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el Armor Steve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19720" y="159984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t to Kansas after his father died in a steam engine explosion in 18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ed Ellen Calahan in 1885 and had two sons, Thomas &amp; 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his wife died, he married a woman who did not want his sons living under the same 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941640" cy="61722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00240" y="759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el Armor Steve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1972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he died, he left his inheritance to his step-daughters; both his sons were left to fend for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941640" cy="617220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206960" cy="59389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2880" y="76320"/>
            <a:ext cx="38102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thew Bates Fomb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76920" y="18288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oneer cowboy in west Texas in the 1880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ed Rachel Edney Justiss at Cason, Texas on December 27, 18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sixth child was Rachel Katherine Fom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206960" cy="5938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2880" y="76320"/>
            <a:ext cx="38102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thew Bates Fomb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800240" y="1828800"/>
            <a:ext cx="4343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hel Edney Fomby (3/25/1867 – 3/15/1951) was known for her knowledge of medicine and freely gave of her time in caring for the s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 and Rachel were lifelong Bap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 died on October 22, 19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95680" y="75960"/>
            <a:ext cx="4191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omas Horace Steve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March 9, 1893 in Elk City, Montgomery, Kan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ther died when he was still young and his father remarried a woman who had two daugh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s his brother were farmed out to other family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3951000" cy="5146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95680" y="75960"/>
            <a:ext cx="4191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omas Horace Steve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343040" y="1523880"/>
            <a:ext cx="4800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 away and stayed with a shepherd in Mont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t to Cheyenne and became a hu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hit in the ankle during a gunfight in Wyoming.  A doctor wrapped it and told him to do an Irish jig every day to keep it loose.  He continued to follow this practice in later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3951000" cy="5146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231040" y="6597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4191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omas &amp; Rachel Katheri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6880" y="15235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first courted in East Tex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married on February 7, 19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2280960" cy="2971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837480" y="838080"/>
            <a:ext cx="2001600" cy="2971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231040" y="6597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8915400" cy="4984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80880" y="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omas &amp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chel Catherine Steven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981080" y="1447920"/>
            <a:ext cx="4876920" cy="1295280"/>
            <a:chOff x="1981080" y="1447920"/>
            <a:chExt cx="4876920" cy="1295280"/>
          </a:xfrm>
        </p:grpSpPr>
        <p:sp>
          <p:nvSpPr>
            <p:cNvPr id="270" name=""/>
            <p:cNvSpPr/>
            <p:nvPr/>
          </p:nvSpPr>
          <p:spPr>
            <a:xfrm>
              <a:off x="6400800" y="1447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29400" y="144792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1080" y="1447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09680" y="144792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581280" y="3352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33526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81680" y="762120"/>
            <a:ext cx="1828800" cy="14475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31040" y="6597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95480" y="4800600"/>
            <a:ext cx="3047760" cy="1523880"/>
            <a:chOff x="2895480" y="4800600"/>
            <a:chExt cx="3047760" cy="1523880"/>
          </a:xfrm>
        </p:grpSpPr>
        <p:sp>
          <p:nvSpPr>
            <p:cNvPr id="279" name=""/>
            <p:cNvSpPr/>
            <p:nvPr/>
          </p:nvSpPr>
          <p:spPr>
            <a:xfrm>
              <a:off x="2895480" y="4800600"/>
              <a:ext cx="3047760" cy="15238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om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or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tevens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3047760" y="4952880"/>
              <a:ext cx="920880" cy="125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964680" y="5943240"/>
              <a:ext cx="189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: 1893  D: 197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85800" y="2743200"/>
            <a:ext cx="7391520" cy="1525680"/>
            <a:chOff x="685800" y="2743200"/>
            <a:chExt cx="7391520" cy="1525680"/>
          </a:xfrm>
        </p:grpSpPr>
        <p:sp>
          <p:nvSpPr>
            <p:cNvPr id="283" name=""/>
            <p:cNvSpPr/>
            <p:nvPr/>
          </p:nvSpPr>
          <p:spPr>
            <a:xfrm>
              <a:off x="5181480" y="2743200"/>
              <a:ext cx="2895840" cy="15238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Ellen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rn: 186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allaha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Died: 19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685800" y="2743200"/>
              <a:ext cx="2895480" cy="1525680"/>
              <a:chOff x="685800" y="2743200"/>
              <a:chExt cx="2895480" cy="1525680"/>
            </a:xfrm>
          </p:grpSpPr>
          <p:sp>
            <p:nvSpPr>
              <p:cNvPr id="285" name=""/>
              <p:cNvSpPr/>
              <p:nvPr/>
            </p:nvSpPr>
            <p:spPr>
              <a:xfrm>
                <a:off x="685800" y="2743200"/>
                <a:ext cx="2895480" cy="152388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4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Joe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Armour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Stevenso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9400" y="2847960"/>
                <a:ext cx="824040" cy="11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1621440" y="390060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: 1860   D: 194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228600" y="762120"/>
            <a:ext cx="1832400" cy="1449360"/>
            <a:chOff x="228600" y="762120"/>
            <a:chExt cx="1832400" cy="1449360"/>
          </a:xfrm>
        </p:grpSpPr>
        <p:sp>
          <p:nvSpPr>
            <p:cNvPr id="289" name=""/>
            <p:cNvSpPr/>
            <p:nvPr/>
          </p:nvSpPr>
          <p:spPr>
            <a:xfrm>
              <a:off x="228600" y="762120"/>
              <a:ext cx="1828800" cy="14475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or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tevens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Indian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1480" y="1843200"/>
              <a:ext cx="182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: 1838  D:18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349000" y="762120"/>
            <a:ext cx="1893600" cy="1447560"/>
            <a:chOff x="2349000" y="762120"/>
            <a:chExt cx="1893600" cy="1447560"/>
          </a:xfrm>
        </p:grpSpPr>
        <p:sp>
          <p:nvSpPr>
            <p:cNvPr id="292" name=""/>
            <p:cNvSpPr/>
            <p:nvPr/>
          </p:nvSpPr>
          <p:spPr>
            <a:xfrm>
              <a:off x="2362320" y="762120"/>
              <a:ext cx="1828800" cy="14475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huld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Gregor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49000" y="1828800"/>
              <a:ext cx="189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: 1840  D: 19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648320" y="762120"/>
            <a:ext cx="1828800" cy="1447560"/>
            <a:chOff x="4648320" y="762120"/>
            <a:chExt cx="1828800" cy="1447560"/>
          </a:xfrm>
        </p:grpSpPr>
        <p:sp>
          <p:nvSpPr>
            <p:cNvPr id="295" name=""/>
            <p:cNvSpPr/>
            <p:nvPr/>
          </p:nvSpPr>
          <p:spPr>
            <a:xfrm>
              <a:off x="4648320" y="762120"/>
              <a:ext cx="1828800" cy="14475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atric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allaha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Ireland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04640" y="182880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rn: 182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4000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1295280" y="1676520"/>
            <a:ext cx="2743200" cy="1523880"/>
            <a:chOff x="1295280" y="1676520"/>
            <a:chExt cx="2743200" cy="1523880"/>
          </a:xfrm>
        </p:grpSpPr>
        <p:sp>
          <p:nvSpPr>
            <p:cNvPr id="298" name=""/>
            <p:cNvSpPr/>
            <p:nvPr/>
          </p:nvSpPr>
          <p:spPr>
            <a:xfrm>
              <a:off x="1295280" y="1676520"/>
              <a:ext cx="2743200" cy="15238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Matthe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at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omb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2"/>
            <a:stretch/>
          </p:blipFill>
          <p:spPr>
            <a:xfrm>
              <a:off x="1447560" y="1828800"/>
              <a:ext cx="917640" cy="121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4038480" y="2362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236232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31040" y="6597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000" y="2847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: 1860  D:19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648320" y="1676520"/>
            <a:ext cx="3045240" cy="1523880"/>
            <a:chOff x="4648320" y="1676520"/>
            <a:chExt cx="3045240" cy="1523880"/>
          </a:xfrm>
        </p:grpSpPr>
        <p:sp>
          <p:nvSpPr>
            <p:cNvPr id="305" name=""/>
            <p:cNvSpPr/>
            <p:nvPr/>
          </p:nvSpPr>
          <p:spPr>
            <a:xfrm>
              <a:off x="4648320" y="1676520"/>
              <a:ext cx="2971800" cy="15238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Rache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Edne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Justi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4800600" y="1752480"/>
              <a:ext cx="103680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799960" y="2819520"/>
              <a:ext cx="189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: 1867  D: 19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940120" y="3886200"/>
            <a:ext cx="2966040" cy="1523880"/>
            <a:chOff x="2940120" y="3886200"/>
            <a:chExt cx="2966040" cy="1523880"/>
          </a:xfrm>
        </p:grpSpPr>
        <p:grpSp>
          <p:nvGrpSpPr>
            <p:cNvPr id="309" name=""/>
            <p:cNvGrpSpPr/>
            <p:nvPr/>
          </p:nvGrpSpPr>
          <p:grpSpPr>
            <a:xfrm>
              <a:off x="2940120" y="3886200"/>
              <a:ext cx="2895480" cy="1523880"/>
              <a:chOff x="2940120" y="3886200"/>
              <a:chExt cx="2895480" cy="1523880"/>
            </a:xfrm>
          </p:grpSpPr>
          <p:sp>
            <p:nvSpPr>
              <p:cNvPr id="310" name=""/>
              <p:cNvSpPr/>
              <p:nvPr/>
            </p:nvSpPr>
            <p:spPr>
              <a:xfrm>
                <a:off x="2940120" y="3886200"/>
                <a:ext cx="2895480" cy="152388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4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Rache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Kather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Fomb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1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16160" y="3994200"/>
                <a:ext cx="966960" cy="12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2" name=""/>
            <p:cNvSpPr/>
            <p:nvPr/>
          </p:nvSpPr>
          <p:spPr>
            <a:xfrm>
              <a:off x="4012560" y="5029200"/>
              <a:ext cx="189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: 1894  D: 19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400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838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458200" cy="472896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7543800" cy="5410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3880" y="380880"/>
            <a:ext cx="28195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omas Ho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eve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838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4208400" cy="6248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029200" y="1676520"/>
            <a:ext cx="3657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April 7, 1894 in Morris County, Tex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ed to Thomas Horace Stevenson on February 7, 19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d June 21, 19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952880" y="380880"/>
            <a:ext cx="3048120" cy="990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chel Kathe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267440" cy="3666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30640" y="1600200"/>
            <a:ext cx="3656160" cy="495288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6-03T11:48:04Z</dcterms:modified>
  <cp:revision>368</cp:revision>
  <dc:subject/>
  <dc:title>Slide 1</dc:title>
</cp:coreProperties>
</file>