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2A5-B162-4BEC-BD2E-814AFB81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559-EE20-4588-AE3B-CA49F0AE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330-8352-4EA6-9AA8-0FAEE004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FED-4008-4643-ACF3-4AE8DE67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DE1-86B6-4CEC-9370-E0760D8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CAC-C555-4184-B09D-F5F5A33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49E-6246-4F2D-A1AB-D2F3564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EA4-983A-4994-B324-EBC0038A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64B-3BE1-4C60-95CC-6C8396CD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215-677E-487A-97ED-71181FF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71B-F360-41CF-943F-832DFDA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FEB-4783-4CED-84C9-3F144FB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F588-5D37-422D-8DF8-7E3C65ACFE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87360"/>
            <a:ext cx="556272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, Vocation, and Poli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5767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752480"/>
            <a:ext cx="8458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hristian World 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 of Biblical Concept of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Come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e fall, there is a secular view of work that stands in opposition to the Biblical view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realize that my earthly work is a service, not only to men, but also to God, then it takes on eternal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blical View of Work brings a sense of 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92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96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00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10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14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18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724280" y="274680"/>
            <a:ext cx="3962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pared to the early church, is it harder, easier, or about the same for us to be Christians in our world to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26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30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34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4648320" y="228600"/>
            <a:ext cx="4267080" cy="2669400"/>
            <a:chOff x="4648320" y="228600"/>
            <a:chExt cx="4267080" cy="2669400"/>
          </a:xfrm>
        </p:grpSpPr>
        <p:sp>
          <p:nvSpPr>
            <p:cNvPr id="141" name=""/>
            <p:cNvSpPr/>
            <p:nvPr/>
          </p:nvSpPr>
          <p:spPr>
            <a:xfrm>
              <a:off x="4648320" y="228600"/>
              <a:ext cx="426708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2438280"/>
              <a:ext cx="41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62440" y="457200"/>
              <a:ext cx="403812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533160"/>
              <a:ext cx="1218600" cy="1067040"/>
            </a:xfrm>
            <a:prstGeom prst="upArrowCallout">
              <a:avLst>
                <a:gd name="adj1" fmla="val 41043"/>
                <a:gd name="adj2" fmla="val 28551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8600" y="167616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00600" y="533160"/>
              <a:ext cx="152352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267080" y="0"/>
            <a:ext cx="381240" cy="2895480"/>
            <a:chOff x="4267080" y="0"/>
            <a:chExt cx="381240" cy="2895480"/>
          </a:xfrm>
        </p:grpSpPr>
        <p:sp>
          <p:nvSpPr>
            <p:cNvPr id="148" name=""/>
            <p:cNvSpPr/>
            <p:nvPr/>
          </p:nvSpPr>
          <p:spPr>
            <a:xfrm>
              <a:off x="4267080" y="1066680"/>
              <a:ext cx="38124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7080" y="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54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58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62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4648320" y="838080"/>
            <a:ext cx="4267080" cy="2669400"/>
            <a:chOff x="4648320" y="838080"/>
            <a:chExt cx="4267080" cy="2669400"/>
          </a:xfrm>
        </p:grpSpPr>
        <p:sp>
          <p:nvSpPr>
            <p:cNvPr id="168" name=""/>
            <p:cNvSpPr/>
            <p:nvPr/>
          </p:nvSpPr>
          <p:spPr>
            <a:xfrm>
              <a:off x="4648320" y="83808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4640" y="30477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99036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43600" y="114300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2200" y="121896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7000" y="24382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267080" y="837720"/>
            <a:ext cx="381240" cy="2667600"/>
            <a:chOff x="4267080" y="837720"/>
            <a:chExt cx="381240" cy="2667600"/>
          </a:xfrm>
        </p:grpSpPr>
        <p:sp>
          <p:nvSpPr>
            <p:cNvPr id="175" name=""/>
            <p:cNvSpPr/>
            <p:nvPr/>
          </p:nvSpPr>
          <p:spPr>
            <a:xfrm>
              <a:off x="4267080" y="3124080"/>
              <a:ext cx="38124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267080" y="83772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81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85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89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724280" y="274680"/>
            <a:ext cx="39625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the world recognizes the church as a part of society, should Christians withdraw for the sake of purity or take advantage of the situation and attempt to influence the cultu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97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01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05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4572000" y="2819520"/>
            <a:ext cx="4267080" cy="2669400"/>
            <a:chOff x="4572000" y="2819520"/>
            <a:chExt cx="4267080" cy="2669400"/>
          </a:xfrm>
        </p:grpSpPr>
        <p:sp>
          <p:nvSpPr>
            <p:cNvPr id="211" name=""/>
            <p:cNvSpPr/>
            <p:nvPr/>
          </p:nvSpPr>
          <p:spPr>
            <a:xfrm>
              <a:off x="4572000" y="281952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22400" y="5029200"/>
              <a:ext cx="41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4640" y="3124440"/>
              <a:ext cx="182844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6760" y="342900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78800" y="35053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17800" y="40132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267080" y="2819520"/>
            <a:ext cx="304920" cy="2666880"/>
            <a:chOff x="4267080" y="2819520"/>
            <a:chExt cx="304920" cy="2666880"/>
          </a:xfrm>
        </p:grpSpPr>
        <p:sp>
          <p:nvSpPr>
            <p:cNvPr id="218" name=""/>
            <p:cNvSpPr/>
            <p:nvPr/>
          </p:nvSpPr>
          <p:spPr>
            <a:xfrm>
              <a:off x="4267080" y="4952880"/>
              <a:ext cx="3049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267080" y="2819520"/>
              <a:ext cx="3049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7"/>
              </a:gs>
              <a:gs pos="50000">
                <a:srgbClr val="660033"/>
              </a:gs>
              <a:gs pos="100000">
                <a:srgbClr val="2f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224" name="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28" name="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32" name="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4876920" y="2717640"/>
            <a:ext cx="4267080" cy="2543040"/>
            <a:chOff x="4876920" y="2717640"/>
            <a:chExt cx="4267080" cy="2543040"/>
          </a:xfrm>
        </p:grpSpPr>
        <p:sp>
          <p:nvSpPr>
            <p:cNvPr id="237" name=""/>
            <p:cNvSpPr/>
            <p:nvPr/>
          </p:nvSpPr>
          <p:spPr>
            <a:xfrm>
              <a:off x="4876920" y="2717640"/>
              <a:ext cx="4267080" cy="251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3240" y="48009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2860920"/>
              <a:ext cx="2057400" cy="18680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3004920"/>
              <a:ext cx="1828800" cy="150876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00800" y="3076560"/>
              <a:ext cx="1219320" cy="1005840"/>
            </a:xfrm>
            <a:prstGeom prst="upArrowCallout">
              <a:avLst>
                <a:gd name="adj1" fmla="val 43566"/>
                <a:gd name="adj2" fmla="val 30306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5600" y="422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267080" y="380520"/>
            <a:ext cx="609840" cy="6477120"/>
            <a:chOff x="4267080" y="380520"/>
            <a:chExt cx="609840" cy="6477120"/>
          </a:xfrm>
        </p:grpSpPr>
        <p:sp>
          <p:nvSpPr>
            <p:cNvPr id="244" name=""/>
            <p:cNvSpPr/>
            <p:nvPr/>
          </p:nvSpPr>
          <p:spPr>
            <a:xfrm flipV="1">
              <a:off x="4267080" y="5274360"/>
              <a:ext cx="609840" cy="158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267080" y="380520"/>
              <a:ext cx="228600" cy="46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95680" y="355680"/>
            <a:ext cx="4267440" cy="2542680"/>
            <a:chOff x="4495680" y="355680"/>
            <a:chExt cx="4267440" cy="2542680"/>
          </a:xfrm>
        </p:grpSpPr>
        <p:sp>
          <p:nvSpPr>
            <p:cNvPr id="247" name=""/>
            <p:cNvSpPr/>
            <p:nvPr/>
          </p:nvSpPr>
          <p:spPr>
            <a:xfrm>
              <a:off x="4495680" y="355680"/>
              <a:ext cx="4267440" cy="2514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0" y="24386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0160" y="570960"/>
              <a:ext cx="4038480" cy="17240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4320" y="642600"/>
              <a:ext cx="1218960" cy="1005840"/>
            </a:xfrm>
            <a:prstGeom prst="upArrowCallout">
              <a:avLst>
                <a:gd name="adj1" fmla="val 43553"/>
                <a:gd name="adj2" fmla="val 30297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6320" y="172044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8320" y="642600"/>
              <a:ext cx="1523880" cy="136476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ich Model describes our Churc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255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262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269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276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0160"/>
            <a:ext cx="403848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ditional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26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between clergy and 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326088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70160"/>
            <a:ext cx="403884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ormed 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91120"/>
            <a:ext cx="4038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life versus contemplat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206960"/>
            <a:ext cx="4038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s a call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ich model makes the most sense to you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285" name="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292" name="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299" name="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306" name="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007200"/>
                </a:gs>
                <a:gs pos="100000">
                  <a:srgbClr val="660033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riesth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334120" y="541008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erarchic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667240" cy="3543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03440" y="1676520"/>
            <a:ext cx="2449440" cy="3581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0880" y="541008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00400" y="1600200"/>
            <a:ext cx="2666520" cy="4267080"/>
            <a:chOff x="3200400" y="1600200"/>
            <a:chExt cx="2666520" cy="4267080"/>
          </a:xfrm>
        </p:grpSpPr>
        <p:sp>
          <p:nvSpPr>
            <p:cNvPr id="319" name=""/>
            <p:cNvSpPr/>
            <p:nvPr/>
          </p:nvSpPr>
          <p:spPr>
            <a:xfrm>
              <a:off x="3200400" y="1600200"/>
              <a:ext cx="2666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ff"/>
                  </a:solidFill>
                  <a:latin typeface="Arial"/>
                </a:rPr>
                <a:t>How does the principle of the priesthood relate to your life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4"/>
            <a:stretch/>
          </p:blipFill>
          <p:spPr>
            <a:xfrm>
              <a:off x="3846600" y="4572000"/>
              <a:ext cx="13737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nabapt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from the prevail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ed by the Essenes in the first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920" y="1447920"/>
            <a:ext cx="4267080" cy="2669400"/>
            <a:chOff x="304920" y="1447920"/>
            <a:chExt cx="4267080" cy="2669400"/>
          </a:xfrm>
        </p:grpSpPr>
        <p:sp>
          <p:nvSpPr>
            <p:cNvPr id="324" name=""/>
            <p:cNvSpPr/>
            <p:nvPr/>
          </p:nvSpPr>
          <p:spPr>
            <a:xfrm>
              <a:off x="304920" y="1447920"/>
              <a:ext cx="4267080" cy="266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840" y="3657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" y="17524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0040" y="16765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17524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5560" y="28954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ould Christians be involved in politic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engagement in politics necessarily result in a trade-off or some degree of comprom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46748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3429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e movements like the Religious Right similar to or different from the medieval papac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212256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553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relationship between the Great Commission and the Cultural Mandat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eat Commi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9492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therefore and make disciples of all the nations, baptizing them in the name of the Father and the Son and the Holy Spirit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al Man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14264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lessed them; and God said to them, “Be fruitful and multiply, and fill the earth, and subdue it; and rule over the fish of the sea and over the birds of the sky and over every living thing that moves on the earth.” (Genesis 1: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ultural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n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date to rule the world as the representatives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eat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ission to go into all the world and make dis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conferred to those made in the imag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to those who are joined to Christ to whom has been given all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2:15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God took the man and put him into the garden of Eden to cultivate it and keep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ing the rule of Christ to the entir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1480" y="121932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imarily through making disciples of the n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1905120"/>
            <a:ext cx="1523880" cy="990360"/>
          </a:xfrm>
          <a:prstGeom prst="rightArrow">
            <a:avLst>
              <a:gd name="adj1" fmla="val 50000"/>
              <a:gd name="adj2" fmla="val 64647"/>
            </a:avLst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304560" y="121896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fulfill the cultural mandate toda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chard Niebuh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62160" y="220968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gainst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of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bove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transform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nd culture in paradox (a tension between the tw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11430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at Y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66800" y="2286000"/>
            <a:ext cx="2662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Thessalonians 4:9-1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s to the love of the brethren, you have no need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rite to you, for you yourselves are taught by God to love one anothe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indeed you do practice it toward all the brethren who are in all Macedonia. But we urge you, brethren, to excel still mor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o make it your ambition to lead a quiet life and attend to your own business and work with your hands, just as we commanded you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you may behave properly toward outsiders and not be in any n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23623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819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260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943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280" y="4191120"/>
            <a:ext cx="1752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58680" y="4191120"/>
            <a:ext cx="1447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Thessalonians 4:9-12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s to the love of the brethren, you have no need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rite to you, for you yourselves are taught by God to love one anothe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indeed you do practice it toward all the brethren who are in all Macedonia. But we urge you, brethren, to excel still mor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o make it your ambition to lead a quiet life and attend to your own business and work with your hands, just as we commanded you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you may behave properly toward outsiders and not be in any n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416400"/>
            <a:ext cx="1676520" cy="761760"/>
          </a:xfrm>
          <a:prstGeom prst="horizontalScroll">
            <a:avLst>
              <a:gd name="adj" fmla="val 12500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429000"/>
            <a:ext cx="1676160" cy="762120"/>
          </a:xfrm>
          <a:prstGeom prst="horizontalScroll">
            <a:avLst>
              <a:gd name="adj" fmla="val 12500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hesians 4:28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m who steals steal no longer; but rather let him labor, performing with his own hands what is good, in order that he may h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with him who has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0160"/>
            <a:ext cx="403848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ditional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26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between clergy and 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3260880"/>
            <a:ext cx="4038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2270160"/>
            <a:ext cx="4038840" cy="807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ormed 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4038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life versus contemplat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206960"/>
            <a:ext cx="4038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s a call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257800"/>
            <a:ext cx="670572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been the ex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ach of these two vie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 of Biblical Concept of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Come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e fall, there is a secular view of work that stands in opposition to the Biblical view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70160"/>
            <a:ext cx="4038480" cy="1311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ecular View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f Work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270160"/>
            <a:ext cx="4038480" cy="1311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iblical View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f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3720" y="380880"/>
            <a:ext cx="495288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tio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gdom of 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565440"/>
            <a:ext cx="4038480" cy="2987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rk in order to get status or to get money to do the things that I really want to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565440"/>
            <a:ext cx="4038480" cy="2987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rk because God has designed me for a labor of service to Himself and to my fellow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11-30T00:50:33Z</dcterms:modified>
  <cp:revision>79</cp:revision>
  <dc:subject/>
  <dc:title>Discipleship Across the Lifespan</dc:title>
</cp:coreProperties>
</file>