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165-F5A0-4CF3-A003-54109287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924-0B47-4871-B283-7DAF030E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6DD-7139-4348-93BF-E411FBD2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356-0D96-4743-809D-C5D23BA4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427-2F3E-4FAE-8122-709599B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AE6-8F0B-4689-8B3E-51F3976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D06-3460-4E46-9B0F-2939077A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402-21EC-4C1F-A8BB-610E74E6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733-8927-485D-860B-E5DD4D9A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E2B-77A4-465F-85FF-A1F6621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67F-7F75-4250-80AB-A5CA920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3CF-E7E0-4C22-9E9A-080B442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340-04B1-4FB9-BCBB-6C390E36A4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87360"/>
            <a:ext cx="556272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Christian’s Respon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5767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75248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 &amp; Cultu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1: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any of you lacks wisdom, let him ask of God, who gives to all generously and without reproach, and it will be given to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Review of Church Mode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990720"/>
            <a:ext cx="4267440" cy="2666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versionist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38760" y="1219320"/>
            <a:ext cx="4038480" cy="1828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295280"/>
            <a:ext cx="1218960" cy="1067040"/>
          </a:xfrm>
          <a:prstGeom prst="upArrowCallout">
            <a:avLst>
              <a:gd name="adj1" fmla="val 41055"/>
              <a:gd name="adj2" fmla="val 28559"/>
              <a:gd name="adj3" fmla="val 50389"/>
              <a:gd name="adj4" fmla="val 100778"/>
            </a:avLst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4920" y="24382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’s Rea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1295280"/>
            <a:ext cx="1523880" cy="1447920"/>
          </a:xfrm>
          <a:prstGeom prst="ellipse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70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77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84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Doing good in the world”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is commit St Andrews to an explicit cultural strateg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good about this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liabilities in this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we presume that one strategy is best for all Christians in all times and all plac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1676520"/>
            <a:ext cx="6400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consensus as to the best cultural strategy for Christians to assume today in our North American contex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ultiple strategies by Christians in the same cultural context enrich and advance God’s kingdom – or do they conflict, possibly negate and thus hinder kingdom adv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lture and Church in Ten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1680" y="1143000"/>
            <a:ext cx="8537400" cy="533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3960" y="55656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the world, but not of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280" y="1600200"/>
            <a:ext cx="8080200" cy="3660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8040" y="4419720"/>
            <a:ext cx="31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’s Real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80040" y="1752480"/>
            <a:ext cx="2440080" cy="2136960"/>
          </a:xfrm>
          <a:prstGeom prst="upArrowCallout">
            <a:avLst>
              <a:gd name="adj1" fmla="val 41036"/>
              <a:gd name="adj2" fmla="val 28546"/>
              <a:gd name="adj3" fmla="val 50389"/>
              <a:gd name="adj4" fmla="val 100778"/>
            </a:avLst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600" y="1752480"/>
            <a:ext cx="3049560" cy="2898720"/>
          </a:xfrm>
          <a:prstGeom prst="ellipse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971800"/>
            <a:ext cx="1905120" cy="685800"/>
          </a:xfrm>
          <a:prstGeom prst="leftRightArrow">
            <a:avLst>
              <a:gd name="adj1" fmla="val 50000"/>
              <a:gd name="adj2" fmla="val 55302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are Christians to relate to the Wor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3733920" cy="441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the world, nor the things in the world. If anyone loves the world, the love of the Father is not in him (1 John 2:15)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981080"/>
            <a:ext cx="3733560" cy="441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od so loved the world, that He gave His only begotten Son, that whoever believes in Him should not perish, but have eternal life (John 3: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337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are Christians to relate to the Wor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3733920" cy="441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the world, nor the things in the world. If anyone loves the world, the love of the Father is not in him (1 John 2:15)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133720"/>
            <a:ext cx="373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fers, not to culture in general, but to culture as it is self glorifying and autonomou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mans 8:20-2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42640" y="990720"/>
            <a:ext cx="6629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reation was subjected to futility, not of its own will, but because of Him who subjected it, in hope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the creation itself also will be set free from its slavery to corruption into the freedom of the glory of the children of Go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we know that the whole creation groans and suffers the pains of childbirth together until no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9144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97180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34732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mans 14:11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42640" y="990720"/>
            <a:ext cx="6629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written, “As I live, says the Lord, every knee shall bow to Me, And every tongue shall give praise to God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9144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05120" y="44956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es this promise relate to the cultures of the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should be the Church’s role in criticizing popular culture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of the more inadequate ways that Christians go about offering a critique of popular culture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6933960" cy="5578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5943600"/>
            <a:ext cx="47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ature of Tru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52320" y="1219320"/>
            <a:ext cx="5334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re are no ordinary people. You have never talked to a mere mortal. Nations, cultures, arts, civilizations - these are mortal, and their life is to ours as the life of a gnat.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  <a:ea typeface="Arial"/>
              </a:rPr>
              <a:t>― C.S. Lewis, 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  <a:ea typeface="Arial"/>
              </a:rPr>
              <a:t>The Weight of Glory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19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  <a:ea typeface="Arial"/>
              </a:rPr>
              <a:t>.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76520" y="304920"/>
            <a:ext cx="54864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ature of M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451240" cy="289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that at the name of Jesus every knee should bow, of those who are in heaven, and on earth, and under the earth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at every tongue should confess that Jesus Christ is Lord, to the glory of God the Father. (Philippians 2:10-11)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76520" y="304920"/>
            <a:ext cx="54864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ature of M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have been the effects of Christian boycot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267080"/>
            <a:ext cx="236232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5790960" cy="527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34290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has Christianity been impacted by cultur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472464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re the problems with equating patriotism with Christian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696440" cy="576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what are Christians know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24172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benefits might there be for the church and our culture if Christians performed the task of cultural criticism more adequatel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11-15T15:21:32Z</dcterms:modified>
  <cp:revision>80</cp:revision>
  <dc:subject/>
  <dc:title>Discipleship Across the Lifespan</dc:title>
</cp:coreProperties>
</file>