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44C7-E3C5-4AF5-84BC-CF2D682B2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E805-991C-4CDD-8B4B-CC720879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6C81-A14D-489E-9755-0D2861140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D7CE-467A-4DF0-B68F-EDD74CA44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8046-6776-4BA8-9D7C-9627CDDC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8DDB-27CF-47BE-9679-04BDA8FC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8597-271E-4401-9B7D-B5EA6F07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2166-4552-4A16-8692-D6AE85BE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ECE5-415A-46F4-B8D8-AAD5C58B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425A-C460-4739-9658-5EE8EDC3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EE21-DF1C-4CD7-97DC-9683361B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B107-4E62-49EE-9926-A2EE9E67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1A26-DB57-4155-A5E1-768CB8E027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3087360"/>
            <a:ext cx="5562720" cy="18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orld Views in Conflic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19520" y="557676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43000" y="1752480"/>
            <a:ext cx="6705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rist &amp; Cultur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eam Tim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2763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ck three popular movies and discuss how they reflect popular culture and then discuss how Christianity deals with those refl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581280" y="1447920"/>
            <a:ext cx="1752840" cy="167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hristian world view impacts how we see the God, the world, and oursel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ians have used different approaches in the past and present to deal with 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le our culture will always impact us, an awareness of that impact will help us to evaluate that impact and, when necessary, to counter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is Culture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895480" y="1523520"/>
            <a:ext cx="5486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e represents human responses to God’s first and foundational command: ‘Be fruitful and increase in number; fill the earth and subdue it’ (Gen 1:28).  God entrusts human beings with the continuing process of creation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Romanowski, Pg 44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197496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hristians and Cultur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28600" y="990720"/>
            <a:ext cx="4267080" cy="2669400"/>
            <a:chOff x="228600" y="990720"/>
            <a:chExt cx="4267080" cy="2669400"/>
          </a:xfrm>
        </p:grpSpPr>
        <p:sp>
          <p:nvSpPr>
            <p:cNvPr id="49" name=""/>
            <p:cNvSpPr/>
            <p:nvPr/>
          </p:nvSpPr>
          <p:spPr>
            <a:xfrm>
              <a:off x="228600" y="990720"/>
              <a:ext cx="4267080" cy="2666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320040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ntithesis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80880" y="1295280"/>
              <a:ext cx="1524240" cy="144792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133720" y="1219320"/>
              <a:ext cx="2209680" cy="175248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66880" y="129528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89240" y="2438280"/>
              <a:ext cx="194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od’s Real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4724280" y="990720"/>
            <a:ext cx="3962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urch divorces itself from 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astic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hristians and Cultur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4724280" y="990720"/>
            <a:ext cx="4267440" cy="2669400"/>
            <a:chOff x="4724280" y="990720"/>
            <a:chExt cx="4267440" cy="2669400"/>
          </a:xfrm>
        </p:grpSpPr>
        <p:sp>
          <p:nvSpPr>
            <p:cNvPr id="58" name=""/>
            <p:cNvSpPr/>
            <p:nvPr/>
          </p:nvSpPr>
          <p:spPr>
            <a:xfrm>
              <a:off x="4724280" y="990720"/>
              <a:ext cx="4267440" cy="2666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800600" y="320040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Conversionist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838760" y="1219320"/>
              <a:ext cx="4038480" cy="182880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162920" y="1295280"/>
              <a:ext cx="1218960" cy="1067040"/>
            </a:xfrm>
            <a:prstGeom prst="upArrowCallout">
              <a:avLst>
                <a:gd name="adj1" fmla="val 41055"/>
                <a:gd name="adj2" fmla="val 28559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84920" y="2438280"/>
              <a:ext cx="194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od’s Real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76920" y="1295280"/>
              <a:ext cx="1523880" cy="144792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28600" y="990720"/>
            <a:ext cx="4267080" cy="2669400"/>
            <a:chOff x="228600" y="990720"/>
            <a:chExt cx="4267080" cy="2669400"/>
          </a:xfrm>
        </p:grpSpPr>
        <p:sp>
          <p:nvSpPr>
            <p:cNvPr id="65" name=""/>
            <p:cNvSpPr/>
            <p:nvPr/>
          </p:nvSpPr>
          <p:spPr>
            <a:xfrm>
              <a:off x="228600" y="990720"/>
              <a:ext cx="4267080" cy="26668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520" y="320040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ntithesis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1295280"/>
              <a:ext cx="1524240" cy="144792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1219320"/>
              <a:ext cx="2209680" cy="175248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66880" y="129528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9240" y="2438280"/>
              <a:ext cx="194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od’s Real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4724280" y="3733920"/>
            <a:ext cx="44197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urch seeks to convert individuals from the world to the chu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e same time, individuals impact culture with Christian val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hristians and Cultur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4724280" y="990720"/>
            <a:ext cx="4267440" cy="2669400"/>
            <a:chOff x="4724280" y="990720"/>
            <a:chExt cx="4267440" cy="2669400"/>
          </a:xfrm>
        </p:grpSpPr>
        <p:sp>
          <p:nvSpPr>
            <p:cNvPr id="74" name=""/>
            <p:cNvSpPr/>
            <p:nvPr/>
          </p:nvSpPr>
          <p:spPr>
            <a:xfrm>
              <a:off x="4724280" y="990720"/>
              <a:ext cx="4267440" cy="2666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00600" y="320040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Conversionist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38760" y="1219320"/>
              <a:ext cx="4038480" cy="182880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162920" y="1295280"/>
              <a:ext cx="1218960" cy="1067040"/>
            </a:xfrm>
            <a:prstGeom prst="upArrowCallout">
              <a:avLst>
                <a:gd name="adj1" fmla="val 41055"/>
                <a:gd name="adj2" fmla="val 28559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84920" y="2438280"/>
              <a:ext cx="194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od’s Real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6920" y="1295280"/>
              <a:ext cx="1523880" cy="144792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28600" y="990720"/>
            <a:ext cx="4267080" cy="2669400"/>
            <a:chOff x="228600" y="990720"/>
            <a:chExt cx="4267080" cy="2669400"/>
          </a:xfrm>
        </p:grpSpPr>
        <p:sp>
          <p:nvSpPr>
            <p:cNvPr id="81" name=""/>
            <p:cNvSpPr/>
            <p:nvPr/>
          </p:nvSpPr>
          <p:spPr>
            <a:xfrm>
              <a:off x="228600" y="990720"/>
              <a:ext cx="4267080" cy="26668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3520" y="320040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ntithesis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0880" y="1295280"/>
              <a:ext cx="1524240" cy="144792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33720" y="1219320"/>
              <a:ext cx="2209680" cy="175248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129528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89240" y="2438280"/>
              <a:ext cx="194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od’s Real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28600" y="3886200"/>
            <a:ext cx="4267080" cy="2669400"/>
            <a:chOff x="228600" y="3886200"/>
            <a:chExt cx="4267080" cy="2669400"/>
          </a:xfrm>
        </p:grpSpPr>
        <p:sp>
          <p:nvSpPr>
            <p:cNvPr id="88" name=""/>
            <p:cNvSpPr/>
            <p:nvPr/>
          </p:nvSpPr>
          <p:spPr>
            <a:xfrm>
              <a:off x="228600" y="3886200"/>
              <a:ext cx="4267080" cy="26668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4920" y="60958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Transforming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71600" y="4038480"/>
              <a:ext cx="2057400" cy="198144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23880" y="4191120"/>
              <a:ext cx="1828800" cy="1600200"/>
            </a:xfrm>
            <a:prstGeom prst="irregularSeal2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52480" y="426708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07280" y="548640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4572000" y="4495680"/>
            <a:ext cx="45720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wer of the gospel transforms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man Catholic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ormed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hristians and Cultur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724280" y="990720"/>
            <a:ext cx="4267440" cy="2669400"/>
            <a:chOff x="4724280" y="990720"/>
            <a:chExt cx="4267440" cy="2669400"/>
          </a:xfrm>
        </p:grpSpPr>
        <p:sp>
          <p:nvSpPr>
            <p:cNvPr id="97" name=""/>
            <p:cNvSpPr/>
            <p:nvPr/>
          </p:nvSpPr>
          <p:spPr>
            <a:xfrm>
              <a:off x="4724280" y="990720"/>
              <a:ext cx="4267440" cy="2666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00600" y="320040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Conversionist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838760" y="1219320"/>
              <a:ext cx="4038480" cy="182880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162920" y="1295280"/>
              <a:ext cx="1218960" cy="1067040"/>
            </a:xfrm>
            <a:prstGeom prst="upArrowCallout">
              <a:avLst>
                <a:gd name="adj1" fmla="val 41055"/>
                <a:gd name="adj2" fmla="val 28559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784920" y="2438280"/>
              <a:ext cx="194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od’s Real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76920" y="1295280"/>
              <a:ext cx="1523880" cy="144792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28600" y="990720"/>
            <a:ext cx="4267080" cy="2669400"/>
            <a:chOff x="228600" y="990720"/>
            <a:chExt cx="4267080" cy="2669400"/>
          </a:xfrm>
        </p:grpSpPr>
        <p:sp>
          <p:nvSpPr>
            <p:cNvPr id="104" name=""/>
            <p:cNvSpPr/>
            <p:nvPr/>
          </p:nvSpPr>
          <p:spPr>
            <a:xfrm>
              <a:off x="228600" y="990720"/>
              <a:ext cx="4267080" cy="26668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3520" y="320040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ntithesis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0880" y="1295280"/>
              <a:ext cx="1524240" cy="144792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33720" y="1219320"/>
              <a:ext cx="2209680" cy="175248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66880" y="129528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89240" y="2438280"/>
              <a:ext cx="194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od’s Real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28600" y="3886200"/>
            <a:ext cx="4267080" cy="2669400"/>
            <a:chOff x="228600" y="3886200"/>
            <a:chExt cx="4267080" cy="2669400"/>
          </a:xfrm>
        </p:grpSpPr>
        <p:sp>
          <p:nvSpPr>
            <p:cNvPr id="111" name=""/>
            <p:cNvSpPr/>
            <p:nvPr/>
          </p:nvSpPr>
          <p:spPr>
            <a:xfrm>
              <a:off x="228600" y="3886200"/>
              <a:ext cx="4267080" cy="26668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4920" y="60958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Transforming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71600" y="4038480"/>
              <a:ext cx="2057400" cy="198144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23880" y="4191120"/>
              <a:ext cx="1828800" cy="1600200"/>
            </a:xfrm>
            <a:prstGeom prst="irregularSeal2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52480" y="426708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07280" y="548640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724280" y="3886200"/>
            <a:ext cx="4267440" cy="2669400"/>
            <a:chOff x="4724280" y="3886200"/>
            <a:chExt cx="4267440" cy="2669400"/>
          </a:xfrm>
        </p:grpSpPr>
        <p:sp>
          <p:nvSpPr>
            <p:cNvPr id="118" name=""/>
            <p:cNvSpPr/>
            <p:nvPr/>
          </p:nvSpPr>
          <p:spPr>
            <a:xfrm>
              <a:off x="4724280" y="3886200"/>
              <a:ext cx="4267440" cy="26668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75040" y="609588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ccommodation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67280" y="4191120"/>
              <a:ext cx="1828800" cy="175248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29400" y="449568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007200"/>
                </a:gs>
                <a:gs pos="100000">
                  <a:srgbClr val="660033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31440" y="457200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70440" y="507996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hristians and Cultur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724280" y="990720"/>
            <a:ext cx="4267440" cy="2669400"/>
            <a:chOff x="4724280" y="990720"/>
            <a:chExt cx="4267440" cy="2669400"/>
          </a:xfrm>
        </p:grpSpPr>
        <p:sp>
          <p:nvSpPr>
            <p:cNvPr id="126" name=""/>
            <p:cNvSpPr/>
            <p:nvPr/>
          </p:nvSpPr>
          <p:spPr>
            <a:xfrm>
              <a:off x="4724280" y="990720"/>
              <a:ext cx="4267440" cy="2666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00600" y="320040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Conversionist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38760" y="1219320"/>
              <a:ext cx="4038480" cy="182880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62920" y="1295280"/>
              <a:ext cx="1218960" cy="1067040"/>
            </a:xfrm>
            <a:prstGeom prst="upArrowCallout">
              <a:avLst>
                <a:gd name="adj1" fmla="val 41055"/>
                <a:gd name="adj2" fmla="val 28559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84920" y="2438280"/>
              <a:ext cx="194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od’s Real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76920" y="1295280"/>
              <a:ext cx="1523880" cy="144792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28600" y="990720"/>
            <a:ext cx="4267080" cy="2669400"/>
            <a:chOff x="228600" y="990720"/>
            <a:chExt cx="4267080" cy="2669400"/>
          </a:xfrm>
        </p:grpSpPr>
        <p:sp>
          <p:nvSpPr>
            <p:cNvPr id="133" name=""/>
            <p:cNvSpPr/>
            <p:nvPr/>
          </p:nvSpPr>
          <p:spPr>
            <a:xfrm>
              <a:off x="228600" y="990720"/>
              <a:ext cx="4267080" cy="26668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3520" y="320040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ntithesis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0880" y="1295280"/>
              <a:ext cx="1524240" cy="144792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33720" y="1219320"/>
              <a:ext cx="2209680" cy="175248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6880" y="129528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89240" y="2438280"/>
              <a:ext cx="194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od’s Real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28600" y="3886200"/>
            <a:ext cx="4267080" cy="2669400"/>
            <a:chOff x="228600" y="3886200"/>
            <a:chExt cx="4267080" cy="2669400"/>
          </a:xfrm>
        </p:grpSpPr>
        <p:sp>
          <p:nvSpPr>
            <p:cNvPr id="140" name=""/>
            <p:cNvSpPr/>
            <p:nvPr/>
          </p:nvSpPr>
          <p:spPr>
            <a:xfrm>
              <a:off x="228600" y="3886200"/>
              <a:ext cx="4267080" cy="26668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4920" y="60958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Transforming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71600" y="4038480"/>
              <a:ext cx="2057400" cy="198144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23880" y="4191120"/>
              <a:ext cx="1828800" cy="1600200"/>
            </a:xfrm>
            <a:prstGeom prst="irregularSeal2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52480" y="426708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07280" y="548640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724280" y="3886200"/>
            <a:ext cx="4267440" cy="2669400"/>
            <a:chOff x="4724280" y="3886200"/>
            <a:chExt cx="4267440" cy="2669400"/>
          </a:xfrm>
        </p:grpSpPr>
        <p:sp>
          <p:nvSpPr>
            <p:cNvPr id="147" name=""/>
            <p:cNvSpPr/>
            <p:nvPr/>
          </p:nvSpPr>
          <p:spPr>
            <a:xfrm>
              <a:off x="4724280" y="3886200"/>
              <a:ext cx="4267440" cy="26668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75040" y="609588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ccommodation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67280" y="4191120"/>
              <a:ext cx="1828800" cy="175248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629400" y="449568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007200"/>
                </a:gs>
                <a:gs pos="100000">
                  <a:srgbClr val="660033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31440" y="457200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70440" y="507996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hristians and Cultur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2895480" y="2590560"/>
            <a:ext cx="5486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believe Christians should be actively engaged with culture; studying it, discerning positive and negative aspects, and working to redeem it” (Romanowski, Pg 4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09480" y="2590920"/>
            <a:ext cx="1974960" cy="2971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952880" y="114300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4920" y="1143000"/>
            <a:ext cx="67057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does a biblical understanding of culture and stewardship affect the way we think about the popular arts and culture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2-06-08T01:38:19Z</dcterms:modified>
  <cp:revision>76</cp:revision>
  <dc:subject/>
  <dc:title>Discipleship Across the Lifespan</dc:title>
</cp:coreProperties>
</file>