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05C-BA61-4F82-B548-3F573F3D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E93-8014-4319-A40A-1447D66B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D70-0E43-4A2C-88FC-36303D45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DA3-569D-4438-B797-9D4712D7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B10-606B-47FB-B336-94862AEB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DD4-5459-413D-B207-A06B770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BFF-05BE-4C31-8586-D55F8B7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23A-9F92-4934-B0D0-08E0AAD9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353-2139-4787-9896-46B48E8A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8EF-6E7D-458A-866C-F353EF5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58D-6078-44D4-BC65-33D5E8D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467-F4E3-4219-B8AE-8095604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A49-E9F1-4CF1-86A7-72F81340B9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2231640"/>
            <a:ext cx="4419720" cy="1081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LEVITICU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Book of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183024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609480"/>
            <a:ext cx="403848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hould one respond to paradoxes in the Bib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hol Dic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58000" y="838080"/>
            <a:ext cx="1882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88280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83024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609480"/>
            <a:ext cx="403848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it mean to struggle with Go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hol Dic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257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paradox or problem with which you strugg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257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 such paradoxes involve a struggle with Go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257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 such struggles strengthen your fait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Outline of Leviticu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Offerings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676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8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23623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Holiness (11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0481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tonement (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7339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Holiness (17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4197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21-2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105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ointed Times (23-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 and Vows (26-2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you walk in My statutes and keep My commandments… (26: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ive you 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d will yield its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s of the field will bea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at your food to the f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rant you pe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chase you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you fruitful and multipl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dwell with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you do not obey Me and carry out all these commandments… (26:1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ppoint over you a sudden terror, consumption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sow your seed use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be struck down before you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te you shall rule ove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flee when no one is pursu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, after these things, you do not obey me… (26:18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unish you seven times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reak down your pride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rength will be spent use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land will not produce its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s of the land will not yield thei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Outline of Leviticu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99036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Offerings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676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8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3623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Holiness (11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0481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tonement (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37339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Holiness (17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197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of the Priests (21-2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105520"/>
            <a:ext cx="586728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ointed Times (23-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791320"/>
            <a:ext cx="7848360" cy="685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 and Vows (26-2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, then you act with hostility toward Me and are not willing… (26:2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increase the plague seve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et loose among you the beast of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bereave you of your children and destroy your c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, by these things you are not turned to Me… (26:2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trike you seve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ring upon you a 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trike you with a pesti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bread shall be rati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, in spite of this, you do not obey Me… (26:27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unish you seven times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eat the flesh of your sons and daugh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cut down your high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ay waste your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the land deso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catter you among the nations and you will perish among the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f they confess their iniquity or if their uncircumcised heart becomes humbled... (26:40-4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member My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memb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not reject them to destro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member for them the covenant with their anc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fferings and Sacrifi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6553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ere the sacrifices important (necessary)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y meant to achie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Christians no longer make sacrifices (or do they)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worship a sacrifi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T connections can be drawn to the sacrificial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ean &amp; Unclean Fo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6553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ological ideas are reflected in the food regulations Leviticus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the distinction between clean and unclean foo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the blood prohibi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NT connections to the food regul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n Morality be Legislat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can Holiness be taught to Children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5840" y="320040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ur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can Holiness be taught to Adult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5840" y="320040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ur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183024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609480"/>
            <a:ext cx="403848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can we learn anything if no one disagrees?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hol Dic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858000" y="838080"/>
            <a:ext cx="1882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7-16T16:57:19Z</dcterms:modified>
  <cp:revision>238</cp:revision>
  <dc:subject/>
  <dc:title>Discipleship Across the Lifespan</dc:title>
</cp:coreProperties>
</file>