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7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F80-44A4-4B4C-B241-B5EBB641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BD6-CAFB-4EA2-A0E3-5DE7CA09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D3F-CC7C-47D4-9520-A345887C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265-E3A6-4B49-B3BB-5F1D6601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7B7-0597-4BBF-92EA-74412138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2A8-F29D-4DA0-A3A8-9022DD54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685-16F2-48F2-92F2-4A203359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992-8A15-4B23-BF85-1D35D7F5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BE0-C58C-4F80-8DCB-25931BE3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01F-ECDD-45FD-9595-659836CF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CAD-8A6D-4528-BD52-D5DEE966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B1D-53C5-4B99-B76E-783DE3A3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4AD7-FEEB-4680-9517-44FC0F13F2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3164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 Black"/>
              </a:rPr>
              <a:t>EXODU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Law and the Taberna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38280" y="1927080"/>
            <a:ext cx="327672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odus 14:21-2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162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Moses stretched out his hand over the sea; and the LORD swept the sea back by a strong east wind all night and turned the sea into dry land, so the waters were divide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sons of Israel went through the midst of the sea on the dry land, and the waters were like a wall to them on their right hand and on their lef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762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Nature of the Covenant Relationship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62320" y="17524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coven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examples of modern covenant relationshi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these covenant relationships different from God’s covenant relationship with Isra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odus 19:5-6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23520"/>
            <a:ext cx="7086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n, if you will indeed obey My voice and keep My covenant, then you shall be My own possession among all the peoples, for all the earth is Mine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you shall be to Me a kingdom of priests and a holy nation.” These are the words that you shall speak to the sons of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2193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loud"/>
          <p:cNvSpPr/>
          <p:nvPr/>
        </p:nvSpPr>
        <p:spPr>
          <a:xfrm>
            <a:off x="2971800" y="820800"/>
            <a:ext cx="2759040" cy="1160280"/>
          </a:xfrm>
          <a:prstGeom prst="pie">
            <a:avLst/>
          </a:prstGeom>
          <a:gradFill rotWithShape="0">
            <a:gsLst>
              <a:gs pos="0">
                <a:srgbClr val="ca2514"/>
              </a:gs>
              <a:gs pos="100000">
                <a:srgbClr val="5d110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GO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1981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3876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h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38768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5680" y="3581280"/>
            <a:ext cx="96840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284880" y="3657600"/>
            <a:ext cx="95904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581280" y="2590920"/>
            <a:ext cx="1557360" cy="234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en Command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singular (“thou” instead of “ye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be divided into two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directed toward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directed toward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4190760" cy="1469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first four command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76320"/>
            <a:ext cx="4191120" cy="1469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last six command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538280"/>
            <a:ext cx="4191120" cy="1579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men’s relationship with one an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538280"/>
            <a:ext cx="4190760" cy="1579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Israel’s relationship with the L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103560"/>
            <a:ext cx="4191120" cy="1087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asons nee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103560"/>
            <a:ext cx="4190760" cy="1087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 given for each comm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4191120"/>
            <a:ext cx="4191120" cy="259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laws are common to most of the ancient cultures of that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191120"/>
            <a:ext cx="4190760" cy="2590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ly unique to this constitution.  No other society in the ancient world had similar la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en Command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singular (“thou” instead of “ye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be divided into two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directed toward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directed toward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ipulations that follow serve as further interpretation of the Ten Command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Significance of “Place”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3657600"/>
            <a:ext cx="6172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it look li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unds or smells are associated with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its design or makeup make it spec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4382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ink of a Place or Locale that is special to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86200" y="1143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676160" y="3657600"/>
            <a:ext cx="6172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it look li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ounds or smells are associated with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its design or makeup make it spec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86200" y="1143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19810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Use these questions to describe the place where you wo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structions for the Tabernac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71600" y="148608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odus 13:17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when Pharaoh had let the people go, God did not lead them by the way of the land of the Philistines, even though it was near; for God said, “The people might change their minds when they see war, and return to Egyp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2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1905120"/>
            <a:ext cx="6400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30184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350040" cy="593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315200" cy="528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443412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43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37160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ways is the place of worship different under the new covenant (the church) from what it was under the old covenant of Israe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ways is it the sam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s our fundamental human sense of space remained the sam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s this been given new expressio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s from Exodus 3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God’s words &amp;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God reveal to Mo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is relate to the coven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95280" cy="1238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1523880"/>
            <a:ext cx="2819520" cy="642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roup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2209680"/>
            <a:ext cx="3352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words &amp; actions of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Moses learn about G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is relate to the coven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1523880"/>
            <a:ext cx="2819520" cy="642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roup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V="1">
            <a:off x="6826320" y="2361960"/>
            <a:ext cx="7596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4029120"/>
            <a:ext cx="7632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685800"/>
            <a:ext cx="373356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bernacle bui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d God 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35-4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4724280"/>
            <a:ext cx="3352680" cy="1524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venant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&amp;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19-2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4724280"/>
            <a:ext cx="3809880" cy="1524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ands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ilding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bernacle (25-3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895480"/>
            <a:ext cx="289548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rael reb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14-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2895480"/>
            <a:ext cx="281916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rael reb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32-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209680"/>
            <a:ext cx="76320" cy="60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5334120"/>
            <a:ext cx="6094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553080" y="4114440"/>
            <a:ext cx="7632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685800"/>
            <a:ext cx="388620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d meets Mos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Israel ex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rom Egypt (1-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-795240"/>
            <a:ext cx="9448920" cy="7653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20760" y="27432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20536200">
            <a:off x="3417840" y="168588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ay of the Philisti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-380880" y="-243000"/>
            <a:ext cx="11048760" cy="7101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4648320"/>
            <a:ext cx="3581280" cy="1828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cloud covered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ent of meeting, and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glory of the Lord fi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tabernacle (Exod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40: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715000" y="1447920"/>
            <a:ext cx="2286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c002e"/>
              </a:gs>
              <a:gs pos="100000">
                <a:srgbClr val="2a001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odus 13:18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ce God led the people around by the way of the wilderness to the Red Sea; and the sons of Israel went up in martial array from the land of Egyp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762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562720" y="3352680"/>
            <a:ext cx="2438280" cy="1739880"/>
            <a:chOff x="5562720" y="3352680"/>
            <a:chExt cx="2438280" cy="1739880"/>
          </a:xfrm>
        </p:grpSpPr>
        <p:sp>
          <p:nvSpPr>
            <p:cNvPr id="57" name=""/>
            <p:cNvSpPr/>
            <p:nvPr/>
          </p:nvSpPr>
          <p:spPr>
            <a:xfrm>
              <a:off x="5715000" y="3352680"/>
              <a:ext cx="2133720" cy="1739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Bwhebb"/>
                </a:rPr>
                <a:t>@Ws-~y: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62720" y="437364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Yam Suph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78168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-795240"/>
            <a:ext cx="9448920" cy="7653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20760" y="27432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2895480"/>
            <a:ext cx="1295280" cy="177840"/>
          </a:xfrm>
          <a:custGeom>
            <a:avLst/>
            <a:gdLst/>
            <a:ahLst/>
            <a:rect l="l" t="t" r="r" b="b"/>
            <a:pathLst>
              <a:path w="816" h="112">
                <a:moveTo>
                  <a:pt x="0" y="0"/>
                </a:moveTo>
                <a:cubicBezTo>
                  <a:pt x="172" y="40"/>
                  <a:pt x="344" y="80"/>
                  <a:pt x="480" y="96"/>
                </a:cubicBezTo>
                <a:cubicBezTo>
                  <a:pt x="616" y="112"/>
                  <a:pt x="716" y="104"/>
                  <a:pt x="816" y="96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879560"/>
            <a:ext cx="3048120" cy="863640"/>
          </a:xfrm>
          <a:custGeom>
            <a:avLst/>
            <a:gdLst/>
            <a:ahLst/>
            <a:rect l="l" t="t" r="r" b="b"/>
            <a:pathLst>
              <a:path w="1920" h="544">
                <a:moveTo>
                  <a:pt x="0" y="544"/>
                </a:moveTo>
                <a:cubicBezTo>
                  <a:pt x="152" y="480"/>
                  <a:pt x="304" y="416"/>
                  <a:pt x="432" y="352"/>
                </a:cubicBezTo>
                <a:cubicBezTo>
                  <a:pt x="560" y="288"/>
                  <a:pt x="656" y="216"/>
                  <a:pt x="768" y="160"/>
                </a:cubicBezTo>
                <a:cubicBezTo>
                  <a:pt x="880" y="104"/>
                  <a:pt x="1016" y="32"/>
                  <a:pt x="1104" y="16"/>
                </a:cubicBezTo>
                <a:cubicBezTo>
                  <a:pt x="1192" y="0"/>
                  <a:pt x="1208" y="40"/>
                  <a:pt x="1296" y="64"/>
                </a:cubicBezTo>
                <a:cubicBezTo>
                  <a:pt x="1384" y="88"/>
                  <a:pt x="1544" y="144"/>
                  <a:pt x="1632" y="160"/>
                </a:cubicBezTo>
                <a:cubicBezTo>
                  <a:pt x="1720" y="176"/>
                  <a:pt x="1776" y="160"/>
                  <a:pt x="1824" y="160"/>
                </a:cubicBezTo>
                <a:cubicBezTo>
                  <a:pt x="1872" y="160"/>
                  <a:pt x="1896" y="160"/>
                  <a:pt x="1920" y="16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0481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44" y="36"/>
                  <a:pt x="288" y="72"/>
                  <a:pt x="336" y="144"/>
                </a:cubicBezTo>
                <a:cubicBezTo>
                  <a:pt x="384" y="216"/>
                  <a:pt x="248" y="368"/>
                  <a:pt x="288" y="432"/>
                </a:cubicBezTo>
                <a:cubicBezTo>
                  <a:pt x="328" y="496"/>
                  <a:pt x="480" y="512"/>
                  <a:pt x="576" y="528"/>
                </a:cubicBezTo>
                <a:cubicBezTo>
                  <a:pt x="672" y="544"/>
                  <a:pt x="784" y="520"/>
                  <a:pt x="864" y="528"/>
                </a:cubicBezTo>
                <a:cubicBezTo>
                  <a:pt x="944" y="536"/>
                  <a:pt x="1000" y="556"/>
                  <a:pt x="1056" y="576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2895480"/>
            <a:ext cx="4419720" cy="3124440"/>
          </a:xfrm>
          <a:custGeom>
            <a:avLst/>
            <a:gdLst/>
            <a:ahLst/>
            <a:rect l="l" t="t" r="r" b="b"/>
            <a:pathLst>
              <a:path w="2784" h="1968">
                <a:moveTo>
                  <a:pt x="0" y="0"/>
                </a:moveTo>
                <a:cubicBezTo>
                  <a:pt x="164" y="60"/>
                  <a:pt x="328" y="120"/>
                  <a:pt x="480" y="240"/>
                </a:cubicBezTo>
                <a:cubicBezTo>
                  <a:pt x="632" y="360"/>
                  <a:pt x="784" y="544"/>
                  <a:pt x="912" y="720"/>
                </a:cubicBezTo>
                <a:cubicBezTo>
                  <a:pt x="1040" y="896"/>
                  <a:pt x="1160" y="1144"/>
                  <a:pt x="1248" y="1296"/>
                </a:cubicBezTo>
                <a:cubicBezTo>
                  <a:pt x="1336" y="1448"/>
                  <a:pt x="1376" y="1528"/>
                  <a:pt x="1440" y="1632"/>
                </a:cubicBezTo>
                <a:cubicBezTo>
                  <a:pt x="1504" y="1736"/>
                  <a:pt x="1528" y="1872"/>
                  <a:pt x="1632" y="1920"/>
                </a:cubicBezTo>
                <a:cubicBezTo>
                  <a:pt x="1736" y="1968"/>
                  <a:pt x="1920" y="1936"/>
                  <a:pt x="2064" y="1920"/>
                </a:cubicBezTo>
                <a:cubicBezTo>
                  <a:pt x="2208" y="1904"/>
                  <a:pt x="2376" y="1864"/>
                  <a:pt x="2496" y="1824"/>
                </a:cubicBezTo>
                <a:cubicBezTo>
                  <a:pt x="2616" y="1784"/>
                  <a:pt x="2700" y="1732"/>
                  <a:pt x="2784" y="168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odus 13:21-2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162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as going before them in a pillar of cloud by day to lead them on the way, and in a pillar of fire by night to give them light, that they might travel by day and by night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He did not take away the pillar of cloud by day, nor the pillar of fire by night, from before the peo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762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odus 14:1-3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162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he LORD spoke to Moses, saying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Tell the sons of Israel to turn back and camp before Pi-hahiroth, between Migdol and the sea; you shall camp in front of Baal-zephon, opposite it, by the sea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Pharaoh will say of the sons of Israel, ‘They are wandering aimlessly in the land; the wilderness has shut them in.’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762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-795240"/>
            <a:ext cx="9448920" cy="7653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102400" y="205740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cc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-228600"/>
            <a:ext cx="3581640" cy="3080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haraoh will say of the sons of Israel, ‘They are wandering aimlessly in the land; the wilderness has shut them in.’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xodus 14: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640" y="23623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94000" y="2743200"/>
            <a:ext cx="1509120" cy="459720"/>
            <a:chOff x="3294000" y="2743200"/>
            <a:chExt cx="1509120" cy="459720"/>
          </a:xfrm>
        </p:grpSpPr>
        <p:sp>
          <p:nvSpPr>
            <p:cNvPr id="77" name=""/>
            <p:cNvSpPr/>
            <p:nvPr/>
          </p:nvSpPr>
          <p:spPr>
            <a:xfrm>
              <a:off x="3294000" y="2743200"/>
              <a:ext cx="4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99000" y="274320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Etha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301920" y="3048120"/>
            <a:ext cx="507960" cy="761760"/>
          </a:xfrm>
          <a:custGeom>
            <a:avLst/>
            <a:gdLst/>
            <a:ahLst/>
            <a:rect l="l" t="t" r="r" b="b"/>
            <a:pathLst>
              <a:path w="320" h="432">
                <a:moveTo>
                  <a:pt x="224" y="0"/>
                </a:moveTo>
                <a:cubicBezTo>
                  <a:pt x="272" y="28"/>
                  <a:pt x="320" y="56"/>
                  <a:pt x="320" y="96"/>
                </a:cubicBezTo>
                <a:cubicBezTo>
                  <a:pt x="320" y="136"/>
                  <a:pt x="272" y="208"/>
                  <a:pt x="224" y="240"/>
                </a:cubicBezTo>
                <a:cubicBezTo>
                  <a:pt x="176" y="272"/>
                  <a:pt x="64" y="256"/>
                  <a:pt x="32" y="288"/>
                </a:cubicBezTo>
                <a:cubicBezTo>
                  <a:pt x="0" y="320"/>
                  <a:pt x="16" y="376"/>
                  <a:pt x="32" y="432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848720" cy="5162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548496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ook six hundred select chariots, and all the other chariots of Egypt with officers over all of them (Exodus 14: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7-10T05:04:35Z</dcterms:modified>
  <cp:revision>222</cp:revision>
  <dc:subject/>
  <dc:title>Discipleship Across the Lifespan</dc:title>
</cp:coreProperties>
</file>