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9291-29CA-40BF-B18E-59B00D197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443B-7750-4571-94F2-B127CD601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1EDD-0AA4-49E3-B441-7D6B80CD0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C1ED-82AD-4099-A93F-5974B8D36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6F71-8E4A-4547-989A-EDB717D9B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F510-83C4-4BBD-8FC6-DB940E43A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FA25-100C-4247-9396-99CC17B4B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E6FC-3447-40A2-A48E-61E2434A8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E4CA-8659-47BC-AA9A-6C2909883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C2D0-B9A6-4A5F-92E7-9D29A5F53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ED89-72EC-4778-BD08-99B162C50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F022-DD7D-42A6-9117-22BC2D50D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3A5F9-23DF-4708-9570-6DE343122BD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400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Focus on Eval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5029200"/>
            <a:ext cx="35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© John Stevenson, 20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676520" y="2514600"/>
            <a:ext cx="5790960" cy="819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eaching the Bibl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752480" y="304920"/>
            <a:ext cx="6166080" cy="6248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219320" y="380880"/>
            <a:ext cx="6248160" cy="6170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523880" y="380880"/>
            <a:ext cx="6248520" cy="61135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3733920" y="380880"/>
            <a:ext cx="1676160" cy="819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LP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160" y="1676160"/>
            <a:ext cx="3809880" cy="1143000"/>
          </a:xfrm>
          <a:prstGeom prst="rect">
            <a:avLst/>
          </a:prstGeom>
          <a:gradFill rotWithShape="0">
            <a:gsLst>
              <a:gs pos="0">
                <a:srgbClr val="004992"/>
              </a:gs>
              <a:gs pos="100000">
                <a:srgbClr val="00214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Option #1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3047760"/>
            <a:ext cx="4038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pare two lesson plans from a single passage of the Bible we have not studied in cla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per detailing the differ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48320" y="3047760"/>
            <a:ext cx="4038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alyze Christian websites from li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per providing step by step model on how to te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24280" y="1676520"/>
            <a:ext cx="3810240" cy="1143000"/>
          </a:xfrm>
          <a:prstGeom prst="rect">
            <a:avLst/>
          </a:prstGeom>
          <a:gradFill rotWithShape="0">
            <a:gsLst>
              <a:gs pos="0">
                <a:srgbClr val="004992"/>
              </a:gs>
              <a:gs pos="100000">
                <a:srgbClr val="00214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Option #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True or False?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600200" y="2895480"/>
            <a:ext cx="5691240" cy="819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ractice makes perfect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5334120" y="2590920"/>
            <a:ext cx="3124080" cy="1295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Permanen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True or False?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143000" y="2895480"/>
            <a:ext cx="6986520" cy="819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xperience is the best teacher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80880" y="1600200"/>
            <a:ext cx="3124440" cy="1295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valuate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med">
    <p:fad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True or False?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600200" y="2895480"/>
            <a:ext cx="5691240" cy="819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We learn by doing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943600" y="3657600"/>
            <a:ext cx="2895480" cy="1143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Correctl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med">
    <p:fad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267080" y="3962520"/>
            <a:ext cx="3657600" cy="213336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Genesis 3:15</a:t>
            </a:r>
            <a:br>
              <a:rPr sz="3600"/>
            </a:b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Isaiah 6:1-7</a:t>
            </a:r>
            <a:br>
              <a:rPr sz="3600"/>
            </a:b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1 John 2:15-17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5105520" y="2286000"/>
            <a:ext cx="1904760" cy="6094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repar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5105520" y="2895480"/>
            <a:ext cx="1904760" cy="6098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 Lesson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257800" y="457200"/>
            <a:ext cx="1676520" cy="16034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914400" y="1523880"/>
            <a:ext cx="28195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The other groups will be evaluating your teaching sess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873080" y="304920"/>
            <a:ext cx="4907160" cy="6095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1905120" y="457200"/>
            <a:ext cx="5567400" cy="6095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1498680" y="228600"/>
            <a:ext cx="5740200" cy="6324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295280" y="304920"/>
            <a:ext cx="6232680" cy="6324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4T08:55:22Z</dcterms:created>
  <dc:creator>John Stevenson</dc:creator>
  <dc:description/>
  <dc:language>en-US</dc:language>
  <cp:lastModifiedBy>John Stevenson</cp:lastModifiedBy>
  <dcterms:modified xsi:type="dcterms:W3CDTF">2012-05-09T22:21:00Z</dcterms:modified>
  <cp:revision>349</cp:revision>
  <dc:subject/>
  <dc:title>Poetic Books</dc:title>
</cp:coreProperties>
</file>