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D19-C3E8-4B47-BF4B-1778DC63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AB8-1969-48B4-BB65-21BB4819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CC2-BC8C-4900-8EEE-21C0505C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6A9-837C-4113-A28D-17BD05FE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AE8-2919-4DAA-A846-425C48B2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E62-0626-4C15-A33D-93B4E399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698-3405-4995-B162-F7F81C3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F64-A21C-4780-A895-93CE4D1B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21F-925C-4446-91DA-A7801028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519-6C6D-46C7-A8A5-5A8B4FD8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D24-B511-428F-B4FE-3E479F1A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B57-5540-4AF6-A35F-C246ED32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0796-D854-41E6-AFE3-18331B55B7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cus on the Lear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2514600"/>
            <a:ext cx="57909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the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3880" y="380880"/>
            <a:ext cx="643428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ght Brain / Left Bra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4648320" cy="3627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3124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3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4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5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6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7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8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9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0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1.  L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838080"/>
            <a:ext cx="31240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2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3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4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7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8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9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0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1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2. 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609480"/>
            <a:ext cx="31240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3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4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5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6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7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8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9.  L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30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31.  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32. 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23880" y="380880"/>
            <a:ext cx="643428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ght Brain / Left Bra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505320" y="2109960"/>
            <a:ext cx="2224080" cy="230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971800" y="111924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valu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etailed Lesson Plan</a:t>
            </a:r>
            <a:br>
              <a:rPr sz="4000"/>
            </a:b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Topic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 rather than a passag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a detailed teaching 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 to the Lesson Planning Worksheet 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reative Bible Teach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47920" y="399960"/>
            <a:ext cx="651492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xt Week's Homewor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5-03T19:48:33Z</dcterms:modified>
  <cp:revision>345</cp:revision>
  <dc:subject/>
  <dc:title>Poetic Books</dc:title>
</cp:coreProperties>
</file>