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575-5589-41AC-885E-D1123B8F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D62-521F-4E47-ACE8-65294200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18D-2AB9-406C-B5C0-AE33B13B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503-9242-4E53-BE57-8BFA74A6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A47-B5B4-4150-95CC-5ADDB480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D65-02B9-49AB-BC09-C85E811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6DC-6C37-4E81-87BE-FBAFAD4E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39F-C35F-4E1E-8A70-11EBE16D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766-373B-45E2-A413-8AC53F7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055-92B4-4E7A-BF8D-9A13137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B56-8F25-42BC-961E-6F47495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60B-FA0B-4996-B879-E5DAD0EB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8FD6-3252-405F-81CC-3ACDF6A256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cus on the Lea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2514600"/>
            <a:ext cx="5790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295280"/>
            <a:ext cx="5486400" cy="5181840"/>
          </a:xfrm>
          <a:prstGeom prst="flowChartOr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743200" y="2057400"/>
            <a:ext cx="1447920" cy="1371600"/>
            <a:chOff x="2743200" y="2057400"/>
            <a:chExt cx="1447920" cy="1371600"/>
          </a:xfrm>
        </p:grpSpPr>
        <p:sp>
          <p:nvSpPr>
            <p:cNvPr id="90" name=""/>
            <p:cNvSpPr/>
            <p:nvPr/>
          </p:nvSpPr>
          <p:spPr>
            <a:xfrm>
              <a:off x="2924280" y="205740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51560" y="226296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60604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26400" y="4137480"/>
            <a:ext cx="1764720" cy="1653840"/>
            <a:chOff x="2426400" y="4137480"/>
            <a:chExt cx="1764720" cy="1653840"/>
          </a:xfrm>
        </p:grpSpPr>
        <p:grpSp>
          <p:nvGrpSpPr>
            <p:cNvPr id="94" name=""/>
            <p:cNvGrpSpPr/>
            <p:nvPr/>
          </p:nvGrpSpPr>
          <p:grpSpPr>
            <a:xfrm>
              <a:off x="2639160" y="4343400"/>
              <a:ext cx="1551960" cy="1447920"/>
              <a:chOff x="2639160" y="4343400"/>
              <a:chExt cx="1551960" cy="1447920"/>
            </a:xfrm>
          </p:grpSpPr>
          <p:sp>
            <p:nvSpPr>
              <p:cNvPr id="95" name=""/>
              <p:cNvSpPr/>
              <p:nvPr/>
            </p:nvSpPr>
            <p:spPr>
              <a:xfrm>
                <a:off x="263916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1040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rot="2527200">
              <a:off x="236196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480560" y="2041920"/>
            <a:ext cx="2305080" cy="1751400"/>
            <a:chOff x="4480560" y="2041920"/>
            <a:chExt cx="2305080" cy="1751400"/>
          </a:xfrm>
        </p:grpSpPr>
        <p:sp>
          <p:nvSpPr>
            <p:cNvPr id="99" name=""/>
            <p:cNvSpPr/>
            <p:nvPr/>
          </p:nvSpPr>
          <p:spPr>
            <a:xfrm rot="1254000">
              <a:off x="4649760" y="220464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4356600">
              <a:off x="5501880" y="250380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00600" y="4419720"/>
            <a:ext cx="1980720" cy="609480"/>
            <a:chOff x="4800600" y="4419720"/>
            <a:chExt cx="1980720" cy="609480"/>
          </a:xfrm>
        </p:grpSpPr>
        <p:sp>
          <p:nvSpPr>
            <p:cNvPr id="103" name=""/>
            <p:cNvSpPr/>
            <p:nvPr/>
          </p:nvSpPr>
          <p:spPr>
            <a:xfrm>
              <a:off x="6045840" y="441972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2304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060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533520" y="1295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60199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548640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n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4952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086600" y="59436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9343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08660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12193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agina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295280"/>
            <a:ext cx="5486400" cy="5181840"/>
          </a:xfrm>
          <a:prstGeom prst="flowChartOr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205704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reative Applic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43200" y="2057400"/>
            <a:ext cx="1447920" cy="1371600"/>
            <a:chOff x="2743200" y="2057400"/>
            <a:chExt cx="1447920" cy="1371600"/>
          </a:xfrm>
        </p:grpSpPr>
        <p:sp>
          <p:nvSpPr>
            <p:cNvPr id="119" name=""/>
            <p:cNvSpPr/>
            <p:nvPr/>
          </p:nvSpPr>
          <p:spPr>
            <a:xfrm>
              <a:off x="2924280" y="205740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51560" y="226296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260604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426400" y="4137480"/>
            <a:ext cx="1764720" cy="1653840"/>
            <a:chOff x="2426400" y="4137480"/>
            <a:chExt cx="1764720" cy="1653840"/>
          </a:xfrm>
        </p:grpSpPr>
        <p:grpSp>
          <p:nvGrpSpPr>
            <p:cNvPr id="123" name=""/>
            <p:cNvGrpSpPr/>
            <p:nvPr/>
          </p:nvGrpSpPr>
          <p:grpSpPr>
            <a:xfrm>
              <a:off x="2639160" y="4343400"/>
              <a:ext cx="1551960" cy="1447920"/>
              <a:chOff x="2639160" y="4343400"/>
              <a:chExt cx="1551960" cy="1447920"/>
            </a:xfrm>
          </p:grpSpPr>
          <p:sp>
            <p:nvSpPr>
              <p:cNvPr id="124" name=""/>
              <p:cNvSpPr/>
              <p:nvPr/>
            </p:nvSpPr>
            <p:spPr>
              <a:xfrm>
                <a:off x="263916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1040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2527200">
              <a:off x="236196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480560" y="2041920"/>
            <a:ext cx="2305080" cy="1751400"/>
            <a:chOff x="4480560" y="2041920"/>
            <a:chExt cx="2305080" cy="1751400"/>
          </a:xfrm>
        </p:grpSpPr>
        <p:sp>
          <p:nvSpPr>
            <p:cNvPr id="128" name=""/>
            <p:cNvSpPr/>
            <p:nvPr/>
          </p:nvSpPr>
          <p:spPr>
            <a:xfrm rot="1254000">
              <a:off x="4649760" y="220464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4356600">
              <a:off x="5501880" y="250380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800600" y="4419720"/>
            <a:ext cx="1980720" cy="609480"/>
            <a:chOff x="4800600" y="4419720"/>
            <a:chExt cx="1980720" cy="609480"/>
          </a:xfrm>
        </p:grpSpPr>
        <p:sp>
          <p:nvSpPr>
            <p:cNvPr id="132" name=""/>
            <p:cNvSpPr/>
            <p:nvPr/>
          </p:nvSpPr>
          <p:spPr>
            <a:xfrm>
              <a:off x="6045840" y="441972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2304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060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533520" y="1295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60199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548640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n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4952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086600" y="59436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9343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08660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05720" y="12193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agina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2286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2286000"/>
            <a:ext cx="2514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96252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295280"/>
            <a:ext cx="5486400" cy="5181840"/>
          </a:xfrm>
          <a:prstGeom prst="flowChartOr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205704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can this become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743200" y="2057400"/>
            <a:ext cx="1447920" cy="1371600"/>
            <a:chOff x="2743200" y="2057400"/>
            <a:chExt cx="1447920" cy="1371600"/>
          </a:xfrm>
        </p:grpSpPr>
        <p:sp>
          <p:nvSpPr>
            <p:cNvPr id="151" name=""/>
            <p:cNvSpPr/>
            <p:nvPr/>
          </p:nvSpPr>
          <p:spPr>
            <a:xfrm>
              <a:off x="2924280" y="205740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51560" y="226296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260604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426400" y="4137480"/>
            <a:ext cx="1764720" cy="1653840"/>
            <a:chOff x="2426400" y="4137480"/>
            <a:chExt cx="1764720" cy="1653840"/>
          </a:xfrm>
        </p:grpSpPr>
        <p:grpSp>
          <p:nvGrpSpPr>
            <p:cNvPr id="155" name=""/>
            <p:cNvGrpSpPr/>
            <p:nvPr/>
          </p:nvGrpSpPr>
          <p:grpSpPr>
            <a:xfrm>
              <a:off x="2639160" y="4343400"/>
              <a:ext cx="1551960" cy="1447920"/>
              <a:chOff x="2639160" y="4343400"/>
              <a:chExt cx="1551960" cy="1447920"/>
            </a:xfrm>
          </p:grpSpPr>
          <p:sp>
            <p:nvSpPr>
              <p:cNvPr id="156" name=""/>
              <p:cNvSpPr/>
              <p:nvPr/>
            </p:nvSpPr>
            <p:spPr>
              <a:xfrm>
                <a:off x="263916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1040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rot="2527200">
              <a:off x="236196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480560" y="2041920"/>
            <a:ext cx="2305080" cy="1751400"/>
            <a:chOff x="4480560" y="2041920"/>
            <a:chExt cx="2305080" cy="1751400"/>
          </a:xfrm>
        </p:grpSpPr>
        <p:sp>
          <p:nvSpPr>
            <p:cNvPr id="160" name=""/>
            <p:cNvSpPr/>
            <p:nvPr/>
          </p:nvSpPr>
          <p:spPr>
            <a:xfrm rot="1254000">
              <a:off x="4649760" y="220464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4356600">
              <a:off x="5501880" y="250380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00600" y="4419720"/>
            <a:ext cx="1980720" cy="609480"/>
            <a:chOff x="4800600" y="4419720"/>
            <a:chExt cx="1980720" cy="609480"/>
          </a:xfrm>
        </p:grpSpPr>
        <p:sp>
          <p:nvSpPr>
            <p:cNvPr id="164" name=""/>
            <p:cNvSpPr/>
            <p:nvPr/>
          </p:nvSpPr>
          <p:spPr>
            <a:xfrm>
              <a:off x="6045840" y="441972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2304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60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533520" y="1295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48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60199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548640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n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4952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086600" y="59436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343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08660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705720" y="12193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agina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-76320" y="3581280"/>
            <a:ext cx="2286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w does thi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286000"/>
            <a:ext cx="2743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do I need to know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3962520"/>
            <a:ext cx="2895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do I need to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295280"/>
            <a:ext cx="5486400" cy="5181840"/>
          </a:xfrm>
          <a:prstGeom prst="flowChartOr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2332080"/>
            <a:ext cx="22860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l &amp;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743200" y="2057400"/>
            <a:ext cx="1447920" cy="1371600"/>
            <a:chOff x="2743200" y="2057400"/>
            <a:chExt cx="1447920" cy="1371600"/>
          </a:xfrm>
        </p:grpSpPr>
        <p:sp>
          <p:nvSpPr>
            <p:cNvPr id="183" name=""/>
            <p:cNvSpPr/>
            <p:nvPr/>
          </p:nvSpPr>
          <p:spPr>
            <a:xfrm>
              <a:off x="2924280" y="205740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51560" y="226296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260604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426400" y="4137480"/>
            <a:ext cx="1764720" cy="1653840"/>
            <a:chOff x="2426400" y="4137480"/>
            <a:chExt cx="1764720" cy="1653840"/>
          </a:xfrm>
        </p:grpSpPr>
        <p:grpSp>
          <p:nvGrpSpPr>
            <p:cNvPr id="187" name=""/>
            <p:cNvGrpSpPr/>
            <p:nvPr/>
          </p:nvGrpSpPr>
          <p:grpSpPr>
            <a:xfrm>
              <a:off x="2639160" y="4343400"/>
              <a:ext cx="1551960" cy="1447920"/>
              <a:chOff x="2639160" y="4343400"/>
              <a:chExt cx="1551960" cy="1447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63916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1040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rot="2527200">
              <a:off x="236196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480560" y="2041920"/>
            <a:ext cx="2305080" cy="1751400"/>
            <a:chOff x="4480560" y="2041920"/>
            <a:chExt cx="2305080" cy="1751400"/>
          </a:xfrm>
        </p:grpSpPr>
        <p:sp>
          <p:nvSpPr>
            <p:cNvPr id="192" name=""/>
            <p:cNvSpPr/>
            <p:nvPr/>
          </p:nvSpPr>
          <p:spPr>
            <a:xfrm rot="1254000">
              <a:off x="4649760" y="220464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4356600">
              <a:off x="5501880" y="250380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800600" y="4419720"/>
            <a:ext cx="1980720" cy="609480"/>
            <a:chOff x="4800600" y="4419720"/>
            <a:chExt cx="1980720" cy="609480"/>
          </a:xfrm>
        </p:grpSpPr>
        <p:sp>
          <p:nvSpPr>
            <p:cNvPr id="196" name=""/>
            <p:cNvSpPr/>
            <p:nvPr/>
          </p:nvSpPr>
          <p:spPr>
            <a:xfrm>
              <a:off x="6045840" y="441972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2304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060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 txBox="1"/>
          <p:nvPr/>
        </p:nvSpPr>
        <p:spPr>
          <a:xfrm>
            <a:off x="533520" y="1295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60199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548640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n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520" y="4952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86600" y="59436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343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08660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05720" y="12193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agina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2362320"/>
            <a:ext cx="26668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008600"/>
            <a:ext cx="26668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3962520"/>
            <a:ext cx="26668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k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295280"/>
            <a:ext cx="5486400" cy="5181840"/>
          </a:xfrm>
          <a:prstGeom prst="flowChartOr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743200" y="2057400"/>
            <a:ext cx="1447920" cy="1371600"/>
            <a:chOff x="2743200" y="2057400"/>
            <a:chExt cx="1447920" cy="1371600"/>
          </a:xfrm>
        </p:grpSpPr>
        <p:sp>
          <p:nvSpPr>
            <p:cNvPr id="214" name=""/>
            <p:cNvSpPr/>
            <p:nvPr/>
          </p:nvSpPr>
          <p:spPr>
            <a:xfrm>
              <a:off x="2924280" y="205740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51560" y="226296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260604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26400" y="4137480"/>
            <a:ext cx="1764720" cy="1653840"/>
            <a:chOff x="2426400" y="4137480"/>
            <a:chExt cx="1764720" cy="1653840"/>
          </a:xfrm>
        </p:grpSpPr>
        <p:grpSp>
          <p:nvGrpSpPr>
            <p:cNvPr id="218" name=""/>
            <p:cNvGrpSpPr/>
            <p:nvPr/>
          </p:nvGrpSpPr>
          <p:grpSpPr>
            <a:xfrm>
              <a:off x="2639160" y="4343400"/>
              <a:ext cx="1551960" cy="1447920"/>
              <a:chOff x="2639160" y="4343400"/>
              <a:chExt cx="1551960" cy="1447920"/>
            </a:xfrm>
          </p:grpSpPr>
          <p:sp>
            <p:nvSpPr>
              <p:cNvPr id="219" name=""/>
              <p:cNvSpPr/>
              <p:nvPr/>
            </p:nvSpPr>
            <p:spPr>
              <a:xfrm>
                <a:off x="263916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1040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2527200">
              <a:off x="236196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80560" y="2041920"/>
            <a:ext cx="2305080" cy="1751400"/>
            <a:chOff x="4480560" y="2041920"/>
            <a:chExt cx="2305080" cy="1751400"/>
          </a:xfrm>
        </p:grpSpPr>
        <p:sp>
          <p:nvSpPr>
            <p:cNvPr id="223" name=""/>
            <p:cNvSpPr/>
            <p:nvPr/>
          </p:nvSpPr>
          <p:spPr>
            <a:xfrm rot="1254000">
              <a:off x="4649760" y="220464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4356600">
              <a:off x="5501880" y="250380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800600" y="4419720"/>
            <a:ext cx="1980720" cy="609480"/>
            <a:chOff x="4800600" y="4419720"/>
            <a:chExt cx="1980720" cy="609480"/>
          </a:xfrm>
        </p:grpSpPr>
        <p:sp>
          <p:nvSpPr>
            <p:cNvPr id="227" name=""/>
            <p:cNvSpPr/>
            <p:nvPr/>
          </p:nvSpPr>
          <p:spPr>
            <a:xfrm>
              <a:off x="6045840" y="441972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2304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060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533520" y="1295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60199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548640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n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4952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86600" y="59436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9343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08660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05720" y="12193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agina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3657600"/>
            <a:ext cx="5181480" cy="380880"/>
          </a:xfrm>
          <a:prstGeom prst="leftRightArrow">
            <a:avLst>
              <a:gd name="adj1" fmla="val 65000"/>
              <a:gd name="adj2" fmla="val 113996"/>
            </a:avLst>
          </a:prstGeom>
          <a:gradFill rotWithShape="0">
            <a:gsLst>
              <a:gs pos="0">
                <a:srgbClr val="ffe701"/>
              </a:gs>
              <a:gs pos="100000">
                <a:srgbClr val="756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0880" y="3352680"/>
            <a:ext cx="14479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086600" y="33526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atc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1881000" y="3795480"/>
            <a:ext cx="5181480" cy="380880"/>
          </a:xfrm>
          <a:prstGeom prst="leftRightArrow">
            <a:avLst>
              <a:gd name="adj1" fmla="val 65000"/>
              <a:gd name="adj2" fmla="val 113996"/>
            </a:avLst>
          </a:prstGeom>
          <a:gradFill rotWithShape="0">
            <a:gsLst>
              <a:gs pos="0">
                <a:srgbClr val="ffe701"/>
              </a:gs>
              <a:gs pos="100000">
                <a:srgbClr val="756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581280" y="59436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in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14600" y="76212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nsing/Fee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676520" y="457200"/>
            <a:ext cx="6095880" cy="3581280"/>
            <a:chOff x="1676520" y="457200"/>
            <a:chExt cx="6095880" cy="3581280"/>
          </a:xfrm>
        </p:grpSpPr>
        <p:sp>
          <p:nvSpPr>
            <p:cNvPr id="246" name=""/>
            <p:cNvSpPr/>
            <p:nvPr/>
          </p:nvSpPr>
          <p:spPr>
            <a:xfrm>
              <a:off x="2562840" y="508680"/>
              <a:ext cx="3989880" cy="3529440"/>
            </a:xfrm>
            <a:prstGeom prst="flowChartOr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283560" y="1027800"/>
              <a:ext cx="1052640" cy="934200"/>
              <a:chOff x="3283560" y="1027800"/>
              <a:chExt cx="1052640" cy="934200"/>
            </a:xfrm>
          </p:grpSpPr>
          <p:sp>
            <p:nvSpPr>
              <p:cNvPr id="248" name=""/>
              <p:cNvSpPr/>
              <p:nvPr/>
            </p:nvSpPr>
            <p:spPr>
              <a:xfrm>
                <a:off x="3414960" y="1027800"/>
                <a:ext cx="921240" cy="934200"/>
              </a:xfrm>
              <a:custGeom>
                <a:avLst/>
                <a:gdLst>
                  <a:gd name="textAreaLeft" fmla="*/ 363960 w 921240"/>
                  <a:gd name="textAreaRight" fmla="*/ 758880 w 921240"/>
                  <a:gd name="textAreaTop" fmla="*/ 533880 h 934200"/>
                  <a:gd name="textAreaBottom" fmla="*/ 769680 h 93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155"/>
                    </a:moveTo>
                    <a:lnTo>
                      <a:pt x="12345" y="16155"/>
                    </a:lnTo>
                    <a:lnTo>
                      <a:pt x="12345" y="8535"/>
                    </a:lnTo>
                    <a:lnTo>
                      <a:pt x="8535" y="8535"/>
                    </a:lnTo>
                    <a:lnTo>
                      <a:pt x="15068" y="0"/>
                    </a:lnTo>
                    <a:lnTo>
                      <a:pt x="21600" y="8535"/>
                    </a:lnTo>
                    <a:lnTo>
                      <a:pt x="17790" y="8535"/>
                    </a:lnTo>
                    <a:lnTo>
                      <a:pt x="1779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62400" y="1167840"/>
                <a:ext cx="789840" cy="794160"/>
              </a:xfrm>
              <a:custGeom>
                <a:avLst/>
                <a:gdLst>
                  <a:gd name="textAreaLeft" fmla="*/ 312120 w 789840"/>
                  <a:gd name="textAreaRight" fmla="*/ 650520 w 789840"/>
                  <a:gd name="textAreaTop" fmla="*/ 453960 h 794160"/>
                  <a:gd name="textAreaBottom" fmla="*/ 65412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155"/>
                    </a:moveTo>
                    <a:lnTo>
                      <a:pt x="12345" y="16155"/>
                    </a:lnTo>
                    <a:lnTo>
                      <a:pt x="12345" y="8535"/>
                    </a:lnTo>
                    <a:lnTo>
                      <a:pt x="8535" y="8535"/>
                    </a:lnTo>
                    <a:lnTo>
                      <a:pt x="15068" y="0"/>
                    </a:lnTo>
                    <a:lnTo>
                      <a:pt x="21600" y="8535"/>
                    </a:lnTo>
                    <a:lnTo>
                      <a:pt x="17790" y="8535"/>
                    </a:lnTo>
                    <a:lnTo>
                      <a:pt x="1779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83560" y="1401480"/>
                <a:ext cx="605520" cy="560520"/>
              </a:xfrm>
              <a:custGeom>
                <a:avLst/>
                <a:gdLst>
                  <a:gd name="textAreaLeft" fmla="*/ 239400 w 605520"/>
                  <a:gd name="textAreaRight" fmla="*/ 498960 w 605520"/>
                  <a:gd name="textAreaTop" fmla="*/ 320400 h 560520"/>
                  <a:gd name="textAreaBottom" fmla="*/ 461880 h 56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155"/>
                    </a:moveTo>
                    <a:lnTo>
                      <a:pt x="12345" y="16155"/>
                    </a:lnTo>
                    <a:lnTo>
                      <a:pt x="12345" y="8535"/>
                    </a:lnTo>
                    <a:lnTo>
                      <a:pt x="8535" y="8535"/>
                    </a:lnTo>
                    <a:lnTo>
                      <a:pt x="15068" y="0"/>
                    </a:lnTo>
                    <a:lnTo>
                      <a:pt x="21600" y="8535"/>
                    </a:lnTo>
                    <a:lnTo>
                      <a:pt x="17790" y="8535"/>
                    </a:lnTo>
                    <a:lnTo>
                      <a:pt x="1779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057120" y="2426040"/>
              <a:ext cx="1279080" cy="1145160"/>
              <a:chOff x="3057120" y="2426040"/>
              <a:chExt cx="1279080" cy="11451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3207600" y="2585160"/>
                <a:ext cx="1128600" cy="986040"/>
                <a:chOff x="3207600" y="2585160"/>
                <a:chExt cx="1128600" cy="9860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207600" y="2585160"/>
                  <a:ext cx="1128600" cy="986040"/>
                </a:xfrm>
                <a:prstGeom prst="donut">
                  <a:avLst>
                    <a:gd name="adj" fmla="val 16069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550320" y="2869560"/>
                  <a:ext cx="463320" cy="417240"/>
                </a:xfrm>
                <a:prstGeom prst="donut">
                  <a:avLst>
                    <a:gd name="adj" fmla="val 29462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 rot="2527200">
                <a:off x="3006000" y="2698920"/>
                <a:ext cx="886680" cy="189360"/>
              </a:xfrm>
              <a:prstGeom prst="rightArrow">
                <a:avLst>
                  <a:gd name="adj1" fmla="val 50000"/>
                  <a:gd name="adj2" fmla="val 141017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560480" y="995760"/>
              <a:ext cx="1632600" cy="1251000"/>
              <a:chOff x="4560480" y="995760"/>
              <a:chExt cx="1632600" cy="1251000"/>
            </a:xfrm>
          </p:grpSpPr>
          <p:sp>
            <p:nvSpPr>
              <p:cNvPr id="257" name=""/>
              <p:cNvSpPr/>
              <p:nvPr/>
            </p:nvSpPr>
            <p:spPr>
              <a:xfrm rot="1254000">
                <a:off x="4674240" y="1115640"/>
                <a:ext cx="818640" cy="788760"/>
              </a:xfrm>
              <a:custGeom>
                <a:avLst/>
                <a:gdLst>
                  <a:gd name="textAreaLeft" fmla="*/ 0 w 818640"/>
                  <a:gd name="textAreaRight" fmla="*/ 819000 w 81864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300" y="6500"/>
                    </a:lnTo>
                    <a:lnTo>
                      <a:pt x="4300" y="8600"/>
                    </a:lnTo>
                    <a:lnTo>
                      <a:pt x="8600" y="8600"/>
                    </a:lnTo>
                    <a:lnTo>
                      <a:pt x="8600" y="4300"/>
                    </a:lnTo>
                    <a:lnTo>
                      <a:pt x="6500" y="4300"/>
                    </a:lnTo>
                    <a:lnTo>
                      <a:pt x="10800" y="0"/>
                    </a:lnTo>
                    <a:lnTo>
                      <a:pt x="15100" y="4300"/>
                    </a:lnTo>
                    <a:lnTo>
                      <a:pt x="13000" y="4300"/>
                    </a:lnTo>
                    <a:lnTo>
                      <a:pt x="13000" y="8600"/>
                    </a:lnTo>
                    <a:lnTo>
                      <a:pt x="17300" y="8600"/>
                    </a:lnTo>
                    <a:lnTo>
                      <a:pt x="17300" y="6500"/>
                    </a:lnTo>
                    <a:lnTo>
                      <a:pt x="21600" y="10800"/>
                    </a:lnTo>
                    <a:lnTo>
                      <a:pt x="17300" y="15100"/>
                    </a:lnTo>
                    <a:lnTo>
                      <a:pt x="17300" y="13000"/>
                    </a:lnTo>
                    <a:lnTo>
                      <a:pt x="13000" y="13000"/>
                    </a:lnTo>
                    <a:lnTo>
                      <a:pt x="13000" y="17300"/>
                    </a:lnTo>
                    <a:lnTo>
                      <a:pt x="15100" y="17300"/>
                    </a:lnTo>
                    <a:lnTo>
                      <a:pt x="10800" y="21600"/>
                    </a:lnTo>
                    <a:lnTo>
                      <a:pt x="6500" y="17300"/>
                    </a:lnTo>
                    <a:lnTo>
                      <a:pt x="8600" y="17300"/>
                    </a:lnTo>
                    <a:lnTo>
                      <a:pt x="8600" y="13000"/>
                    </a:lnTo>
                    <a:lnTo>
                      <a:pt x="4300" y="13000"/>
                    </a:lnTo>
                    <a:lnTo>
                      <a:pt x="4300" y="15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356600">
                <a:off x="5284800" y="1343880"/>
                <a:ext cx="818280" cy="78876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300" y="6500"/>
                    </a:lnTo>
                    <a:lnTo>
                      <a:pt x="4300" y="8600"/>
                    </a:lnTo>
                    <a:lnTo>
                      <a:pt x="8600" y="8600"/>
                    </a:lnTo>
                    <a:lnTo>
                      <a:pt x="8600" y="4300"/>
                    </a:lnTo>
                    <a:lnTo>
                      <a:pt x="6500" y="4300"/>
                    </a:lnTo>
                    <a:lnTo>
                      <a:pt x="10800" y="0"/>
                    </a:lnTo>
                    <a:lnTo>
                      <a:pt x="15100" y="4300"/>
                    </a:lnTo>
                    <a:lnTo>
                      <a:pt x="13000" y="4300"/>
                    </a:lnTo>
                    <a:lnTo>
                      <a:pt x="13000" y="8600"/>
                    </a:lnTo>
                    <a:lnTo>
                      <a:pt x="17300" y="8600"/>
                    </a:lnTo>
                    <a:lnTo>
                      <a:pt x="17300" y="6500"/>
                    </a:lnTo>
                    <a:lnTo>
                      <a:pt x="21600" y="10800"/>
                    </a:lnTo>
                    <a:lnTo>
                      <a:pt x="17300" y="15100"/>
                    </a:lnTo>
                    <a:lnTo>
                      <a:pt x="17300" y="13000"/>
                    </a:lnTo>
                    <a:lnTo>
                      <a:pt x="13000" y="13000"/>
                    </a:lnTo>
                    <a:lnTo>
                      <a:pt x="13000" y="17300"/>
                    </a:lnTo>
                    <a:lnTo>
                      <a:pt x="15100" y="17300"/>
                    </a:lnTo>
                    <a:lnTo>
                      <a:pt x="10800" y="21600"/>
                    </a:lnTo>
                    <a:lnTo>
                      <a:pt x="6500" y="17300"/>
                    </a:lnTo>
                    <a:lnTo>
                      <a:pt x="8600" y="17300"/>
                    </a:lnTo>
                    <a:lnTo>
                      <a:pt x="8600" y="13000"/>
                    </a:lnTo>
                    <a:lnTo>
                      <a:pt x="4300" y="13000"/>
                    </a:lnTo>
                    <a:lnTo>
                      <a:pt x="4300" y="15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779720" y="2637000"/>
              <a:ext cx="1440720" cy="415080"/>
              <a:chOff x="4779720" y="2637000"/>
              <a:chExt cx="1440720" cy="415080"/>
            </a:xfrm>
          </p:grpSpPr>
          <p:sp>
            <p:nvSpPr>
              <p:cNvPr id="260" name=""/>
              <p:cNvSpPr/>
              <p:nvPr/>
            </p:nvSpPr>
            <p:spPr>
              <a:xfrm>
                <a:off x="5685480" y="2637000"/>
                <a:ext cx="534960" cy="415080"/>
              </a:xfrm>
              <a:prstGeom prst="rightArrow">
                <a:avLst>
                  <a:gd name="adj1" fmla="val 58333"/>
                  <a:gd name="adj2" fmla="val 60723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32240" y="2637000"/>
                <a:ext cx="534960" cy="415080"/>
              </a:xfrm>
              <a:prstGeom prst="rightArrow">
                <a:avLst>
                  <a:gd name="adj1" fmla="val 58333"/>
                  <a:gd name="adj2" fmla="val 60723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79720" y="2637000"/>
                <a:ext cx="534960" cy="415080"/>
              </a:xfrm>
              <a:prstGeom prst="rightArrow">
                <a:avLst>
                  <a:gd name="adj1" fmla="val 58333"/>
                  <a:gd name="adj2" fmla="val 60723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 txBox="1"/>
            <p:nvPr/>
          </p:nvSpPr>
          <p:spPr>
            <a:xfrm>
              <a:off x="1676520" y="508680"/>
              <a:ext cx="1163520" cy="363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Dynamic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731600" y="872280"/>
              <a:ext cx="10530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1676520" y="3727080"/>
              <a:ext cx="105264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1731600" y="3363480"/>
              <a:ext cx="88668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ens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676520" y="3000240"/>
              <a:ext cx="105264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omm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442200" y="3674880"/>
              <a:ext cx="10530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331680" y="3259800"/>
              <a:ext cx="12744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alytical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6442200" y="872280"/>
              <a:ext cx="10530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6165360" y="457200"/>
              <a:ext cx="160704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maginativ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72" name=""/>
          <p:cNvSpPr txBox="1"/>
          <p:nvPr/>
        </p:nvSpPr>
        <p:spPr>
          <a:xfrm>
            <a:off x="0" y="4267080"/>
            <a:ext cx="8534520" cy="1752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ich is most comfortable for you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676520" y="457200"/>
            <a:ext cx="6095880" cy="3581280"/>
            <a:chOff x="1676520" y="457200"/>
            <a:chExt cx="6095880" cy="3581280"/>
          </a:xfrm>
        </p:grpSpPr>
        <p:sp>
          <p:nvSpPr>
            <p:cNvPr id="274" name=""/>
            <p:cNvSpPr/>
            <p:nvPr/>
          </p:nvSpPr>
          <p:spPr>
            <a:xfrm>
              <a:off x="2562840" y="508680"/>
              <a:ext cx="3989880" cy="3529440"/>
            </a:xfrm>
            <a:prstGeom prst="flowChartOr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83560" y="1027800"/>
              <a:ext cx="1052640" cy="934200"/>
              <a:chOff x="3283560" y="1027800"/>
              <a:chExt cx="1052640" cy="934200"/>
            </a:xfrm>
          </p:grpSpPr>
          <p:sp>
            <p:nvSpPr>
              <p:cNvPr id="276" name=""/>
              <p:cNvSpPr/>
              <p:nvPr/>
            </p:nvSpPr>
            <p:spPr>
              <a:xfrm>
                <a:off x="3414960" y="1027800"/>
                <a:ext cx="921240" cy="934200"/>
              </a:xfrm>
              <a:custGeom>
                <a:avLst/>
                <a:gdLst>
                  <a:gd name="textAreaLeft" fmla="*/ 363960 w 921240"/>
                  <a:gd name="textAreaRight" fmla="*/ 758880 w 921240"/>
                  <a:gd name="textAreaTop" fmla="*/ 533880 h 934200"/>
                  <a:gd name="textAreaBottom" fmla="*/ 769680 h 93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155"/>
                    </a:moveTo>
                    <a:lnTo>
                      <a:pt x="12345" y="16155"/>
                    </a:lnTo>
                    <a:lnTo>
                      <a:pt x="12345" y="8535"/>
                    </a:lnTo>
                    <a:lnTo>
                      <a:pt x="8535" y="8535"/>
                    </a:lnTo>
                    <a:lnTo>
                      <a:pt x="15068" y="0"/>
                    </a:lnTo>
                    <a:lnTo>
                      <a:pt x="21600" y="8535"/>
                    </a:lnTo>
                    <a:lnTo>
                      <a:pt x="17790" y="8535"/>
                    </a:lnTo>
                    <a:lnTo>
                      <a:pt x="1779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62400" y="1167840"/>
                <a:ext cx="789840" cy="794160"/>
              </a:xfrm>
              <a:custGeom>
                <a:avLst/>
                <a:gdLst>
                  <a:gd name="textAreaLeft" fmla="*/ 312120 w 789840"/>
                  <a:gd name="textAreaRight" fmla="*/ 650520 w 789840"/>
                  <a:gd name="textAreaTop" fmla="*/ 453960 h 794160"/>
                  <a:gd name="textAreaBottom" fmla="*/ 65412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155"/>
                    </a:moveTo>
                    <a:lnTo>
                      <a:pt x="12345" y="16155"/>
                    </a:lnTo>
                    <a:lnTo>
                      <a:pt x="12345" y="8535"/>
                    </a:lnTo>
                    <a:lnTo>
                      <a:pt x="8535" y="8535"/>
                    </a:lnTo>
                    <a:lnTo>
                      <a:pt x="15068" y="0"/>
                    </a:lnTo>
                    <a:lnTo>
                      <a:pt x="21600" y="8535"/>
                    </a:lnTo>
                    <a:lnTo>
                      <a:pt x="17790" y="8535"/>
                    </a:lnTo>
                    <a:lnTo>
                      <a:pt x="1779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83560" y="1401480"/>
                <a:ext cx="605520" cy="560520"/>
              </a:xfrm>
              <a:custGeom>
                <a:avLst/>
                <a:gdLst>
                  <a:gd name="textAreaLeft" fmla="*/ 239400 w 605520"/>
                  <a:gd name="textAreaRight" fmla="*/ 498960 w 605520"/>
                  <a:gd name="textAreaTop" fmla="*/ 320400 h 560520"/>
                  <a:gd name="textAreaBottom" fmla="*/ 461880 h 56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155"/>
                    </a:moveTo>
                    <a:lnTo>
                      <a:pt x="12345" y="16155"/>
                    </a:lnTo>
                    <a:lnTo>
                      <a:pt x="12345" y="8535"/>
                    </a:lnTo>
                    <a:lnTo>
                      <a:pt x="8535" y="8535"/>
                    </a:lnTo>
                    <a:lnTo>
                      <a:pt x="15068" y="0"/>
                    </a:lnTo>
                    <a:lnTo>
                      <a:pt x="21600" y="8535"/>
                    </a:lnTo>
                    <a:lnTo>
                      <a:pt x="17790" y="8535"/>
                    </a:lnTo>
                    <a:lnTo>
                      <a:pt x="1779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057120" y="2426040"/>
              <a:ext cx="1279080" cy="1145160"/>
              <a:chOff x="3057120" y="2426040"/>
              <a:chExt cx="1279080" cy="11451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3207600" y="2585160"/>
                <a:ext cx="1128600" cy="986040"/>
                <a:chOff x="3207600" y="2585160"/>
                <a:chExt cx="1128600" cy="986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207600" y="2585160"/>
                  <a:ext cx="1128600" cy="986040"/>
                </a:xfrm>
                <a:prstGeom prst="donut">
                  <a:avLst>
                    <a:gd name="adj" fmla="val 16069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550320" y="2869560"/>
                  <a:ext cx="463320" cy="417240"/>
                </a:xfrm>
                <a:prstGeom prst="donut">
                  <a:avLst>
                    <a:gd name="adj" fmla="val 29462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 rot="2527200">
                <a:off x="3006000" y="2698920"/>
                <a:ext cx="886680" cy="189360"/>
              </a:xfrm>
              <a:prstGeom prst="rightArrow">
                <a:avLst>
                  <a:gd name="adj1" fmla="val 50000"/>
                  <a:gd name="adj2" fmla="val 141017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560480" y="995760"/>
              <a:ext cx="1632600" cy="1251000"/>
              <a:chOff x="4560480" y="995760"/>
              <a:chExt cx="1632600" cy="1251000"/>
            </a:xfrm>
          </p:grpSpPr>
          <p:sp>
            <p:nvSpPr>
              <p:cNvPr id="285" name=""/>
              <p:cNvSpPr/>
              <p:nvPr/>
            </p:nvSpPr>
            <p:spPr>
              <a:xfrm rot="1254000">
                <a:off x="4674240" y="1115640"/>
                <a:ext cx="818640" cy="788760"/>
              </a:xfrm>
              <a:custGeom>
                <a:avLst/>
                <a:gdLst>
                  <a:gd name="textAreaLeft" fmla="*/ 0 w 818640"/>
                  <a:gd name="textAreaRight" fmla="*/ 819000 w 81864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300" y="6500"/>
                    </a:lnTo>
                    <a:lnTo>
                      <a:pt x="4300" y="8600"/>
                    </a:lnTo>
                    <a:lnTo>
                      <a:pt x="8600" y="8600"/>
                    </a:lnTo>
                    <a:lnTo>
                      <a:pt x="8600" y="4300"/>
                    </a:lnTo>
                    <a:lnTo>
                      <a:pt x="6500" y="4300"/>
                    </a:lnTo>
                    <a:lnTo>
                      <a:pt x="10800" y="0"/>
                    </a:lnTo>
                    <a:lnTo>
                      <a:pt x="15100" y="4300"/>
                    </a:lnTo>
                    <a:lnTo>
                      <a:pt x="13000" y="4300"/>
                    </a:lnTo>
                    <a:lnTo>
                      <a:pt x="13000" y="8600"/>
                    </a:lnTo>
                    <a:lnTo>
                      <a:pt x="17300" y="8600"/>
                    </a:lnTo>
                    <a:lnTo>
                      <a:pt x="17300" y="6500"/>
                    </a:lnTo>
                    <a:lnTo>
                      <a:pt x="21600" y="10800"/>
                    </a:lnTo>
                    <a:lnTo>
                      <a:pt x="17300" y="15100"/>
                    </a:lnTo>
                    <a:lnTo>
                      <a:pt x="17300" y="13000"/>
                    </a:lnTo>
                    <a:lnTo>
                      <a:pt x="13000" y="13000"/>
                    </a:lnTo>
                    <a:lnTo>
                      <a:pt x="13000" y="17300"/>
                    </a:lnTo>
                    <a:lnTo>
                      <a:pt x="15100" y="17300"/>
                    </a:lnTo>
                    <a:lnTo>
                      <a:pt x="10800" y="21600"/>
                    </a:lnTo>
                    <a:lnTo>
                      <a:pt x="6500" y="17300"/>
                    </a:lnTo>
                    <a:lnTo>
                      <a:pt x="8600" y="17300"/>
                    </a:lnTo>
                    <a:lnTo>
                      <a:pt x="8600" y="13000"/>
                    </a:lnTo>
                    <a:lnTo>
                      <a:pt x="4300" y="13000"/>
                    </a:lnTo>
                    <a:lnTo>
                      <a:pt x="4300" y="15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4356600">
                <a:off x="5284800" y="1343880"/>
                <a:ext cx="818280" cy="78876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300" y="6500"/>
                    </a:lnTo>
                    <a:lnTo>
                      <a:pt x="4300" y="8600"/>
                    </a:lnTo>
                    <a:lnTo>
                      <a:pt x="8600" y="8600"/>
                    </a:lnTo>
                    <a:lnTo>
                      <a:pt x="8600" y="4300"/>
                    </a:lnTo>
                    <a:lnTo>
                      <a:pt x="6500" y="4300"/>
                    </a:lnTo>
                    <a:lnTo>
                      <a:pt x="10800" y="0"/>
                    </a:lnTo>
                    <a:lnTo>
                      <a:pt x="15100" y="4300"/>
                    </a:lnTo>
                    <a:lnTo>
                      <a:pt x="13000" y="4300"/>
                    </a:lnTo>
                    <a:lnTo>
                      <a:pt x="13000" y="8600"/>
                    </a:lnTo>
                    <a:lnTo>
                      <a:pt x="17300" y="8600"/>
                    </a:lnTo>
                    <a:lnTo>
                      <a:pt x="17300" y="6500"/>
                    </a:lnTo>
                    <a:lnTo>
                      <a:pt x="21600" y="10800"/>
                    </a:lnTo>
                    <a:lnTo>
                      <a:pt x="17300" y="15100"/>
                    </a:lnTo>
                    <a:lnTo>
                      <a:pt x="17300" y="13000"/>
                    </a:lnTo>
                    <a:lnTo>
                      <a:pt x="13000" y="13000"/>
                    </a:lnTo>
                    <a:lnTo>
                      <a:pt x="13000" y="17300"/>
                    </a:lnTo>
                    <a:lnTo>
                      <a:pt x="15100" y="17300"/>
                    </a:lnTo>
                    <a:lnTo>
                      <a:pt x="10800" y="21600"/>
                    </a:lnTo>
                    <a:lnTo>
                      <a:pt x="6500" y="17300"/>
                    </a:lnTo>
                    <a:lnTo>
                      <a:pt x="8600" y="17300"/>
                    </a:lnTo>
                    <a:lnTo>
                      <a:pt x="8600" y="13000"/>
                    </a:lnTo>
                    <a:lnTo>
                      <a:pt x="4300" y="13000"/>
                    </a:lnTo>
                    <a:lnTo>
                      <a:pt x="4300" y="15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779720" y="2637000"/>
              <a:ext cx="1440720" cy="415080"/>
              <a:chOff x="4779720" y="2637000"/>
              <a:chExt cx="1440720" cy="415080"/>
            </a:xfrm>
          </p:grpSpPr>
          <p:sp>
            <p:nvSpPr>
              <p:cNvPr id="288" name=""/>
              <p:cNvSpPr/>
              <p:nvPr/>
            </p:nvSpPr>
            <p:spPr>
              <a:xfrm>
                <a:off x="5685480" y="2637000"/>
                <a:ext cx="534960" cy="415080"/>
              </a:xfrm>
              <a:prstGeom prst="rightArrow">
                <a:avLst>
                  <a:gd name="adj1" fmla="val 58333"/>
                  <a:gd name="adj2" fmla="val 60723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32240" y="2637000"/>
                <a:ext cx="534960" cy="415080"/>
              </a:xfrm>
              <a:prstGeom prst="rightArrow">
                <a:avLst>
                  <a:gd name="adj1" fmla="val 58333"/>
                  <a:gd name="adj2" fmla="val 60723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79720" y="2637000"/>
                <a:ext cx="534960" cy="415080"/>
              </a:xfrm>
              <a:prstGeom prst="rightArrow">
                <a:avLst>
                  <a:gd name="adj1" fmla="val 58333"/>
                  <a:gd name="adj2" fmla="val 60723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 txBox="1"/>
            <p:nvPr/>
          </p:nvSpPr>
          <p:spPr>
            <a:xfrm>
              <a:off x="1676520" y="508680"/>
              <a:ext cx="1163520" cy="363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Dynamic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731600" y="872280"/>
              <a:ext cx="10530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676520" y="3727080"/>
              <a:ext cx="105264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1731600" y="3363480"/>
              <a:ext cx="88668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ens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1676520" y="3000240"/>
              <a:ext cx="105264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ommon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442200" y="3674880"/>
              <a:ext cx="10530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6331680" y="3259800"/>
              <a:ext cx="12744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alytical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6442200" y="872280"/>
              <a:ext cx="105300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earn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6165360" y="457200"/>
              <a:ext cx="1607040" cy="311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maginativ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0" y="4038480"/>
            <a:ext cx="853452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ich do you think is mo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fortable for your instructo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1295280"/>
            <a:ext cx="5486400" cy="5181840"/>
          </a:xfrm>
          <a:prstGeom prst="flowChartOr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320" y="205704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can this become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743200" y="2057400"/>
            <a:ext cx="1447920" cy="1371600"/>
            <a:chOff x="2743200" y="2057400"/>
            <a:chExt cx="1447920" cy="1371600"/>
          </a:xfrm>
        </p:grpSpPr>
        <p:sp>
          <p:nvSpPr>
            <p:cNvPr id="305" name=""/>
            <p:cNvSpPr/>
            <p:nvPr/>
          </p:nvSpPr>
          <p:spPr>
            <a:xfrm>
              <a:off x="2924280" y="205740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51560" y="226296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3200" y="260604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426400" y="4137480"/>
            <a:ext cx="1764720" cy="1653840"/>
            <a:chOff x="2426400" y="4137480"/>
            <a:chExt cx="1764720" cy="1653840"/>
          </a:xfrm>
        </p:grpSpPr>
        <p:grpSp>
          <p:nvGrpSpPr>
            <p:cNvPr id="309" name=""/>
            <p:cNvGrpSpPr/>
            <p:nvPr/>
          </p:nvGrpSpPr>
          <p:grpSpPr>
            <a:xfrm>
              <a:off x="2639160" y="4343400"/>
              <a:ext cx="1551960" cy="1447920"/>
              <a:chOff x="2639160" y="4343400"/>
              <a:chExt cx="1551960" cy="1447920"/>
            </a:xfrm>
          </p:grpSpPr>
          <p:sp>
            <p:nvSpPr>
              <p:cNvPr id="310" name=""/>
              <p:cNvSpPr/>
              <p:nvPr/>
            </p:nvSpPr>
            <p:spPr>
              <a:xfrm>
                <a:off x="263916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1040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rot="2527200">
              <a:off x="236196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480560" y="2041920"/>
            <a:ext cx="2305080" cy="1751400"/>
            <a:chOff x="4480560" y="2041920"/>
            <a:chExt cx="2305080" cy="1751400"/>
          </a:xfrm>
        </p:grpSpPr>
        <p:sp>
          <p:nvSpPr>
            <p:cNvPr id="314" name=""/>
            <p:cNvSpPr/>
            <p:nvPr/>
          </p:nvSpPr>
          <p:spPr>
            <a:xfrm rot="1254000">
              <a:off x="4649760" y="220464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4356600">
              <a:off x="5501880" y="250380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800600" y="4419720"/>
            <a:ext cx="1980720" cy="609480"/>
            <a:chOff x="4800600" y="4419720"/>
            <a:chExt cx="1980720" cy="609480"/>
          </a:xfrm>
        </p:grpSpPr>
        <p:sp>
          <p:nvSpPr>
            <p:cNvPr id="318" name=""/>
            <p:cNvSpPr/>
            <p:nvPr/>
          </p:nvSpPr>
          <p:spPr>
            <a:xfrm>
              <a:off x="6045840" y="441972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2304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0060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 txBox="1"/>
          <p:nvPr/>
        </p:nvSpPr>
        <p:spPr>
          <a:xfrm>
            <a:off x="533520" y="1295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0948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60199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480" y="5486400"/>
            <a:ext cx="12193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n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4952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086600" y="59436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9343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86600" y="18288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705720" y="12193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agina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"/>
          <p:cNvSpPr/>
          <p:nvPr/>
        </p:nvSpPr>
        <p:spPr>
          <a:xfrm>
            <a:off x="-76320" y="3581280"/>
            <a:ext cx="2286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w does thi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2286000"/>
            <a:ext cx="2743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do I need to know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48520" y="3962520"/>
            <a:ext cx="2895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do I need to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4120" y="1371600"/>
            <a:ext cx="131436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334120" y="5181480"/>
            <a:ext cx="131436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438280" y="5334120"/>
            <a:ext cx="131472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38280" y="1447920"/>
            <a:ext cx="131472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1295280"/>
            <a:ext cx="5486400" cy="5181840"/>
          </a:xfrm>
          <a:prstGeom prst="flowChartOr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743200" y="2057400"/>
            <a:ext cx="1447920" cy="1371600"/>
            <a:chOff x="2743200" y="2057400"/>
            <a:chExt cx="1447920" cy="1371600"/>
          </a:xfrm>
        </p:grpSpPr>
        <p:sp>
          <p:nvSpPr>
            <p:cNvPr id="340" name=""/>
            <p:cNvSpPr/>
            <p:nvPr/>
          </p:nvSpPr>
          <p:spPr>
            <a:xfrm>
              <a:off x="2924280" y="205740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51560" y="226296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3200" y="260604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426400" y="4137480"/>
            <a:ext cx="1764720" cy="1653840"/>
            <a:chOff x="2426400" y="4137480"/>
            <a:chExt cx="1764720" cy="1653840"/>
          </a:xfrm>
        </p:grpSpPr>
        <p:grpSp>
          <p:nvGrpSpPr>
            <p:cNvPr id="344" name=""/>
            <p:cNvGrpSpPr/>
            <p:nvPr/>
          </p:nvGrpSpPr>
          <p:grpSpPr>
            <a:xfrm>
              <a:off x="2639160" y="4343400"/>
              <a:ext cx="1551960" cy="1447920"/>
              <a:chOff x="2639160" y="4343400"/>
              <a:chExt cx="1551960" cy="1447920"/>
            </a:xfrm>
          </p:grpSpPr>
          <p:sp>
            <p:nvSpPr>
              <p:cNvPr id="345" name=""/>
              <p:cNvSpPr/>
              <p:nvPr/>
            </p:nvSpPr>
            <p:spPr>
              <a:xfrm>
                <a:off x="263916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11040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rot="2527200">
              <a:off x="236196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480560" y="2041920"/>
            <a:ext cx="2305080" cy="1751400"/>
            <a:chOff x="4480560" y="2041920"/>
            <a:chExt cx="2305080" cy="1751400"/>
          </a:xfrm>
        </p:grpSpPr>
        <p:sp>
          <p:nvSpPr>
            <p:cNvPr id="349" name=""/>
            <p:cNvSpPr/>
            <p:nvPr/>
          </p:nvSpPr>
          <p:spPr>
            <a:xfrm rot="1254000">
              <a:off x="4649760" y="220464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4356600">
              <a:off x="5501880" y="250380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800600" y="4419720"/>
            <a:ext cx="1980720" cy="609480"/>
            <a:chOff x="4800600" y="4419720"/>
            <a:chExt cx="1980720" cy="609480"/>
          </a:xfrm>
        </p:grpSpPr>
        <p:sp>
          <p:nvSpPr>
            <p:cNvPr id="352" name=""/>
            <p:cNvSpPr/>
            <p:nvPr/>
          </p:nvSpPr>
          <p:spPr>
            <a:xfrm>
              <a:off x="6045840" y="441972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2304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0600" y="441972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533520" y="167652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leag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943600" y="167652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tivat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480060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ach/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56386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ilitat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867280" y="5105520"/>
            <a:ext cx="24386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583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an argument arose among them as to which of them might be the greatest.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47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But Jesus, knowing what they were thinking in their heart, took a child and stood him by His side,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48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said to them, “Whoever receives this child in My name receives Me; and whoever receives Me receives Him who sent Me; for he who is least among you, this is the one who is great.” (Luke 9:46-4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213336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480" y="236232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p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480" y="297180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Less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676520" cy="1603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0880" y="5715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ee chapters 7-8 in </a:t>
            </a:r>
            <a:r>
              <a:rPr b="0" i="1" lang="en-US" sz="2000" spc="-1" strike="noStrike">
                <a:solidFill>
                  <a:srgbClr val="ccffff"/>
                </a:solidFill>
                <a:latin typeface="Arial"/>
              </a:rPr>
              <a:t>Learning Sty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572000" cy="322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ression deepens impression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05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ther it was inside or outside of a church context, name one of the most significant educational experiences of your life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1143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9880" y="1143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2743200"/>
            <a:ext cx="83059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pecifically did you appreciate so much about the teacher or the learning environ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s to work with others, sharing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s active, colorful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he big picture rather than small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s by sensing, feeling, w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2133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447920"/>
            <a:ext cx="25592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agina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480" y="2651760"/>
            <a:ext cx="2305440" cy="1751040"/>
            <a:chOff x="60480" y="2651760"/>
            <a:chExt cx="2305440" cy="1751040"/>
          </a:xfrm>
        </p:grpSpPr>
        <p:sp>
          <p:nvSpPr>
            <p:cNvPr id="55" name=""/>
            <p:cNvSpPr/>
            <p:nvPr/>
          </p:nvSpPr>
          <p:spPr>
            <a:xfrm rot="1254000">
              <a:off x="229680" y="2814480"/>
              <a:ext cx="1125720" cy="1158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4356600">
              <a:off x="1082160" y="3113280"/>
              <a:ext cx="1125360" cy="115812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s by watching and lis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s the teacher to be the primary information g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best alone at desk or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ed in the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ts traditional Western educational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7200" y="3200400"/>
            <a:ext cx="1980720" cy="609480"/>
            <a:chOff x="457200" y="3200400"/>
            <a:chExt cx="1980720" cy="609480"/>
          </a:xfrm>
        </p:grpSpPr>
        <p:sp>
          <p:nvSpPr>
            <p:cNvPr id="61" name=""/>
            <p:cNvSpPr/>
            <p:nvPr/>
          </p:nvSpPr>
          <p:spPr>
            <a:xfrm>
              <a:off x="1702440" y="3200400"/>
              <a:ext cx="735480" cy="609480"/>
            </a:xfrm>
            <a:prstGeom prst="rightArrow">
              <a:avLst>
                <a:gd name="adj1" fmla="val 58333"/>
                <a:gd name="adj2" fmla="val 56856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79640" y="320040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" y="3200400"/>
              <a:ext cx="735840" cy="609480"/>
            </a:xfrm>
            <a:prstGeom prst="rightArrow">
              <a:avLst>
                <a:gd name="adj1" fmla="val 58333"/>
                <a:gd name="adj2" fmla="val 56884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 txBox="1"/>
          <p:nvPr/>
        </p:nvSpPr>
        <p:spPr>
          <a:xfrm>
            <a:off x="533520" y="2286000"/>
            <a:ext cx="19047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1523880"/>
            <a:ext cx="23065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problem sol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-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o test theories to see if they work in the rea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s to learn by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and 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49880" y="4137480"/>
            <a:ext cx="1764720" cy="1653840"/>
            <a:chOff x="749880" y="4137480"/>
            <a:chExt cx="1764720" cy="1653840"/>
          </a:xfrm>
        </p:grpSpPr>
        <p:grpSp>
          <p:nvGrpSpPr>
            <p:cNvPr id="70" name=""/>
            <p:cNvGrpSpPr/>
            <p:nvPr/>
          </p:nvGrpSpPr>
          <p:grpSpPr>
            <a:xfrm>
              <a:off x="962640" y="4343400"/>
              <a:ext cx="1551960" cy="1447920"/>
              <a:chOff x="962640" y="4343400"/>
              <a:chExt cx="1551960" cy="1447920"/>
            </a:xfrm>
          </p:grpSpPr>
          <p:sp>
            <p:nvSpPr>
              <p:cNvPr id="71" name=""/>
              <p:cNvSpPr/>
              <p:nvPr/>
            </p:nvSpPr>
            <p:spPr>
              <a:xfrm>
                <a:off x="962640" y="4343400"/>
                <a:ext cx="1551960" cy="1447920"/>
              </a:xfrm>
              <a:prstGeom prst="donut">
                <a:avLst>
                  <a:gd name="adj" fmla="val 16069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33880" y="4761000"/>
                <a:ext cx="637200" cy="612360"/>
              </a:xfrm>
              <a:prstGeom prst="donut">
                <a:avLst>
                  <a:gd name="adj" fmla="val 29462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rot="2527200">
              <a:off x="685440" y="4510080"/>
              <a:ext cx="1218960" cy="278280"/>
            </a:xfrm>
            <a:prstGeom prst="rightArrow">
              <a:avLst>
                <a:gd name="adj1" fmla="val 50000"/>
                <a:gd name="adj2" fmla="val 131917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609480" y="304812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286000"/>
            <a:ext cx="18604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n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52388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ve risk-t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s to follow h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ready to try something n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s brainst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solving through creative gu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3880" y="228600"/>
            <a:ext cx="601992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Sty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38080" y="3352680"/>
            <a:ext cx="1447920" cy="1371600"/>
            <a:chOff x="838080" y="3352680"/>
            <a:chExt cx="1447920" cy="1371600"/>
          </a:xfrm>
        </p:grpSpPr>
        <p:sp>
          <p:nvSpPr>
            <p:cNvPr id="81" name=""/>
            <p:cNvSpPr/>
            <p:nvPr/>
          </p:nvSpPr>
          <p:spPr>
            <a:xfrm>
              <a:off x="1019160" y="3352680"/>
              <a:ext cx="1266840" cy="1371600"/>
            </a:xfrm>
            <a:custGeom>
              <a:avLst/>
              <a:gdLst>
                <a:gd name="textAreaLeft" fmla="*/ 500400 w 1266840"/>
                <a:gd name="textAreaRight" fmla="*/ 1043640 w 1266840"/>
                <a:gd name="textAreaTop" fmla="*/ 784080 h 1371600"/>
                <a:gd name="textAreaBottom" fmla="*/ 11296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6440" y="3558240"/>
              <a:ext cx="1085760" cy="1165680"/>
            </a:xfrm>
            <a:custGeom>
              <a:avLst/>
              <a:gdLst>
                <a:gd name="textAreaLeft" fmla="*/ 429120 w 1085760"/>
                <a:gd name="textAreaRight" fmla="*/ 894240 w 1085760"/>
                <a:gd name="textAreaTop" fmla="*/ 666360 h 1165680"/>
                <a:gd name="textAreaBottom" fmla="*/ 960120 h 11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3901320"/>
              <a:ext cx="832680" cy="822960"/>
            </a:xfrm>
            <a:custGeom>
              <a:avLst/>
              <a:gdLst>
                <a:gd name="textAreaLeft" fmla="*/ 329040 w 832680"/>
                <a:gd name="textAreaRight" fmla="*/ 685800 w 832680"/>
                <a:gd name="textAreaTop" fmla="*/ 470520 h 822960"/>
                <a:gd name="textAreaBottom" fmla="*/ 677880 h 8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155"/>
                  </a:moveTo>
                  <a:lnTo>
                    <a:pt x="12345" y="16155"/>
                  </a:lnTo>
                  <a:lnTo>
                    <a:pt x="12345" y="8535"/>
                  </a:lnTo>
                  <a:lnTo>
                    <a:pt x="8535" y="8535"/>
                  </a:lnTo>
                  <a:lnTo>
                    <a:pt x="15068" y="0"/>
                  </a:lnTo>
                  <a:lnTo>
                    <a:pt x="21600" y="8535"/>
                  </a:lnTo>
                  <a:lnTo>
                    <a:pt x="17790" y="8535"/>
                  </a:lnTo>
                  <a:lnTo>
                    <a:pt x="1779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304920" y="1447920"/>
            <a:ext cx="2527200" cy="88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ynam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60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Marlene LeF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5-03T19:24:52Z</dcterms:modified>
  <cp:revision>353</cp:revision>
  <dc:subject/>
  <dc:title>Poetic Books</dc:title>
</cp:coreProperties>
</file>