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845-86AD-4E45-8CA4-43D6E4B3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73E-4FE0-43EC-B6B7-39561CE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01A-8CCF-4D5F-8124-C0A43C88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58F-EF1F-44E4-A607-58B8C9A7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BED-0FFF-4E92-A4B8-476FC30B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898-A183-454C-AE35-7022F47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50B-FBE5-4005-ADBC-5F6A5AA1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317-DEA4-49D3-951D-664CA04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53B-DB85-40CC-8CB3-6F25623C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BA8-2F73-4DCA-9BEB-56F708EE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81E-BB2C-45B5-8F61-226841A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97F-7316-43AF-A4F1-B356D2E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2C0-D255-4F52-8489-E5147DFF19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ook, Book, Look, T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520" y="1752120"/>
            <a:ext cx="3504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 Kings 18-1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177012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520" y="1752120"/>
            <a:ext cx="3504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cts 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37960" y="1438200"/>
            <a:ext cx="23529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350496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0:1-1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2286000" cy="171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350496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uteronomy 17:4-10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62120" y="1447920"/>
            <a:ext cx="1400040" cy="180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520" y="1752120"/>
            <a:ext cx="3504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mans 8:1-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1601640" cy="183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520" y="1752120"/>
            <a:ext cx="3504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aiah 9:6-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66680" y="1676520"/>
            <a:ext cx="1086120" cy="132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05320" y="2109960"/>
            <a:ext cx="2224080" cy="2309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971800" y="111924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tailed Lesson Plan</a:t>
            </a:r>
            <a:br>
              <a:rPr sz="4000"/>
            </a:b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Passag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age rather than a topic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a detailed teaching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 to the Lesson Planning Worksheet 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eative Bible Teac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399960"/>
            <a:ext cx="651492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Week's Homewor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259056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457200" y="5335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Exerci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1676520" cy="160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1066680"/>
            <a:ext cx="4648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se the Hook, Book, Look, Took approach to one of the following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57800" y="5028840"/>
            <a:ext cx="3581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15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ews 12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like most about the HBTL approa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art of the approach needs clarifica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uld be impro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art of the approach comes most natur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art of the approach is most difficul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380880"/>
            <a:ext cx="682452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ssing the Exerci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approach compare with ways that you have prepared lessons in the pas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380880"/>
            <a:ext cx="682452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ssing the Exerci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33720" y="2362320"/>
            <a:ext cx="5124240" cy="74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rt &amp; Science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57520" y="3124080"/>
            <a:ext cx="381960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358128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ing and knowing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on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Hea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71464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people heard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590920"/>
            <a:ext cx="358128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s and Attitudes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iction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He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724280"/>
            <a:ext cx="358128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s and Skills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Ha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7621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400800" y="19044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ts 2:3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8954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cut to the he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14680" y="2819520"/>
            <a:ext cx="1376640" cy="134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Open%20Hands%20AW_PPT"/>
          <p:cNvPicPr/>
          <p:nvPr/>
        </p:nvPicPr>
        <p:blipFill>
          <a:blip r:embed="rId4"/>
          <a:stretch/>
        </p:blipFill>
        <p:spPr>
          <a:xfrm>
            <a:off x="4267080" y="4856040"/>
            <a:ext cx="2743200" cy="131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6172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all we do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will be made to all kinds of Scriptures, not just in command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or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s or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s in narr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ical symbols and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tr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ne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s and pra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140328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will be made to all kinds of Scriptures, not just in command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pplications are the same today as they were thousands of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ridge the gap between prophets, apostles, and people today by applying established principles to new situ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140328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666880" y="45720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ic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520" y="1752120"/>
            <a:ext cx="3504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sis 2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655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pplication can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ipate objections or obstacles to 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 steps to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19620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4-26T16:35:37Z</dcterms:modified>
  <cp:revision>385</cp:revision>
  <dc:subject/>
  <dc:title>Poetic Books</dc:title>
</cp:coreProperties>
</file>