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0B4-997B-4204-8BB4-2D1CFB7C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9D1-1F56-45C7-A5E6-D896B04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BCE-C236-4209-BC22-1709D819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CCD-8E68-44A2-A370-11DF4DD0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C5C-8CA7-444B-894C-732E40E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3A1-A08D-440F-867A-6DCF1944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C8C-A48A-4BE5-A0C8-6530DA4D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FC6-6560-4AE0-B669-83EA7ED5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EA8-30FC-464F-8508-6784034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116-5B07-400F-BED3-ECCD21A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C00-11B5-41DC-ABD2-CF156A0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29E-F097-4649-9839-68A97A1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39A-620E-49F2-A455-D07526FB6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inciples of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are motivated to learn when the answer is not obvio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3000" y="990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atha Christi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047760" cy="237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666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help to choose what they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990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ravel Agent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666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can translate terms into their own languag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43000" y="990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moi Hellenike Est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76720" y="1981080"/>
            <a:ext cx="23619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666880"/>
            <a:ext cx="5257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are challenged to be cre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990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how and Tell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80368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581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from teachers who care about th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71600" y="9907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ho Cares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76236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3105360" cy="4762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2880" y="30492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ll McNabb &amp; Steven Mab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are motivated to learn by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990720"/>
            <a:ext cx="53337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ureka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19520" y="4038480"/>
            <a:ext cx="350496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920" y="274284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exper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990720"/>
            <a:ext cx="53337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ehead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2095560" cy="310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33920" y="274284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exper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2066760" cy="601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1905120" y="990720"/>
            <a:ext cx="53337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ehead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9360" y="2514240"/>
            <a:ext cx="4343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in a comfortable environ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00200" y="990720"/>
            <a:ext cx="58672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ierra Club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2097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discuss what they are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990720"/>
            <a:ext cx="58672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Yakety-Yak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219480" cy="258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learn better when they discuss what they are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990720"/>
            <a:ext cx="58672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Yakety-Yak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648320"/>
            <a:ext cx="586728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Conversation is the laboratory and workshop of the student.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Ralph Waldo Emers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428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believe what they do more than they do what they belie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990720"/>
            <a:ext cx="67057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ction-Attitude Princi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4-11T19:59:19Z</dcterms:modified>
  <cp:revision>346</cp:revision>
  <dc:subject/>
  <dc:title>Poetic Books</dc:title>
</cp:coreProperties>
</file>