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DB9E-B851-4A84-8724-86F69B552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AE8F-794E-48D5-91E3-34DA0395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709D-297B-408D-9908-36D94F341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5490-2EC8-4879-83DE-CAD153E8D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D288-CDAE-453C-8106-A45880F2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0E83-9067-42DC-9669-156A3B48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A82F-2792-47F2-A201-FE92FF52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54B1-BDD7-4E6A-9CB8-7B4809A4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85F1-C19C-4FF2-84BB-CBE21A7E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899F-A750-489E-A710-443341B7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BA38-0876-425F-9181-A02E799B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F942-AA26-4D19-AE37-524B4A9E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0E10-8417-40A0-A358-2734906E36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ocus on the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50292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76520" y="2514600"/>
            <a:ext cx="5790960" cy="819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eaching the Bibl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971800" y="2895480"/>
            <a:ext cx="3352680" cy="16002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334120" y="2133720"/>
            <a:ext cx="99036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2971800" y="2057400"/>
            <a:ext cx="990720" cy="914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4120" y="4419720"/>
            <a:ext cx="914400" cy="914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971800" y="4419720"/>
            <a:ext cx="990720" cy="914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809880" y="3124080"/>
            <a:ext cx="167652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O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029200"/>
            <a:ext cx="2590920" cy="1523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62720" y="5029200"/>
            <a:ext cx="2590560" cy="1523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838080"/>
            <a:ext cx="2590920" cy="152424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914400"/>
            <a:ext cx="2590560" cy="1523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52280" y="304920"/>
            <a:ext cx="2133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ohn 3:1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324480" y="5410080"/>
            <a:ext cx="1143000" cy="752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15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Loved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752480" y="5410080"/>
            <a:ext cx="1143000" cy="752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15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av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629400" y="1295280"/>
            <a:ext cx="533520" cy="752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15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I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676520" y="1143000"/>
            <a:ext cx="1295280" cy="752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15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aved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257800" y="3505320"/>
            <a:ext cx="1049400" cy="16761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172200" y="2438280"/>
            <a:ext cx="1219320" cy="1981440"/>
          </a:xfrm>
          <a:custGeom>
            <a:avLst/>
            <a:gdLst>
              <a:gd name="textAreaLeft" fmla="*/ 163080 w 1219320"/>
              <a:gd name="textAreaRight" fmla="*/ 1056240 w 1219320"/>
              <a:gd name="textAreaTop" fmla="*/ 346680 h 1981440"/>
              <a:gd name="textAreaBottom" fmla="*/ 143676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49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572000" y="16765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971800" y="4724280"/>
            <a:ext cx="3429000" cy="1143000"/>
          </a:xfrm>
          <a:custGeom>
            <a:avLst/>
            <a:gdLst>
              <a:gd name="textAreaLeft" fmla="*/ 600120 w 3429000"/>
              <a:gd name="textAreaRight" fmla="*/ 2486160 w 34290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004992"/>
              </a:gs>
              <a:gs pos="100000">
                <a:srgbClr val="00214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52280" y="304920"/>
            <a:ext cx="2133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ohn 3:1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1143000"/>
            <a:ext cx="3200400" cy="762120"/>
          </a:xfrm>
          <a:custGeom>
            <a:avLst/>
            <a:gdLst>
              <a:gd name="textAreaLeft" fmla="*/ 559800 w 3200400"/>
              <a:gd name="textAreaRight" fmla="*/ 2320200 w 32004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004992"/>
              </a:gs>
              <a:gs pos="100000">
                <a:srgbClr val="00214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Cloud"/>
          <p:cNvSpPr/>
          <p:nvPr/>
        </p:nvSpPr>
        <p:spPr>
          <a:xfrm>
            <a:off x="457200" y="1600200"/>
            <a:ext cx="3657600" cy="3962520"/>
          </a:xfrm>
          <a:prstGeom prst="pie">
            <a:avLst/>
          </a:prstGeom>
          <a:gradFill rotWithShape="0">
            <a:gsLst>
              <a:gs pos="0">
                <a:srgbClr val="ca2514"/>
              </a:gs>
              <a:gs pos="100000">
                <a:srgbClr val="5d110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371600" y="3048120"/>
            <a:ext cx="16765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O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05320" y="228240"/>
            <a:ext cx="182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Loved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5638680"/>
            <a:ext cx="1828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Ga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144792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Whoever belie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876920" y="1143000"/>
            <a:ext cx="3733560" cy="6858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hat he will 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1143000"/>
            <a:ext cx="3733920" cy="6858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hat he d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1828800"/>
            <a:ext cx="3733920" cy="2209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76920" y="1828800"/>
            <a:ext cx="3733560" cy="2209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4038480"/>
            <a:ext cx="3733920" cy="2210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76920" y="4038480"/>
            <a:ext cx="3733560" cy="2210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4038480"/>
            <a:ext cx="914400" cy="2210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1828800"/>
            <a:ext cx="914400" cy="2209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304920"/>
            <a:ext cx="2133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ohn 3:1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9" name=""/>
          <p:cNvSpPr txBox="1"/>
          <p:nvPr/>
        </p:nvSpPr>
        <p:spPr>
          <a:xfrm rot="5400000">
            <a:off x="-203040" y="2768400"/>
            <a:ext cx="1701720" cy="38088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GO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 rot="5400000">
            <a:off x="-203400" y="4927680"/>
            <a:ext cx="1702080" cy="38088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M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600200" y="1981080"/>
            <a:ext cx="312408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i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57800" y="1981080"/>
            <a:ext cx="312408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e from de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4191120"/>
            <a:ext cx="3124080" cy="18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ei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ie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4267080"/>
            <a:ext cx="312408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per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enteral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52280" y="304920"/>
            <a:ext cx="2133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ohn 3:1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819520" y="1676520"/>
            <a:ext cx="3543120" cy="3543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52280" y="304920"/>
            <a:ext cx="2133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ohn 3:1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1676160"/>
            <a:ext cx="6095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an you draw the concepts of this verse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52280" y="304920"/>
            <a:ext cx="2133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ohn 3:1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914400"/>
            <a:ext cx="1676160" cy="16002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515240" y="1375200"/>
            <a:ext cx="1624680" cy="1073520"/>
            <a:chOff x="1515240" y="1375200"/>
            <a:chExt cx="1624680" cy="1073520"/>
          </a:xfrm>
        </p:grpSpPr>
        <p:sp>
          <p:nvSpPr>
            <p:cNvPr id="122" name=""/>
            <p:cNvSpPr/>
            <p:nvPr/>
          </p:nvSpPr>
          <p:spPr>
            <a:xfrm rot="20493600">
              <a:off x="1523880" y="1599840"/>
              <a:ext cx="1067040" cy="228600"/>
            </a:xfrm>
            <a:custGeom>
              <a:avLst/>
              <a:gdLst/>
              <a:ahLst/>
              <a:rect l="l" t="t" r="r" b="b"/>
              <a:pathLst>
                <a:path w="1392" h="1152">
                  <a:moveTo>
                    <a:pt x="0" y="1152"/>
                  </a:moveTo>
                  <a:cubicBezTo>
                    <a:pt x="268" y="1032"/>
                    <a:pt x="536" y="912"/>
                    <a:pt x="768" y="720"/>
                  </a:cubicBezTo>
                  <a:cubicBezTo>
                    <a:pt x="1000" y="528"/>
                    <a:pt x="1196" y="264"/>
                    <a:pt x="1392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0493600">
              <a:off x="1600200" y="1676520"/>
              <a:ext cx="1066680" cy="228600"/>
            </a:xfrm>
            <a:custGeom>
              <a:avLst/>
              <a:gdLst/>
              <a:ahLst/>
              <a:rect l="l" t="t" r="r" b="b"/>
              <a:pathLst>
                <a:path w="1392" h="1152">
                  <a:moveTo>
                    <a:pt x="0" y="1152"/>
                  </a:moveTo>
                  <a:cubicBezTo>
                    <a:pt x="268" y="1032"/>
                    <a:pt x="536" y="912"/>
                    <a:pt x="768" y="720"/>
                  </a:cubicBezTo>
                  <a:cubicBezTo>
                    <a:pt x="1000" y="528"/>
                    <a:pt x="1196" y="264"/>
                    <a:pt x="1392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0493600">
              <a:off x="1563480" y="1606320"/>
              <a:ext cx="1523880" cy="380880"/>
            </a:xfrm>
            <a:custGeom>
              <a:avLst/>
              <a:gdLst/>
              <a:ahLst/>
              <a:rect l="l" t="t" r="r" b="b"/>
              <a:pathLst>
                <a:path w="1392" h="1152">
                  <a:moveTo>
                    <a:pt x="0" y="1152"/>
                  </a:moveTo>
                  <a:cubicBezTo>
                    <a:pt x="268" y="1032"/>
                    <a:pt x="536" y="912"/>
                    <a:pt x="768" y="720"/>
                  </a:cubicBezTo>
                  <a:cubicBezTo>
                    <a:pt x="1000" y="528"/>
                    <a:pt x="1196" y="264"/>
                    <a:pt x="1392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20493600">
              <a:off x="1618920" y="1752120"/>
              <a:ext cx="1504800" cy="339840"/>
            </a:xfrm>
            <a:custGeom>
              <a:avLst/>
              <a:gdLst/>
              <a:ahLst/>
              <a:rect l="l" t="t" r="r" b="b"/>
              <a:pathLst>
                <a:path w="1392" h="1152">
                  <a:moveTo>
                    <a:pt x="0" y="1152"/>
                  </a:moveTo>
                  <a:cubicBezTo>
                    <a:pt x="268" y="1032"/>
                    <a:pt x="536" y="912"/>
                    <a:pt x="768" y="720"/>
                  </a:cubicBezTo>
                  <a:cubicBezTo>
                    <a:pt x="1000" y="528"/>
                    <a:pt x="1196" y="264"/>
                    <a:pt x="1392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0493600">
              <a:off x="1914480" y="1893960"/>
              <a:ext cx="1206720" cy="314280"/>
            </a:xfrm>
            <a:custGeom>
              <a:avLst/>
              <a:gdLst/>
              <a:ahLst/>
              <a:rect l="l" t="t" r="r" b="b"/>
              <a:pathLst>
                <a:path w="1392" h="1152">
                  <a:moveTo>
                    <a:pt x="0" y="1152"/>
                  </a:moveTo>
                  <a:cubicBezTo>
                    <a:pt x="268" y="1032"/>
                    <a:pt x="536" y="912"/>
                    <a:pt x="768" y="720"/>
                  </a:cubicBezTo>
                  <a:cubicBezTo>
                    <a:pt x="1000" y="528"/>
                    <a:pt x="1196" y="264"/>
                    <a:pt x="1392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493600">
              <a:off x="2057400" y="2057400"/>
              <a:ext cx="1066680" cy="228600"/>
            </a:xfrm>
            <a:custGeom>
              <a:avLst/>
              <a:gdLst/>
              <a:ahLst/>
              <a:rect l="l" t="t" r="r" b="b"/>
              <a:pathLst>
                <a:path w="1392" h="1152">
                  <a:moveTo>
                    <a:pt x="0" y="1152"/>
                  </a:moveTo>
                  <a:cubicBezTo>
                    <a:pt x="268" y="1032"/>
                    <a:pt x="536" y="912"/>
                    <a:pt x="768" y="720"/>
                  </a:cubicBezTo>
                  <a:cubicBezTo>
                    <a:pt x="1000" y="528"/>
                    <a:pt x="1196" y="264"/>
                    <a:pt x="1392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0" y="2895480"/>
            <a:ext cx="9256680" cy="2192400"/>
          </a:xfrm>
          <a:custGeom>
            <a:avLst/>
            <a:gdLst/>
            <a:ahLst/>
            <a:rect l="l" t="t" r="r" b="b"/>
            <a:pathLst>
              <a:path w="5831" h="1381">
                <a:moveTo>
                  <a:pt x="0" y="1381"/>
                </a:moveTo>
                <a:cubicBezTo>
                  <a:pt x="82" y="1379"/>
                  <a:pt x="164" y="1380"/>
                  <a:pt x="246" y="1375"/>
                </a:cubicBezTo>
                <a:cubicBezTo>
                  <a:pt x="246" y="1375"/>
                  <a:pt x="291" y="1360"/>
                  <a:pt x="300" y="1357"/>
                </a:cubicBezTo>
                <a:cubicBezTo>
                  <a:pt x="318" y="1351"/>
                  <a:pt x="354" y="1339"/>
                  <a:pt x="354" y="1339"/>
                </a:cubicBezTo>
                <a:cubicBezTo>
                  <a:pt x="405" y="1263"/>
                  <a:pt x="532" y="1273"/>
                  <a:pt x="612" y="1267"/>
                </a:cubicBezTo>
                <a:cubicBezTo>
                  <a:pt x="651" y="1259"/>
                  <a:pt x="682" y="1238"/>
                  <a:pt x="720" y="1225"/>
                </a:cubicBezTo>
                <a:cubicBezTo>
                  <a:pt x="731" y="1214"/>
                  <a:pt x="741" y="1202"/>
                  <a:pt x="756" y="1195"/>
                </a:cubicBezTo>
                <a:cubicBezTo>
                  <a:pt x="768" y="1190"/>
                  <a:pt x="792" y="1183"/>
                  <a:pt x="792" y="1183"/>
                </a:cubicBezTo>
                <a:cubicBezTo>
                  <a:pt x="847" y="1197"/>
                  <a:pt x="904" y="1185"/>
                  <a:pt x="960" y="1177"/>
                </a:cubicBezTo>
                <a:cubicBezTo>
                  <a:pt x="1020" y="1157"/>
                  <a:pt x="1028" y="1152"/>
                  <a:pt x="1104" y="1147"/>
                </a:cubicBezTo>
                <a:cubicBezTo>
                  <a:pt x="1141" y="1135"/>
                  <a:pt x="1162" y="1128"/>
                  <a:pt x="1200" y="1123"/>
                </a:cubicBezTo>
                <a:cubicBezTo>
                  <a:pt x="1262" y="1127"/>
                  <a:pt x="1320" y="1134"/>
                  <a:pt x="1380" y="1117"/>
                </a:cubicBezTo>
                <a:cubicBezTo>
                  <a:pt x="1412" y="1108"/>
                  <a:pt x="1438" y="1086"/>
                  <a:pt x="1470" y="1075"/>
                </a:cubicBezTo>
                <a:cubicBezTo>
                  <a:pt x="1489" y="1046"/>
                  <a:pt x="1504" y="1015"/>
                  <a:pt x="1524" y="985"/>
                </a:cubicBezTo>
                <a:cubicBezTo>
                  <a:pt x="1533" y="971"/>
                  <a:pt x="1534" y="952"/>
                  <a:pt x="1542" y="937"/>
                </a:cubicBezTo>
                <a:cubicBezTo>
                  <a:pt x="1549" y="924"/>
                  <a:pt x="1561" y="915"/>
                  <a:pt x="1566" y="901"/>
                </a:cubicBezTo>
                <a:cubicBezTo>
                  <a:pt x="1571" y="886"/>
                  <a:pt x="1572" y="877"/>
                  <a:pt x="1584" y="865"/>
                </a:cubicBezTo>
                <a:cubicBezTo>
                  <a:pt x="1612" y="837"/>
                  <a:pt x="1678" y="822"/>
                  <a:pt x="1716" y="817"/>
                </a:cubicBezTo>
                <a:cubicBezTo>
                  <a:pt x="1760" y="773"/>
                  <a:pt x="1844" y="768"/>
                  <a:pt x="1902" y="763"/>
                </a:cubicBezTo>
                <a:cubicBezTo>
                  <a:pt x="1967" y="737"/>
                  <a:pt x="2055" y="737"/>
                  <a:pt x="2124" y="733"/>
                </a:cubicBezTo>
                <a:cubicBezTo>
                  <a:pt x="2145" y="726"/>
                  <a:pt x="2177" y="716"/>
                  <a:pt x="2190" y="703"/>
                </a:cubicBezTo>
                <a:cubicBezTo>
                  <a:pt x="2196" y="697"/>
                  <a:pt x="2200" y="689"/>
                  <a:pt x="2208" y="685"/>
                </a:cubicBezTo>
                <a:cubicBezTo>
                  <a:pt x="2242" y="668"/>
                  <a:pt x="2286" y="667"/>
                  <a:pt x="2322" y="655"/>
                </a:cubicBezTo>
                <a:cubicBezTo>
                  <a:pt x="2360" y="626"/>
                  <a:pt x="2356" y="600"/>
                  <a:pt x="2412" y="589"/>
                </a:cubicBezTo>
                <a:cubicBezTo>
                  <a:pt x="2438" y="538"/>
                  <a:pt x="2444" y="546"/>
                  <a:pt x="2496" y="529"/>
                </a:cubicBezTo>
                <a:cubicBezTo>
                  <a:pt x="2508" y="525"/>
                  <a:pt x="2532" y="517"/>
                  <a:pt x="2532" y="517"/>
                </a:cubicBezTo>
                <a:cubicBezTo>
                  <a:pt x="2549" y="504"/>
                  <a:pt x="2562" y="486"/>
                  <a:pt x="2580" y="475"/>
                </a:cubicBezTo>
                <a:cubicBezTo>
                  <a:pt x="2596" y="465"/>
                  <a:pt x="2627" y="457"/>
                  <a:pt x="2646" y="451"/>
                </a:cubicBezTo>
                <a:cubicBezTo>
                  <a:pt x="2661" y="429"/>
                  <a:pt x="2686" y="418"/>
                  <a:pt x="2712" y="409"/>
                </a:cubicBezTo>
                <a:cubicBezTo>
                  <a:pt x="2737" y="389"/>
                  <a:pt x="2766" y="376"/>
                  <a:pt x="2790" y="355"/>
                </a:cubicBezTo>
                <a:cubicBezTo>
                  <a:pt x="2804" y="342"/>
                  <a:pt x="2814" y="327"/>
                  <a:pt x="2832" y="319"/>
                </a:cubicBezTo>
                <a:cubicBezTo>
                  <a:pt x="2871" y="302"/>
                  <a:pt x="2922" y="289"/>
                  <a:pt x="2964" y="283"/>
                </a:cubicBezTo>
                <a:cubicBezTo>
                  <a:pt x="3051" y="254"/>
                  <a:pt x="2942" y="288"/>
                  <a:pt x="3048" y="265"/>
                </a:cubicBezTo>
                <a:cubicBezTo>
                  <a:pt x="3107" y="252"/>
                  <a:pt x="3165" y="224"/>
                  <a:pt x="3222" y="205"/>
                </a:cubicBezTo>
                <a:cubicBezTo>
                  <a:pt x="3316" y="209"/>
                  <a:pt x="3394" y="220"/>
                  <a:pt x="3486" y="205"/>
                </a:cubicBezTo>
                <a:cubicBezTo>
                  <a:pt x="3513" y="187"/>
                  <a:pt x="3538" y="175"/>
                  <a:pt x="3570" y="169"/>
                </a:cubicBezTo>
                <a:cubicBezTo>
                  <a:pt x="3609" y="143"/>
                  <a:pt x="3679" y="133"/>
                  <a:pt x="3726" y="121"/>
                </a:cubicBezTo>
                <a:cubicBezTo>
                  <a:pt x="3773" y="130"/>
                  <a:pt x="3813" y="148"/>
                  <a:pt x="3858" y="163"/>
                </a:cubicBezTo>
                <a:cubicBezTo>
                  <a:pt x="3932" y="161"/>
                  <a:pt x="4007" y="168"/>
                  <a:pt x="4080" y="157"/>
                </a:cubicBezTo>
                <a:cubicBezTo>
                  <a:pt x="4084" y="156"/>
                  <a:pt x="4199" y="68"/>
                  <a:pt x="4206" y="61"/>
                </a:cubicBezTo>
                <a:cubicBezTo>
                  <a:pt x="4238" y="66"/>
                  <a:pt x="4273" y="64"/>
                  <a:pt x="4302" y="79"/>
                </a:cubicBezTo>
                <a:cubicBezTo>
                  <a:pt x="4332" y="94"/>
                  <a:pt x="4353" y="113"/>
                  <a:pt x="4386" y="121"/>
                </a:cubicBezTo>
                <a:cubicBezTo>
                  <a:pt x="4442" y="163"/>
                  <a:pt x="4508" y="190"/>
                  <a:pt x="4572" y="217"/>
                </a:cubicBezTo>
                <a:cubicBezTo>
                  <a:pt x="4611" y="233"/>
                  <a:pt x="4646" y="258"/>
                  <a:pt x="4686" y="271"/>
                </a:cubicBezTo>
                <a:cubicBezTo>
                  <a:pt x="4720" y="305"/>
                  <a:pt x="4686" y="277"/>
                  <a:pt x="4728" y="295"/>
                </a:cubicBezTo>
                <a:cubicBezTo>
                  <a:pt x="4760" y="309"/>
                  <a:pt x="4733" y="305"/>
                  <a:pt x="4764" y="325"/>
                </a:cubicBezTo>
                <a:cubicBezTo>
                  <a:pt x="4773" y="331"/>
                  <a:pt x="4784" y="333"/>
                  <a:pt x="4794" y="337"/>
                </a:cubicBezTo>
                <a:cubicBezTo>
                  <a:pt x="4817" y="347"/>
                  <a:pt x="4866" y="361"/>
                  <a:pt x="4866" y="361"/>
                </a:cubicBezTo>
                <a:cubicBezTo>
                  <a:pt x="4919" y="350"/>
                  <a:pt x="4938" y="322"/>
                  <a:pt x="4986" y="301"/>
                </a:cubicBezTo>
                <a:cubicBezTo>
                  <a:pt x="5021" y="286"/>
                  <a:pt x="5069" y="287"/>
                  <a:pt x="5106" y="283"/>
                </a:cubicBezTo>
                <a:cubicBezTo>
                  <a:pt x="5155" y="267"/>
                  <a:pt x="5212" y="268"/>
                  <a:pt x="5262" y="265"/>
                </a:cubicBezTo>
                <a:cubicBezTo>
                  <a:pt x="5298" y="253"/>
                  <a:pt x="5305" y="198"/>
                  <a:pt x="5340" y="175"/>
                </a:cubicBezTo>
                <a:cubicBezTo>
                  <a:pt x="5368" y="133"/>
                  <a:pt x="5406" y="149"/>
                  <a:pt x="5460" y="145"/>
                </a:cubicBezTo>
                <a:cubicBezTo>
                  <a:pt x="5493" y="123"/>
                  <a:pt x="5516" y="105"/>
                  <a:pt x="5556" y="97"/>
                </a:cubicBezTo>
                <a:cubicBezTo>
                  <a:pt x="5610" y="61"/>
                  <a:pt x="5679" y="46"/>
                  <a:pt x="5742" y="37"/>
                </a:cubicBezTo>
                <a:cubicBezTo>
                  <a:pt x="5768" y="11"/>
                  <a:pt x="5749" y="23"/>
                  <a:pt x="5784" y="13"/>
                </a:cubicBezTo>
                <a:cubicBezTo>
                  <a:pt x="5828" y="0"/>
                  <a:pt x="5831" y="1"/>
                  <a:pt x="5808" y="1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467400" y="2104920"/>
            <a:ext cx="476280" cy="914400"/>
            <a:chOff x="6467400" y="2104920"/>
            <a:chExt cx="476280" cy="914400"/>
          </a:xfrm>
        </p:grpSpPr>
        <p:sp>
          <p:nvSpPr>
            <p:cNvPr id="130" name=""/>
            <p:cNvSpPr/>
            <p:nvPr/>
          </p:nvSpPr>
          <p:spPr>
            <a:xfrm>
              <a:off x="6714720" y="2104920"/>
              <a:ext cx="0" cy="9144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67400" y="2300760"/>
              <a:ext cx="4762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90600" y="3733920"/>
            <a:ext cx="9267840" cy="3019320"/>
            <a:chOff x="390600" y="3733920"/>
            <a:chExt cx="9267840" cy="3019320"/>
          </a:xfrm>
        </p:grpSpPr>
        <p:sp>
          <p:nvSpPr>
            <p:cNvPr id="133" name=""/>
            <p:cNvSpPr/>
            <p:nvPr/>
          </p:nvSpPr>
          <p:spPr>
            <a:xfrm>
              <a:off x="1523880" y="3733920"/>
              <a:ext cx="7629480" cy="1733400"/>
            </a:xfrm>
            <a:custGeom>
              <a:avLst/>
              <a:gdLst/>
              <a:ahLst/>
              <a:rect l="l" t="t" r="r" b="b"/>
              <a:pathLst>
                <a:path w="4806" h="1092">
                  <a:moveTo>
                    <a:pt x="0" y="1092"/>
                  </a:moveTo>
                  <a:cubicBezTo>
                    <a:pt x="262" y="1090"/>
                    <a:pt x="524" y="1092"/>
                    <a:pt x="786" y="1086"/>
                  </a:cubicBezTo>
                  <a:cubicBezTo>
                    <a:pt x="805" y="1086"/>
                    <a:pt x="831" y="1063"/>
                    <a:pt x="852" y="1062"/>
                  </a:cubicBezTo>
                  <a:cubicBezTo>
                    <a:pt x="908" y="1058"/>
                    <a:pt x="964" y="1058"/>
                    <a:pt x="1020" y="1056"/>
                  </a:cubicBezTo>
                  <a:cubicBezTo>
                    <a:pt x="1035" y="1052"/>
                    <a:pt x="1047" y="1042"/>
                    <a:pt x="1062" y="1038"/>
                  </a:cubicBezTo>
                  <a:cubicBezTo>
                    <a:pt x="1103" y="1028"/>
                    <a:pt x="1149" y="1034"/>
                    <a:pt x="1188" y="1014"/>
                  </a:cubicBezTo>
                  <a:cubicBezTo>
                    <a:pt x="1231" y="993"/>
                    <a:pt x="1268" y="957"/>
                    <a:pt x="1314" y="942"/>
                  </a:cubicBezTo>
                  <a:cubicBezTo>
                    <a:pt x="1324" y="934"/>
                    <a:pt x="1335" y="927"/>
                    <a:pt x="1344" y="918"/>
                  </a:cubicBezTo>
                  <a:cubicBezTo>
                    <a:pt x="1351" y="911"/>
                    <a:pt x="1354" y="900"/>
                    <a:pt x="1362" y="894"/>
                  </a:cubicBezTo>
                  <a:cubicBezTo>
                    <a:pt x="1421" y="845"/>
                    <a:pt x="1336" y="938"/>
                    <a:pt x="1398" y="876"/>
                  </a:cubicBezTo>
                  <a:cubicBezTo>
                    <a:pt x="1426" y="848"/>
                    <a:pt x="1405" y="857"/>
                    <a:pt x="1434" y="834"/>
                  </a:cubicBezTo>
                  <a:cubicBezTo>
                    <a:pt x="1445" y="825"/>
                    <a:pt x="1458" y="818"/>
                    <a:pt x="1470" y="810"/>
                  </a:cubicBezTo>
                  <a:cubicBezTo>
                    <a:pt x="1481" y="803"/>
                    <a:pt x="1506" y="798"/>
                    <a:pt x="1506" y="798"/>
                  </a:cubicBezTo>
                  <a:cubicBezTo>
                    <a:pt x="1526" y="769"/>
                    <a:pt x="1537" y="777"/>
                    <a:pt x="1572" y="768"/>
                  </a:cubicBezTo>
                  <a:cubicBezTo>
                    <a:pt x="1647" y="749"/>
                    <a:pt x="1717" y="734"/>
                    <a:pt x="1794" y="726"/>
                  </a:cubicBezTo>
                  <a:cubicBezTo>
                    <a:pt x="1866" y="708"/>
                    <a:pt x="1934" y="711"/>
                    <a:pt x="2010" y="708"/>
                  </a:cubicBezTo>
                  <a:cubicBezTo>
                    <a:pt x="2022" y="706"/>
                    <a:pt x="2036" y="708"/>
                    <a:pt x="2046" y="702"/>
                  </a:cubicBezTo>
                  <a:cubicBezTo>
                    <a:pt x="2085" y="678"/>
                    <a:pt x="2135" y="613"/>
                    <a:pt x="2172" y="582"/>
                  </a:cubicBezTo>
                  <a:cubicBezTo>
                    <a:pt x="2206" y="554"/>
                    <a:pt x="2241" y="526"/>
                    <a:pt x="2280" y="504"/>
                  </a:cubicBezTo>
                  <a:cubicBezTo>
                    <a:pt x="2304" y="491"/>
                    <a:pt x="2328" y="487"/>
                    <a:pt x="2352" y="474"/>
                  </a:cubicBezTo>
                  <a:cubicBezTo>
                    <a:pt x="2367" y="465"/>
                    <a:pt x="2431" y="430"/>
                    <a:pt x="2448" y="426"/>
                  </a:cubicBezTo>
                  <a:cubicBezTo>
                    <a:pt x="2468" y="421"/>
                    <a:pt x="2488" y="422"/>
                    <a:pt x="2508" y="420"/>
                  </a:cubicBezTo>
                  <a:cubicBezTo>
                    <a:pt x="2539" y="412"/>
                    <a:pt x="2571" y="407"/>
                    <a:pt x="2598" y="390"/>
                  </a:cubicBezTo>
                  <a:cubicBezTo>
                    <a:pt x="2625" y="373"/>
                    <a:pt x="2633" y="356"/>
                    <a:pt x="2664" y="348"/>
                  </a:cubicBezTo>
                  <a:cubicBezTo>
                    <a:pt x="2708" y="321"/>
                    <a:pt x="2737" y="312"/>
                    <a:pt x="2784" y="294"/>
                  </a:cubicBezTo>
                  <a:cubicBezTo>
                    <a:pt x="2806" y="286"/>
                    <a:pt x="2822" y="271"/>
                    <a:pt x="2844" y="264"/>
                  </a:cubicBezTo>
                  <a:cubicBezTo>
                    <a:pt x="2880" y="237"/>
                    <a:pt x="2890" y="240"/>
                    <a:pt x="2940" y="234"/>
                  </a:cubicBezTo>
                  <a:cubicBezTo>
                    <a:pt x="3041" y="200"/>
                    <a:pt x="3150" y="205"/>
                    <a:pt x="3252" y="180"/>
                  </a:cubicBezTo>
                  <a:cubicBezTo>
                    <a:pt x="3285" y="172"/>
                    <a:pt x="3322" y="150"/>
                    <a:pt x="3354" y="144"/>
                  </a:cubicBezTo>
                  <a:cubicBezTo>
                    <a:pt x="3386" y="139"/>
                    <a:pt x="3418" y="140"/>
                    <a:pt x="3450" y="138"/>
                  </a:cubicBezTo>
                  <a:cubicBezTo>
                    <a:pt x="3500" y="121"/>
                    <a:pt x="3546" y="105"/>
                    <a:pt x="3600" y="96"/>
                  </a:cubicBezTo>
                  <a:cubicBezTo>
                    <a:pt x="3631" y="80"/>
                    <a:pt x="3648" y="77"/>
                    <a:pt x="3684" y="72"/>
                  </a:cubicBezTo>
                  <a:cubicBezTo>
                    <a:pt x="3794" y="35"/>
                    <a:pt x="3678" y="72"/>
                    <a:pt x="3990" y="60"/>
                  </a:cubicBezTo>
                  <a:cubicBezTo>
                    <a:pt x="4024" y="59"/>
                    <a:pt x="4067" y="29"/>
                    <a:pt x="4116" y="24"/>
                  </a:cubicBezTo>
                  <a:cubicBezTo>
                    <a:pt x="4155" y="11"/>
                    <a:pt x="4189" y="5"/>
                    <a:pt x="4230" y="0"/>
                  </a:cubicBezTo>
                  <a:cubicBezTo>
                    <a:pt x="4426" y="13"/>
                    <a:pt x="4355" y="0"/>
                    <a:pt x="4446" y="18"/>
                  </a:cubicBezTo>
                  <a:cubicBezTo>
                    <a:pt x="4469" y="33"/>
                    <a:pt x="4479" y="47"/>
                    <a:pt x="4506" y="54"/>
                  </a:cubicBezTo>
                  <a:cubicBezTo>
                    <a:pt x="4521" y="99"/>
                    <a:pt x="4499" y="45"/>
                    <a:pt x="4530" y="84"/>
                  </a:cubicBezTo>
                  <a:cubicBezTo>
                    <a:pt x="4540" y="96"/>
                    <a:pt x="4540" y="113"/>
                    <a:pt x="4548" y="126"/>
                  </a:cubicBezTo>
                  <a:cubicBezTo>
                    <a:pt x="4566" y="158"/>
                    <a:pt x="4586" y="189"/>
                    <a:pt x="4602" y="222"/>
                  </a:cubicBezTo>
                  <a:cubicBezTo>
                    <a:pt x="4613" y="245"/>
                    <a:pt x="4611" y="255"/>
                    <a:pt x="4638" y="264"/>
                  </a:cubicBezTo>
                  <a:cubicBezTo>
                    <a:pt x="4640" y="270"/>
                    <a:pt x="4639" y="278"/>
                    <a:pt x="4644" y="282"/>
                  </a:cubicBezTo>
                  <a:cubicBezTo>
                    <a:pt x="4652" y="289"/>
                    <a:pt x="4664" y="289"/>
                    <a:pt x="4674" y="294"/>
                  </a:cubicBezTo>
                  <a:cubicBezTo>
                    <a:pt x="4697" y="305"/>
                    <a:pt x="4713" y="327"/>
                    <a:pt x="4734" y="342"/>
                  </a:cubicBezTo>
                  <a:cubicBezTo>
                    <a:pt x="4746" y="350"/>
                    <a:pt x="4756" y="361"/>
                    <a:pt x="4770" y="366"/>
                  </a:cubicBezTo>
                  <a:cubicBezTo>
                    <a:pt x="4782" y="370"/>
                    <a:pt x="4806" y="378"/>
                    <a:pt x="4806" y="378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0600" y="5438880"/>
              <a:ext cx="6162480" cy="1314360"/>
            </a:xfrm>
            <a:custGeom>
              <a:avLst/>
              <a:gdLst/>
              <a:ahLst/>
              <a:rect l="l" t="t" r="r" b="b"/>
              <a:pathLst>
                <a:path w="3882" h="828">
                  <a:moveTo>
                    <a:pt x="1890" y="0"/>
                  </a:moveTo>
                  <a:cubicBezTo>
                    <a:pt x="2004" y="38"/>
                    <a:pt x="2036" y="20"/>
                    <a:pt x="2208" y="24"/>
                  </a:cubicBezTo>
                  <a:cubicBezTo>
                    <a:pt x="2274" y="32"/>
                    <a:pt x="2341" y="26"/>
                    <a:pt x="2406" y="36"/>
                  </a:cubicBezTo>
                  <a:cubicBezTo>
                    <a:pt x="2417" y="38"/>
                    <a:pt x="2419" y="57"/>
                    <a:pt x="2430" y="60"/>
                  </a:cubicBezTo>
                  <a:cubicBezTo>
                    <a:pt x="2477" y="73"/>
                    <a:pt x="2512" y="74"/>
                    <a:pt x="2568" y="78"/>
                  </a:cubicBezTo>
                  <a:cubicBezTo>
                    <a:pt x="2701" y="87"/>
                    <a:pt x="3030" y="89"/>
                    <a:pt x="3090" y="90"/>
                  </a:cubicBezTo>
                  <a:cubicBezTo>
                    <a:pt x="3178" y="79"/>
                    <a:pt x="3264" y="80"/>
                    <a:pt x="3348" y="108"/>
                  </a:cubicBezTo>
                  <a:cubicBezTo>
                    <a:pt x="3504" y="105"/>
                    <a:pt x="3623" y="93"/>
                    <a:pt x="3768" y="102"/>
                  </a:cubicBezTo>
                  <a:cubicBezTo>
                    <a:pt x="3807" y="115"/>
                    <a:pt x="3847" y="103"/>
                    <a:pt x="3882" y="126"/>
                  </a:cubicBezTo>
                  <a:cubicBezTo>
                    <a:pt x="3870" y="162"/>
                    <a:pt x="3857" y="165"/>
                    <a:pt x="3822" y="174"/>
                  </a:cubicBezTo>
                  <a:cubicBezTo>
                    <a:pt x="3757" y="217"/>
                    <a:pt x="3663" y="216"/>
                    <a:pt x="3588" y="222"/>
                  </a:cubicBezTo>
                  <a:cubicBezTo>
                    <a:pt x="3554" y="233"/>
                    <a:pt x="3516" y="240"/>
                    <a:pt x="3480" y="246"/>
                  </a:cubicBezTo>
                  <a:cubicBezTo>
                    <a:pt x="3474" y="252"/>
                    <a:pt x="3469" y="259"/>
                    <a:pt x="3462" y="264"/>
                  </a:cubicBezTo>
                  <a:cubicBezTo>
                    <a:pt x="3451" y="273"/>
                    <a:pt x="3426" y="288"/>
                    <a:pt x="3426" y="288"/>
                  </a:cubicBezTo>
                  <a:cubicBezTo>
                    <a:pt x="3404" y="332"/>
                    <a:pt x="3380" y="336"/>
                    <a:pt x="3336" y="342"/>
                  </a:cubicBezTo>
                  <a:cubicBezTo>
                    <a:pt x="3268" y="376"/>
                    <a:pt x="3195" y="385"/>
                    <a:pt x="3120" y="396"/>
                  </a:cubicBezTo>
                  <a:cubicBezTo>
                    <a:pt x="3071" y="412"/>
                    <a:pt x="3097" y="406"/>
                    <a:pt x="3042" y="414"/>
                  </a:cubicBezTo>
                  <a:cubicBezTo>
                    <a:pt x="3020" y="421"/>
                    <a:pt x="3004" y="436"/>
                    <a:pt x="2982" y="444"/>
                  </a:cubicBezTo>
                  <a:cubicBezTo>
                    <a:pt x="2955" y="454"/>
                    <a:pt x="2907" y="454"/>
                    <a:pt x="2886" y="456"/>
                  </a:cubicBezTo>
                  <a:cubicBezTo>
                    <a:pt x="2848" y="464"/>
                    <a:pt x="2850" y="475"/>
                    <a:pt x="2820" y="492"/>
                  </a:cubicBezTo>
                  <a:cubicBezTo>
                    <a:pt x="2785" y="512"/>
                    <a:pt x="2740" y="501"/>
                    <a:pt x="2700" y="504"/>
                  </a:cubicBezTo>
                  <a:cubicBezTo>
                    <a:pt x="2510" y="542"/>
                    <a:pt x="2223" y="522"/>
                    <a:pt x="2010" y="528"/>
                  </a:cubicBezTo>
                  <a:cubicBezTo>
                    <a:pt x="1881" y="550"/>
                    <a:pt x="1764" y="616"/>
                    <a:pt x="1638" y="648"/>
                  </a:cubicBezTo>
                  <a:cubicBezTo>
                    <a:pt x="1608" y="655"/>
                    <a:pt x="1585" y="672"/>
                    <a:pt x="1554" y="678"/>
                  </a:cubicBezTo>
                  <a:cubicBezTo>
                    <a:pt x="1490" y="710"/>
                    <a:pt x="1586" y="664"/>
                    <a:pt x="1482" y="702"/>
                  </a:cubicBezTo>
                  <a:cubicBezTo>
                    <a:pt x="1455" y="712"/>
                    <a:pt x="1434" y="726"/>
                    <a:pt x="1404" y="732"/>
                  </a:cubicBezTo>
                  <a:cubicBezTo>
                    <a:pt x="1349" y="814"/>
                    <a:pt x="1403" y="744"/>
                    <a:pt x="1164" y="744"/>
                  </a:cubicBezTo>
                  <a:cubicBezTo>
                    <a:pt x="902" y="744"/>
                    <a:pt x="640" y="748"/>
                    <a:pt x="378" y="750"/>
                  </a:cubicBezTo>
                  <a:cubicBezTo>
                    <a:pt x="359" y="756"/>
                    <a:pt x="336" y="759"/>
                    <a:pt x="318" y="768"/>
                  </a:cubicBezTo>
                  <a:cubicBezTo>
                    <a:pt x="286" y="784"/>
                    <a:pt x="254" y="820"/>
                    <a:pt x="216" y="822"/>
                  </a:cubicBezTo>
                  <a:cubicBezTo>
                    <a:pt x="144" y="826"/>
                    <a:pt x="0" y="828"/>
                    <a:pt x="0" y="828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62920" y="4800600"/>
              <a:ext cx="990360" cy="9907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10280" y="5638680"/>
              <a:ext cx="1501920" cy="228600"/>
            </a:xfrm>
            <a:custGeom>
              <a:avLst/>
              <a:gdLst/>
              <a:ahLst/>
              <a:rect l="l" t="t" r="r" b="b"/>
              <a:pathLst>
                <a:path w="946" h="144">
                  <a:moveTo>
                    <a:pt x="142" y="18"/>
                  </a:moveTo>
                  <a:cubicBezTo>
                    <a:pt x="323" y="3"/>
                    <a:pt x="509" y="0"/>
                    <a:pt x="688" y="26"/>
                  </a:cubicBezTo>
                  <a:cubicBezTo>
                    <a:pt x="813" y="24"/>
                    <a:pt x="791" y="39"/>
                    <a:pt x="918" y="12"/>
                  </a:cubicBezTo>
                  <a:cubicBezTo>
                    <a:pt x="946" y="25"/>
                    <a:pt x="876" y="89"/>
                    <a:pt x="856" y="106"/>
                  </a:cubicBezTo>
                  <a:cubicBezTo>
                    <a:pt x="837" y="110"/>
                    <a:pt x="796" y="114"/>
                    <a:pt x="796" y="114"/>
                  </a:cubicBezTo>
                  <a:cubicBezTo>
                    <a:pt x="726" y="144"/>
                    <a:pt x="439" y="132"/>
                    <a:pt x="382" y="133"/>
                  </a:cubicBezTo>
                  <a:cubicBezTo>
                    <a:pt x="258" y="131"/>
                    <a:pt x="133" y="134"/>
                    <a:pt x="10" y="125"/>
                  </a:cubicBezTo>
                  <a:cubicBezTo>
                    <a:pt x="0" y="125"/>
                    <a:pt x="14" y="113"/>
                    <a:pt x="16" y="106"/>
                  </a:cubicBezTo>
                  <a:cubicBezTo>
                    <a:pt x="26" y="77"/>
                    <a:pt x="60" y="79"/>
                    <a:pt x="94" y="64"/>
                  </a:cubicBezTo>
                  <a:cubicBezTo>
                    <a:pt x="109" y="50"/>
                    <a:pt x="123" y="30"/>
                    <a:pt x="142" y="18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51480" y="4943520"/>
              <a:ext cx="916200" cy="714240"/>
            </a:xfrm>
            <a:custGeom>
              <a:avLst/>
              <a:gdLst/>
              <a:ahLst/>
              <a:rect l="l" t="t" r="r" b="b"/>
              <a:pathLst>
                <a:path w="577" h="450">
                  <a:moveTo>
                    <a:pt x="181" y="402"/>
                  </a:moveTo>
                  <a:cubicBezTo>
                    <a:pt x="233" y="323"/>
                    <a:pt x="189" y="398"/>
                    <a:pt x="199" y="168"/>
                  </a:cubicBezTo>
                  <a:cubicBezTo>
                    <a:pt x="200" y="155"/>
                    <a:pt x="217" y="48"/>
                    <a:pt x="235" y="42"/>
                  </a:cubicBezTo>
                  <a:cubicBezTo>
                    <a:pt x="254" y="36"/>
                    <a:pt x="275" y="38"/>
                    <a:pt x="295" y="36"/>
                  </a:cubicBezTo>
                  <a:cubicBezTo>
                    <a:pt x="337" y="22"/>
                    <a:pt x="379" y="14"/>
                    <a:pt x="421" y="0"/>
                  </a:cubicBezTo>
                  <a:cubicBezTo>
                    <a:pt x="465" y="29"/>
                    <a:pt x="430" y="90"/>
                    <a:pt x="475" y="120"/>
                  </a:cubicBezTo>
                  <a:cubicBezTo>
                    <a:pt x="496" y="152"/>
                    <a:pt x="485" y="131"/>
                    <a:pt x="499" y="186"/>
                  </a:cubicBezTo>
                  <a:cubicBezTo>
                    <a:pt x="501" y="194"/>
                    <a:pt x="505" y="210"/>
                    <a:pt x="505" y="210"/>
                  </a:cubicBezTo>
                  <a:cubicBezTo>
                    <a:pt x="508" y="243"/>
                    <a:pt x="502" y="401"/>
                    <a:pt x="511" y="414"/>
                  </a:cubicBezTo>
                  <a:cubicBezTo>
                    <a:pt x="523" y="432"/>
                    <a:pt x="555" y="418"/>
                    <a:pt x="577" y="420"/>
                  </a:cubicBezTo>
                  <a:cubicBezTo>
                    <a:pt x="555" y="435"/>
                    <a:pt x="536" y="444"/>
                    <a:pt x="511" y="450"/>
                  </a:cubicBezTo>
                  <a:cubicBezTo>
                    <a:pt x="377" y="446"/>
                    <a:pt x="330" y="441"/>
                    <a:pt x="217" y="432"/>
                  </a:cubicBezTo>
                  <a:cubicBezTo>
                    <a:pt x="170" y="423"/>
                    <a:pt x="0" y="429"/>
                    <a:pt x="139" y="414"/>
                  </a:cubicBezTo>
                  <a:cubicBezTo>
                    <a:pt x="164" y="398"/>
                    <a:pt x="150" y="402"/>
                    <a:pt x="181" y="402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172360" y="4638600"/>
              <a:ext cx="546120" cy="1600200"/>
            </a:xfrm>
            <a:custGeom>
              <a:avLst/>
              <a:gdLst/>
              <a:ahLst/>
              <a:rect l="l" t="t" r="r" b="b"/>
              <a:pathLst>
                <a:path w="344" h="1008">
                  <a:moveTo>
                    <a:pt x="0" y="1008"/>
                  </a:moveTo>
                  <a:cubicBezTo>
                    <a:pt x="116" y="780"/>
                    <a:pt x="232" y="552"/>
                    <a:pt x="288" y="384"/>
                  </a:cubicBezTo>
                  <a:cubicBezTo>
                    <a:pt x="344" y="216"/>
                    <a:pt x="328" y="64"/>
                    <a:pt x="336" y="0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07600" y="5638680"/>
              <a:ext cx="612720" cy="141480"/>
            </a:xfrm>
            <a:custGeom>
              <a:avLst/>
              <a:gdLst/>
              <a:ahLst/>
              <a:rect l="l" t="t" r="r" b="b"/>
              <a:pathLst>
                <a:path w="386" h="89">
                  <a:moveTo>
                    <a:pt x="40" y="10"/>
                  </a:moveTo>
                  <a:cubicBezTo>
                    <a:pt x="207" y="0"/>
                    <a:pt x="27" y="9"/>
                    <a:pt x="200" y="10"/>
                  </a:cubicBezTo>
                  <a:cubicBezTo>
                    <a:pt x="239" y="14"/>
                    <a:pt x="254" y="13"/>
                    <a:pt x="284" y="26"/>
                  </a:cubicBezTo>
                  <a:cubicBezTo>
                    <a:pt x="319" y="18"/>
                    <a:pt x="350" y="17"/>
                    <a:pt x="386" y="22"/>
                  </a:cubicBezTo>
                  <a:cubicBezTo>
                    <a:pt x="377" y="46"/>
                    <a:pt x="349" y="51"/>
                    <a:pt x="314" y="56"/>
                  </a:cubicBezTo>
                  <a:cubicBezTo>
                    <a:pt x="257" y="65"/>
                    <a:pt x="212" y="76"/>
                    <a:pt x="152" y="80"/>
                  </a:cubicBezTo>
                  <a:cubicBezTo>
                    <a:pt x="122" y="81"/>
                    <a:pt x="92" y="82"/>
                    <a:pt x="62" y="83"/>
                  </a:cubicBezTo>
                  <a:cubicBezTo>
                    <a:pt x="25" y="89"/>
                    <a:pt x="46" y="75"/>
                    <a:pt x="10" y="82"/>
                  </a:cubicBezTo>
                  <a:cubicBezTo>
                    <a:pt x="6" y="70"/>
                    <a:pt x="0" y="27"/>
                    <a:pt x="40" y="1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48840" y="4676760"/>
              <a:ext cx="365040" cy="1581120"/>
            </a:xfrm>
            <a:custGeom>
              <a:avLst/>
              <a:gdLst/>
              <a:ahLst/>
              <a:rect l="l" t="t" r="r" b="b"/>
              <a:pathLst>
                <a:path w="230" h="996">
                  <a:moveTo>
                    <a:pt x="0" y="996"/>
                  </a:moveTo>
                  <a:cubicBezTo>
                    <a:pt x="32" y="883"/>
                    <a:pt x="154" y="484"/>
                    <a:pt x="192" y="318"/>
                  </a:cubicBezTo>
                  <a:cubicBezTo>
                    <a:pt x="230" y="152"/>
                    <a:pt x="220" y="66"/>
                    <a:pt x="228" y="0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plant"/>
            <p:cNvSpPr/>
            <p:nvPr/>
          </p:nvSpPr>
          <p:spPr>
            <a:xfrm>
              <a:off x="7848720" y="4114800"/>
              <a:ext cx="1809720" cy="81900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38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does the truth communicated in this verse affect you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52280" y="304920"/>
            <a:ext cx="2133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ohn 3:1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3886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V Boli"/>
              </a:rPr>
              <a:t>Writing Su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vi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057400" y="380880"/>
            <a:ext cx="5310360" cy="819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eaching Method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3886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V Boli"/>
              </a:rPr>
              <a:t>Writing Su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vi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al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057400" y="380880"/>
            <a:ext cx="5310360" cy="819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eaching Method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572000" y="3809880"/>
            <a:ext cx="2914560" cy="1830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3886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V Boli"/>
              </a:rPr>
              <a:t>Writing Su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vi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al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dio Cl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deo Cl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057400" y="380880"/>
            <a:ext cx="5310360" cy="819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eaching Method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438280" y="2666880"/>
            <a:ext cx="4114800" cy="2765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600200" y="1066680"/>
            <a:ext cx="5815080" cy="895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oup Presentation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3886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V Boli"/>
              </a:rPr>
              <a:t>Writing Su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vi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al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dio Cl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deo Cl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ual Im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057400" y="380880"/>
            <a:ext cx="5310360" cy="819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eaching Method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343400" y="2133720"/>
            <a:ext cx="4286160" cy="3047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3886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V Boli"/>
              </a:rPr>
              <a:t>Writing Su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vi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al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dio Cl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deo Cl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ual Im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057400" y="380880"/>
            <a:ext cx="5310360" cy="819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eaching Method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876920" y="2743200"/>
            <a:ext cx="3114720" cy="2701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3886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V Boli"/>
              </a:rPr>
              <a:t>Writing Su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vi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al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dio Cl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deo Cl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ual Im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wer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057400" y="380880"/>
            <a:ext cx="5310360" cy="819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eaching Method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952880" y="2209680"/>
            <a:ext cx="285768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3886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V Boli"/>
              </a:rPr>
              <a:t>Writing Su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vi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al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dio Cl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deo Cl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ual Im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wer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057400" y="380880"/>
            <a:ext cx="5310360" cy="819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eaching Method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"/>
          <p:cNvSpPr/>
          <p:nvPr/>
        </p:nvSpPr>
        <p:spPr>
          <a:xfrm>
            <a:off x="4876920" y="1600200"/>
            <a:ext cx="4114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le Pl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ten Pray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imon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&amp; Ans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b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e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495680" y="838080"/>
            <a:ext cx="47246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ired, boring people make tired, boring teacher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4048200" cy="3162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5" name=""/>
          <p:cNvSpPr txBox="1"/>
          <p:nvPr/>
        </p:nvSpPr>
        <p:spPr>
          <a:xfrm>
            <a:off x="685800" y="990720"/>
            <a:ext cx="6477120" cy="1046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xcitement is contagiou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190600" y="1728720"/>
            <a:ext cx="4762800" cy="340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895480" y="12949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ue next week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437920" y="2438280"/>
            <a:ext cx="6705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what extent do I demonstrate the qualities found in the passages we studied in clas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what extent do I demonstrate the qualities list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reative Bible Teach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am I strong? Where could I impro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52280" y="1371600"/>
            <a:ext cx="2570400" cy="29718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2057400" y="304920"/>
            <a:ext cx="5191200" cy="971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flection Pap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335232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What are some of the techniques that I might use to teach this basic truth?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86200" y="7621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133720" y="2209680"/>
            <a:ext cx="472428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7471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od is good</a:t>
            </a:r>
            <a:endParaRPr b="0" lang="en-US" sz="1800" spc="1" strike="noStrike">
              <a:ln w="9360">
                <a:solidFill>
                  <a:srgbClr val="007471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o is the most creative teacher you have ever seen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86200" y="7621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2057040"/>
            <a:ext cx="76201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teaching methods did that person use to capture your attention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886200" y="7621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514600" y="609480"/>
            <a:ext cx="3857760" cy="2895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4" name=""/>
          <p:cNvSpPr txBox="1"/>
          <p:nvPr/>
        </p:nvSpPr>
        <p:spPr>
          <a:xfrm>
            <a:off x="1595520" y="2971800"/>
            <a:ext cx="5719680" cy="1268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reative Metho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95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Favorite verse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or God so loved the world, that He gave His only begotten Son, that whoever believes in Him shall not perish, but have eternal life. (John 3:16)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52280" y="304920"/>
            <a:ext cx="2133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ohn 3:1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or God so loved the world,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52280" y="304920"/>
            <a:ext cx="2133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ohn 3:1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at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e gave His only begotten Son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3276720"/>
            <a:ext cx="73915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at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oever believes in Hi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4648320"/>
            <a:ext cx="53341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hall not perish,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ut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ave eternal lif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971800" y="2895480"/>
            <a:ext cx="3352680" cy="16002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34120" y="2133720"/>
            <a:ext cx="99036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971800" y="2057400"/>
            <a:ext cx="990720" cy="914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4419720"/>
            <a:ext cx="914400" cy="914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971800" y="4419720"/>
            <a:ext cx="990720" cy="914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09880" y="3124080"/>
            <a:ext cx="167652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O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029200"/>
            <a:ext cx="2590920" cy="1523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5029200"/>
            <a:ext cx="2590560" cy="1523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838080"/>
            <a:ext cx="2590920" cy="152424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62720" y="914400"/>
            <a:ext cx="2590560" cy="1523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52280" y="304920"/>
            <a:ext cx="2133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ohn 3:1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12-04-11T18:16:49Z</dcterms:modified>
  <cp:revision>340</cp:revision>
  <dc:subject/>
  <dc:title>Poetic Books</dc:title>
</cp:coreProperties>
</file>