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2B9-09AA-45CF-992E-D7688387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37F-4367-434D-92F0-7E406747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6B0-4005-406E-9529-E20E0A40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F84-1022-4023-89A9-06C63E28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CEC-3AF1-45B2-A433-73954FE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50F-6D4C-4D21-93B0-12C73C12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5D1-9452-48A0-9947-06A35AD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937-055E-4691-A761-BDF4E551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EDA-E5FD-47FA-9C2F-A27653E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122-A934-4195-8637-9AD0941C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4CB-E0C2-4AF6-8F3D-4E7E8ADE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28E-2C1B-4483-B071-17E796F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FB63-B930-48F2-9636-00B2B56D9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86120" y="626256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© John Stevenson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057400"/>
            <a:ext cx="64818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stematic Theolog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Person and Work of Chri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:18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has seen God at any time; the only begotten God who is in the bosom of the Father, He has explai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did God take on flesh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81480" y="3276720"/>
            <a:ext cx="32004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Philippians 2:5-7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is attitude in yourselves which was also in Christ Jesu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, although He existed in the form of God, did not regard equality with God a thing to be graspe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emptied Himself, taking the form of a bond-servant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made in the likeness of m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 emptied Himself”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otic View:  Emptied Himself of His relative attributes (omniscience, omni-presence, omnipotenc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theran View:  Divine attributes communicated themselves to the human attrib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ne attributes joined with human nature as one person without conversion, composition, or con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99840" y="2666520"/>
            <a:ext cx="7086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municate God to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762120"/>
            <a:ext cx="6581520" cy="119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y the Incarnatio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962520"/>
            <a:ext cx="7391520" cy="2043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has seen God at any time; the only begotten God who is in the bosom of the Father, He has explain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John 1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99840" y="2666520"/>
            <a:ext cx="7086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municate God to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aste death for every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762120"/>
            <a:ext cx="6581520" cy="119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y the Incarnatio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114800"/>
            <a:ext cx="8229600" cy="25311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as made for a little while lower than the angels, </a:t>
            </a:r>
            <a:r>
              <a:rPr b="0" i="1" lang="en-US" sz="3200" spc="-1" strike="noStrike">
                <a:solidFill>
                  <a:srgbClr val="ccffff"/>
                </a:solidFill>
                <a:latin typeface="Arial"/>
              </a:rPr>
              <a:t>namely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, Jesus, because of the suffering of death crowned with glory and honor, so that by the grace of God He might taste death for everyone. (Hebrews 2:9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23619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r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76320"/>
            <a:ext cx="106704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76320"/>
            <a:ext cx="14475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uma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76320"/>
            <a:ext cx="14479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vine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76320"/>
            <a:ext cx="27432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1143000"/>
            <a:ext cx="23619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143000"/>
            <a:ext cx="106704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143000"/>
            <a:ext cx="14475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1143000"/>
            <a:ext cx="1447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1143000"/>
            <a:ext cx="27432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John 4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362320"/>
            <a:ext cx="7772400" cy="3993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you know the Spirit of God: every spirit that confesses that Jesus Christ has come in the flesh is from God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every spirit that does not confess Jesus is not from God; this i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ir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antichrist, of which you have heard that it is coming, and now it is already in the world. (1 John 4:2-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23619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rt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76320"/>
            <a:ext cx="106704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76320"/>
            <a:ext cx="144756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uma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76320"/>
            <a:ext cx="144792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vine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76320"/>
            <a:ext cx="2743200" cy="10666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143000"/>
            <a:ext cx="23619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1143000"/>
            <a:ext cx="106704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1143000"/>
            <a:ext cx="14475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43000"/>
            <a:ext cx="1447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1143000"/>
            <a:ext cx="27432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John 4: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1752480"/>
            <a:ext cx="236196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io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1752480"/>
            <a:ext cx="106704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1752480"/>
            <a:ext cx="144756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1752480"/>
            <a:ext cx="144792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752480"/>
            <a:ext cx="2743200" cy="6098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na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2362320"/>
            <a:ext cx="23619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106704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2362320"/>
            <a:ext cx="14475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362320"/>
            <a:ext cx="1447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2362320"/>
            <a:ext cx="27432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2971800"/>
            <a:ext cx="23619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llin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971800"/>
            <a:ext cx="106704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2971800"/>
            <a:ext cx="144756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971800"/>
            <a:ext cx="144792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971800"/>
            <a:ext cx="2743200" cy="609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in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3581280"/>
            <a:ext cx="236196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o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581280"/>
            <a:ext cx="106704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581280"/>
            <a:ext cx="289548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d that Christ was two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581280"/>
            <a:ext cx="2743200" cy="1067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h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648320"/>
            <a:ext cx="23619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tych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4648320"/>
            <a:ext cx="106704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4648320"/>
            <a:ext cx="28954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man, par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648320"/>
            <a:ext cx="27432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cedon &amp; Constantin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715000"/>
            <a:ext cx="236196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5715000"/>
            <a:ext cx="106704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5715000"/>
            <a:ext cx="289548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human and fully div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5715000"/>
            <a:ext cx="2743200" cy="10666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ed through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34332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1523880"/>
            <a:ext cx="480060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e was oppressed and He was afflicte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t He did not open His mou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ke a lamb that is led to slaught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like a sheep that is silent before its shearer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He did not open His mouth (Isaiah 53: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22860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447920"/>
            <a:ext cx="1828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ynoptic Gosp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1447920"/>
            <a:ext cx="167652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ospel of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447920"/>
            <a:ext cx="11430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447920"/>
            <a:ext cx="175248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ul’s Epi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666880"/>
            <a:ext cx="2286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666880"/>
            <a:ext cx="18288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2666880"/>
            <a:ext cx="167652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2666880"/>
            <a:ext cx="1143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2666880"/>
            <a:ext cx="175248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05320"/>
            <a:ext cx="22860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505320"/>
            <a:ext cx="18288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505320"/>
            <a:ext cx="167652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505320"/>
            <a:ext cx="11430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3505320"/>
            <a:ext cx="175248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343400"/>
            <a:ext cx="22860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4343400"/>
            <a:ext cx="18288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167652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4343400"/>
            <a:ext cx="114300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4343400"/>
            <a:ext cx="1752480" cy="83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81480"/>
            <a:ext cx="2286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5181480"/>
            <a:ext cx="18288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5181480"/>
            <a:ext cx="167652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5181480"/>
            <a:ext cx="1143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5181480"/>
            <a:ext cx="175248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71640" y="457200"/>
            <a:ext cx="5214960" cy="81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itles for 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1523880"/>
            <a:ext cx="39621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..For Christ our Passover also has been sacrifi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 Corinthians 5:7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1523880"/>
            <a:ext cx="4800600" cy="3385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...Christ also loved you, and gave Himself up for us, an offering and a sacrifice to God as a fragrant aroma (Ephesians 5:2b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once and for al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3505320"/>
            <a:ext cx="70866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y this will we have been sanctified through the offering of the body of Jesus Christ once for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Hebrews 10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once and for all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429000"/>
            <a:ext cx="807696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every priest stands daily ministering and offering time after time the same sacrifices, which can never take away sins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but He, having offered one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sins for all time, sat down at the right hand of God (Hebrews 10:11-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14680" y="384804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2095560" y="5372280"/>
            <a:ext cx="1047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a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105520" y="3429000"/>
            <a:ext cx="167328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5486400" y="5638680"/>
            <a:ext cx="10476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es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429000"/>
            <a:ext cx="807696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then as through one transgression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sulted condemnation to all men, even so through one act of righteousness there resulted justificatio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fe to all men (Romans 5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(a legal representativ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429000"/>
            <a:ext cx="807696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as through the one man’s disobedience the many were made sinners, even so through the obedience of the One the many will be made righteous. (Romans 5:1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828800"/>
            <a:ext cx="426708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us like sheep have gone astr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ach of us has turned to his own w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e LORD has caused the iniquity of u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 fall on Him. (Isaiah 53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1442880"/>
            <a:ext cx="457200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hen you were dead in your transgressions and the uncircumcision of your flesh, He made you alive together with Him, having forgiven us all our transgressions… (Colossians 2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Daniel 7:1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kept looking in the night vis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ehold, with the clouds of hea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like a Son of Man was com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 came up to the Ancient of D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as presented before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1442880"/>
            <a:ext cx="449604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ing canceled out the certificate of debt consisting of decrees against us and which was hostile to us; and He has taken it out of the way, having nailed it to the cross (Colossians 2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2324160"/>
            <a:ext cx="403848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rist redeemed us from the curse of the Law, having become a curse for us-- for it is written, “Cursed is everyone who hangs on a tree” (Gala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: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1523880"/>
            <a:ext cx="4496040" cy="4968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fore, He had to be made like 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rethren in all things, that He might become a merciful and faithful high priest in things pertaining to God, to make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ropitiatio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the sins of the people (Hebrews 2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429000" cy="301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429000" cy="301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of propitiation wa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1881360"/>
            <a:ext cx="464796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rist Jesus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whom God displayed publicly as a propitiation in His blood through faith (Romans 3:24-2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tiation presupposes 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of propitiation wa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tion of propitiation was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1600200"/>
            <a:ext cx="449604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 this is love, not that we loved God, but that He loved us and sent His Son to be the propitiation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1 John 4:1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iti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447920"/>
            <a:ext cx="4343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appease or satisfy wr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304920"/>
            <a:ext cx="4114800" cy="1143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144792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rase or remove gui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743200"/>
            <a:ext cx="4343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ed toward the anger of G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743200"/>
            <a:ext cx="41148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ed toward the guilt of 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038480"/>
            <a:ext cx="4343400" cy="2438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acrifice in the temple appeased the just demands of a righteous Go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4038480"/>
            <a:ext cx="4114800" cy="2438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covering the guilt of the sins commit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3809880"/>
            <a:ext cx="449604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s far as the east is from the wes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 far has He removed our transgressions from us (Psalm 103:1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Daniel 7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o Him was given domin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ry and a kingdo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ll the peoples, nations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 of eve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ht serve H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ominion is an everlasting domin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not pass awa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s kingdom is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not be destroy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 – Presupposes inadequacy of animal sacrif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 – Presupposes man’s s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 – Presupposes man’s inability to sav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 – Presupposes a penal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 – Presupposes a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 – Presupposes gui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 – Presupposes sla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lavery in the Ancient Worl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a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Able to Pay the Ransom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must be Willing to Pay the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590920"/>
            <a:ext cx="800100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ince then the children share in fl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blood, He Himself likewise also partook of the same, that through death He might render powerless him who had the power of death, that is, the devil;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ight deliver those who through fear of death were subject to slavery all their lives. (Hebrews 2:14-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3581280"/>
            <a:ext cx="800100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we do not have a high priest w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nnot sympathize with our weaknesses, but one who has been tempted in all things as we are, yet without sin (Hebrews 4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our Kins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Free Him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Able to Pay the Ransom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sus was Willing to Pay the P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4572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ffff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insman Redeem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ffff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his attitude in yourselves whic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also in Christ Jesu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, although He existed in the form of God, did not regard equality with God a thing to be grasped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emptied Himself, taking the form of a bondservant, and being made in the likeness of men. And being found in appearance as a man, He humbled Himself by becoming obedient to the point of death, even death on a cross. (Philippians 2:5-8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429000"/>
            <a:ext cx="3886200" cy="30186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..The Son of God appeared for this purpose, that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ight destroy the works of the devil. (1 John 3:8b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657600"/>
            <a:ext cx="388620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w judgment is upon this world; now the ruler of this world shall be cast out (John 12:3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2743200"/>
            <a:ext cx="2743200" cy="1219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743200"/>
            <a:ext cx="2743200" cy="121932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9320" y="2971800"/>
            <a:ext cx="20145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ssia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72200" y="2971800"/>
            <a:ext cx="16002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200400"/>
            <a:ext cx="2362320" cy="380880"/>
          </a:xfrm>
          <a:prstGeom prst="leftRightArrow">
            <a:avLst>
              <a:gd name="adj1" fmla="val 50000"/>
              <a:gd name="adj2" fmla="val 123471"/>
            </a:avLst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981080"/>
            <a:ext cx="4267080" cy="4480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ut thanks be to God, who always leads us in His triumph in Christ, and manifests through us the sweet aroma of the knowledge of Him in every pl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2 Corinthians 2:1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crific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cari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itutio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it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i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emp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80880"/>
            <a:ext cx="7010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2400480"/>
            <a:ext cx="4267080" cy="39934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He had disarmed the rulers and authorities, 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de a public display of them, having triumphed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m through Him (Colossians 2:1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78487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I delivered to you as of first importance what I also received, that Christ died for our sins according to the Scriptures (1 Corinthians 15: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4191120"/>
            <a:ext cx="7848720" cy="20437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Jesus therefore had received the sour wine, He said, “It is finished!” And He bowed His head, and gave up His spirit. (John 19: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U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065560"/>
            <a:ext cx="784872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sus said to him, “I am the way, and the truth, and the life; no one comes to the Father, but through Me.” (John 14: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Historically Obj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Fi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toning work of Christ was U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3808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re is salvation in no one else; for there is no other name under heaven that has been given among men, by which we must be saved (Acts 4:1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1447920"/>
            <a:ext cx="27432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320" y="1447920"/>
            <a:ext cx="2743200" cy="22096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3048120"/>
            <a:ext cx="609588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762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man saved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320" y="914400"/>
            <a:ext cx="274320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914400"/>
            <a:ext cx="6095880" cy="533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natur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1447920"/>
            <a:ext cx="2743200" cy="518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s himself by self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1447920"/>
            <a:ext cx="609588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ccomplishes the work of salvation through the death of His Son, Jesus, upon the c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048120"/>
            <a:ext cx="6095880" cy="6094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657600"/>
            <a:ext cx="3047760" cy="990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erdot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657600"/>
            <a:ext cx="3048120" cy="9907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4648320"/>
            <a:ext cx="3047760" cy="1981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artaking in sacra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4648320"/>
            <a:ext cx="3048120" cy="19810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reach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762120"/>
            <a:ext cx="876312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es God save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1600200"/>
            <a:ext cx="441972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erdot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600200"/>
            <a:ext cx="434340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2362320"/>
            <a:ext cx="44197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artaking in sacra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362320"/>
            <a:ext cx="43434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 saved through preaching of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3962520"/>
            <a:ext cx="441972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urch dispenses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3962520"/>
            <a:ext cx="43434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y Spirit brings salvation to those who bel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609480"/>
            <a:ext cx="1828800" cy="1524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tth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609480"/>
            <a:ext cx="678168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the genealogy of Jesus Christ, the son of David, the son of Abraham (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133720"/>
            <a:ext cx="1828800" cy="12189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352680"/>
            <a:ext cx="1828800" cy="15242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u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1828800" cy="1523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100000">
                <a:srgbClr val="2f00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133720"/>
            <a:ext cx="6781680" cy="12189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ginning of the gospel of Jesus Christ, the Son of God (1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352680"/>
            <a:ext cx="6781680" cy="1524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oday in the city of David there has been born for you a Savior, who is Christ the Lord (2: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876920"/>
            <a:ext cx="6781680" cy="15238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aw was given through Moses; grace and truth were realized through Jesus Christ (1: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280" y="380880"/>
            <a:ext cx="876312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om Did Christ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1219320"/>
            <a:ext cx="441972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men eq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219320"/>
            <a:ext cx="434340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4419720" cy="4496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is true, then it follow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n are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that the atonement only made it possible for some men to save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1981080"/>
            <a:ext cx="4343400" cy="44960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is true, then it follow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ome are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nement accomplished that for which it was desig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380880"/>
            <a:ext cx="8763120" cy="838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om Did Christ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19320"/>
            <a:ext cx="441972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ll men equ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1219320"/>
            <a:ext cx="4343400" cy="7617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3200400"/>
            <a:ext cx="7010640" cy="7621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+ Man’s Decision =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4572000"/>
            <a:ext cx="7086600" cy="1600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+ God’s inward call (which results in repentance and faith) = Sal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people (Matthew 1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friends (John 15: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sheep (John 10: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His body - the church (Ephesians 5:23-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the elect (Romans 8:32-3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ed for Us (Titus 2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819520"/>
            <a:ext cx="6705720" cy="1556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the good shepherd; the good shepherd lays down His life for the sheep (John 10:1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09120" y="3733920"/>
            <a:ext cx="3962520" cy="21333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not my sheep because you have not believed.”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3048120"/>
            <a:ext cx="3962520" cy="685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min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733920"/>
            <a:ext cx="3962520" cy="21333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o not believe, because you are not of my sheep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ohn 10: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048120"/>
            <a:ext cx="3962520" cy="685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or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3886200"/>
            <a:ext cx="8686800" cy="27432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t that time Jesus answered and said, “I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ise Thee, O Father, Lord of heaven and earth, that Thou didst hide these things from the wise and intelligent and didst reveal them to babes” (Matthew 11:2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4648320"/>
            <a:ext cx="8610480" cy="13716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, Father, for thus it was well-pleasing in Thy sight” (Matthew 11:2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mphasis of Scrip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a limited number hear the gos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ntercessory work of Christ was restricted to the el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38088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ticular Nature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17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ask on their behalf; I do NOT ask on behalf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f the world, but of those whom You have given Me; for they are Yours” (John 17: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676520" y="1752480"/>
            <a:ext cx="3276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81680" y="2209680"/>
            <a:ext cx="1676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2743200"/>
            <a:ext cx="16002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4191120"/>
            <a:ext cx="3276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76400" y="5638680"/>
            <a:ext cx="2514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04920"/>
            <a:ext cx="24382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onsid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cal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rethren, th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not many wise according to the flesh, not many mighty, not many noble;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lish things of the world to shame the wise,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k things of the world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me the things which are strong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base things of the world and the despised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as chos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things that are not, that He might nullify the things that ar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no man should boast befo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His do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in Christ Jesus... (1 Corinthians 1:26-3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3657600" cy="2239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the sins of all me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3276720"/>
            <a:ext cx="36576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ne of the sins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066680"/>
            <a:ext cx="3657600" cy="2239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ome of the sins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3276720"/>
            <a:ext cx="3657600" cy="228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of the sins of some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0" y="1905120"/>
            <a:ext cx="4267080" cy="26668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8120" y="26668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505320" y="3276720"/>
            <a:ext cx="20574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move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:1-3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beginning was the Word, and the Word was with God, and the Word was God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 was in the beginning with Go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l things came into being through Him, and apart from Him nothing came into being that has come into be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t is for this we labor and strive, because we have fixed our hope on the living God, who is the Savior of all men, especially of belie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 Timothy 4:10)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4343400"/>
            <a:ext cx="274320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the Savior of all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4343400"/>
            <a:ext cx="2895480" cy="18288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specially saves belie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029200"/>
            <a:ext cx="2286000" cy="380880"/>
          </a:xfrm>
          <a:prstGeom prst="leftRightArrow">
            <a:avLst>
              <a:gd name="adj1" fmla="val 50000"/>
              <a:gd name="adj2" fmla="val 119482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4151160"/>
            <a:ext cx="8229600" cy="1556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having overlooked the times of ignorance, God is now declaring to men that all everywhere should repent (Acts 17:30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752480" y="2361960"/>
            <a:ext cx="64771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sufficient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offered to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91440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versal aspects of the Atone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3962520"/>
            <a:ext cx="8229600" cy="25311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Spirit and the b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, “Come.” And let the one who hears say, “Come.” And let the one who is thirsty come; let the one who wishes take the water of life without cost. (Revelation 22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John 1:14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Word became flesh, and dwelt among us, and we saw His glory, glory as of the only begotten from the Father, full of grace and trut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Malachi 3:1 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3526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, I am going to send My messenger, and he will clear the way before Me. And the Lord, whom you seek, will suddenly come to His temple; and the messenger of the covenant, in whom you delight, behold, He is coming,” says the LORD of ho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14300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55:22Z</dcterms:created>
  <dc:creator>John Stevenson</dc:creator>
  <dc:description/>
  <dc:language>en-US</dc:language>
  <cp:lastModifiedBy>John Stevenson</cp:lastModifiedBy>
  <dcterms:modified xsi:type="dcterms:W3CDTF">2012-07-17T07:58:38Z</dcterms:modified>
  <cp:revision>335</cp:revision>
  <dc:subject>Biblical Interpretation</dc:subject>
  <dc:title>Biblical Interpretation</dc:title>
</cp:coreProperties>
</file>