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B14-9C17-4F23-BCCE-5E53C79C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71D-6E13-490A-9268-C11665DB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06C-6952-4D18-B7F4-6FCC9F0F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3F2-EC87-474B-B2B0-A56E3B6D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B33-5AC4-42EE-8495-977C1FBB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606-6410-4A26-9B9B-CDDE78A1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7A8-D703-4E0A-8946-4F826DC4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420-DBDA-464B-9B61-349DAE2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E6F-D3AB-4DEA-B485-BADF3604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5A6-A27B-477F-97C2-6DA88067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ABA-4CFA-469E-B1EF-F95884AB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62A-26FC-454F-98AF-9BB8E32F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1CE6-B916-4300-B74F-FED2DBAAB5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86120" y="62625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ystematic Theolog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roduction to Theolo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23920" y="13716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ligious Life of Theological Studen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562360" y="4800240"/>
            <a:ext cx="2361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Benjamin War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43200" y="380880"/>
            <a:ext cx="373392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27100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0600" y="152388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rts of Christian Theology and Doctrin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43200" y="380880"/>
            <a:ext cx="373392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715000" y="4876560"/>
            <a:ext cx="190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Wayn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317952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038480" y="457200"/>
            <a:ext cx="40150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ommend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ad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2745000" cy="403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2743200"/>
            <a:ext cx="5791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octrines of the Bible:</a:t>
            </a:r>
            <a:br>
              <a:rPr sz="4000"/>
            </a:br>
            <a:r>
              <a:rPr b="0" i="1" lang="en-US" sz="4000" spc="-1" strike="noStrike">
                <a:solidFill>
                  <a:srgbClr val="ccffff"/>
                </a:solidFill>
                <a:latin typeface="Arial"/>
              </a:rPr>
              <a:t>Outlines in Systematic Theology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deemerPublishing.co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2361960"/>
            <a:ext cx="57909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h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ed Learning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Ex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47920" y="457200"/>
            <a:ext cx="62434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rse Requireme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2362320"/>
            <a:ext cx="20574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 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72428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5354640" cy="541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re are you in th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60" y="1905120"/>
            <a:ext cx="284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oman Catho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05120" y="762120"/>
            <a:ext cx="550044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ological Spectrum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438280"/>
            <a:ext cx="35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astern Orthod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71800"/>
            <a:ext cx="37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pisco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5053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40384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rmin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51055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vangel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56386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ism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61722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mer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45720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undament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31240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hristian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33720" y="21337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is Theology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657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Theos + Lo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76160" y="2057400"/>
            <a:ext cx="70102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man’s religious experiences with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man’s opinion of what God ought to be li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8380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ology is not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33720" y="21337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is Theology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65760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y is the study of God’s revelation of Himself to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an you discover the depths of God?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an you discover the limits of the Almighty?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y are high as the heavens, what can you do?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eeper than Sheol, what can you know? (Job 11:7-8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46384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8640" y="579132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2895480"/>
            <a:ext cx="9144000" cy="609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G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219320"/>
            <a:ext cx="1981080" cy="4724280"/>
          </a:xfrm>
          <a:custGeom>
            <a:avLst/>
            <a:gdLst>
              <a:gd name="textAreaLeft" fmla="*/ 265320 w 1981080"/>
              <a:gd name="textAreaRight" fmla="*/ 1715760 w 1981080"/>
              <a:gd name="textAreaTop" fmla="*/ 826560 h 4724280"/>
              <a:gd name="textAreaBottom" fmla="*/ 342504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8120" y="609480"/>
            <a:ext cx="2743200" cy="1838160"/>
            <a:chOff x="3048120" y="609480"/>
            <a:chExt cx="2743200" cy="1838160"/>
          </a:xfrm>
        </p:grpSpPr>
        <p:sp>
          <p:nvSpPr>
            <p:cNvPr id="107" name="Cloud"/>
            <p:cNvSpPr/>
            <p:nvPr/>
          </p:nvSpPr>
          <p:spPr>
            <a:xfrm>
              <a:off x="3048120" y="609480"/>
              <a:ext cx="2743200" cy="1838160"/>
            </a:xfrm>
            <a:prstGeom prst="pie">
              <a:avLst/>
            </a:prstGeom>
            <a:gradFill rotWithShape="0">
              <a:gsLst>
                <a:gs pos="0">
                  <a:srgbClr val="d69ae2"/>
                </a:gs>
                <a:gs pos="100000">
                  <a:srgbClr val="6246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3581280" y="1066680"/>
              <a:ext cx="16765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OD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191120" y="3657600"/>
            <a:ext cx="380880" cy="1143000"/>
          </a:xfrm>
          <a:prstGeom prst="upArrow">
            <a:avLst>
              <a:gd name="adj1" fmla="val 50000"/>
              <a:gd name="adj2" fmla="val 75024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33920" y="4648320"/>
            <a:ext cx="1257120" cy="125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blems in Theology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2590920"/>
            <a:ext cx="716292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inite versus the Infin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ly versus Sinf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lity versus 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04920" y="533520"/>
            <a:ext cx="4300560" cy="472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333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ich view more accurately depicts the Atlantic Ocean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04920" y="533520"/>
            <a:ext cx="4300560" cy="472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8" name=""/>
          <p:cNvSpPr txBox="1"/>
          <p:nvPr/>
        </p:nvSpPr>
        <p:spPr>
          <a:xfrm>
            <a:off x="5410080" y="1676520"/>
            <a:ext cx="28195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ology 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638680" y="259092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r map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3470400" cy="6400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3353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frigerator Drawing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95280" y="380880"/>
            <a:ext cx="281952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atu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80880"/>
            <a:ext cx="281952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eget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648320"/>
            <a:ext cx="281952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ystema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4648320"/>
            <a:ext cx="281952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istor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514600"/>
            <a:ext cx="281952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act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514600"/>
            <a:ext cx="281952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ibl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3200400"/>
            <a:ext cx="1600200" cy="609480"/>
          </a:xfrm>
          <a:prstGeom prst="rightArrow">
            <a:avLst>
              <a:gd name="adj1" fmla="val 50000"/>
              <a:gd name="adj2" fmla="val 80747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2819160" y="3200040"/>
            <a:ext cx="1600200" cy="609480"/>
          </a:xfrm>
          <a:prstGeom prst="rightArrow">
            <a:avLst>
              <a:gd name="adj1" fmla="val 50000"/>
              <a:gd name="adj2" fmla="val 80747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8458400">
            <a:off x="4457520" y="2323440"/>
            <a:ext cx="1600200" cy="609840"/>
          </a:xfrm>
          <a:prstGeom prst="rightArrow">
            <a:avLst>
              <a:gd name="adj1" fmla="val 50000"/>
              <a:gd name="adj2" fmla="val 80699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3404400">
            <a:off x="4381200" y="3848040"/>
            <a:ext cx="1600200" cy="609480"/>
          </a:xfrm>
          <a:prstGeom prst="rightArrow">
            <a:avLst>
              <a:gd name="adj1" fmla="val 50000"/>
              <a:gd name="adj2" fmla="val 80747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7691400">
            <a:off x="3238200" y="3847680"/>
            <a:ext cx="1600200" cy="609480"/>
          </a:xfrm>
          <a:prstGeom prst="rightArrow">
            <a:avLst>
              <a:gd name="adj1" fmla="val 50000"/>
              <a:gd name="adj2" fmla="val 80747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3855200">
            <a:off x="3314160" y="2323440"/>
            <a:ext cx="1600200" cy="609840"/>
          </a:xfrm>
          <a:prstGeom prst="rightArrow">
            <a:avLst>
              <a:gd name="adj1" fmla="val 50000"/>
              <a:gd name="adj2" fmla="val 80699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24080" y="2743200"/>
            <a:ext cx="2743200" cy="1460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276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Our little systems have their day,</a:t>
            </a:r>
            <a:br>
              <a:rPr sz="3200"/>
            </a:b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They have their day and cease to be.</a:t>
            </a:r>
            <a:br>
              <a:rPr sz="3200"/>
            </a:b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They are but broken lights of Thee,</a:t>
            </a:r>
            <a:br>
              <a:rPr sz="3200"/>
            </a:b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And Thou, O Lord, are more than they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2200320" cy="32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"/>
          <p:cNvSpPr txBox="1"/>
          <p:nvPr/>
        </p:nvSpPr>
        <p:spPr>
          <a:xfrm>
            <a:off x="2590920" y="2743200"/>
            <a:ext cx="419076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fred Tennys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2666880" y="1599840"/>
            <a:ext cx="3124440" cy="5410080"/>
          </a:xfrm>
          <a:custGeom>
            <a:avLst/>
            <a:gdLst>
              <a:gd name="textAreaLeft" fmla="*/ 686880 w 3124440"/>
              <a:gd name="textAreaRight" fmla="*/ 2437560 w 3124440"/>
              <a:gd name="textAreaTop" fmla="*/ 1189440 h 5410080"/>
              <a:gd name="textAreaBottom" fmla="*/ 4220640 h 541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ertain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895480" y="380880"/>
            <a:ext cx="2819520" cy="1501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133720" y="5257800"/>
            <a:ext cx="4114800" cy="990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95680" y="761760"/>
            <a:ext cx="4267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Bible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ccurate &amp; infallib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7:10-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ethren immediately sent Paul and Silas away by night to Berea, and when they arrived, they went into the synagogue of the Jew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w these were more noble-minded than those in Thessalonica, for they received the word with great eagerness, examining the Scriptures dail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se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ther these things were so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refore many of them believed, along with a number of prominent Greek women and m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14300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5280" y="914400"/>
            <a:ext cx="6553440" cy="4246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114800" y="4419720"/>
            <a:ext cx="2971800" cy="110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r doe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265572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uss the following objections and report to clas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 theology is man-made, and it illegitimately squeezes God into a logical box.  God is beyond human log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 theology reflects western thinking; it is not helpful for the global chu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 theology is only for academics, not for regular Christi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98108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Proj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angers in Studying Theolo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7920" y="2590920"/>
            <a:ext cx="62485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ce upon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ing Man’s False Teac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892600" cy="3352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276720" y="228600"/>
            <a:ext cx="2555640" cy="3352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019920" y="228600"/>
            <a:ext cx="2913120" cy="3352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648320" y="3429000"/>
            <a:ext cx="2787480" cy="33526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ransition spd="med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1974960" cy="315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tu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r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roup Introduction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2895120"/>
            <a:ext cx="6933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m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you in the TIU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current ministry within the Kingd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2712600"/>
            <a:ext cx="67820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ohnStevenson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tevenson@Bellsouth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tevens@tiu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nature of systematic theolog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fy the importance of systematic the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 a valid, basic method for doing the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key concepts, issues, questions, and biblical texts in the doctrines of God, Scripture, Christ, Salvation, Humanity and Sin, the Church, and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major theological views of major doctrines in systematic the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 evidence used to support particular theological pos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personal positions on particular Christian doctr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aspects of their life and ministry in light of biblical tru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23920" y="13716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ble Doctrine: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ssential Teachings of the Christian Fait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791320" y="4724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Wayne Gru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0" y="380880"/>
            <a:ext cx="373392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300060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7-05T20:47:25Z</dcterms:modified>
  <cp:revision>297</cp:revision>
  <dc:subject>Biblical Interpretation</dc:subject>
  <dc:title>Biblical Interpretation</dc:title>
</cp:coreProperties>
</file>