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83E-B6F6-4C0B-9821-275238B9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A36-A3EE-4335-B05F-120D1768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0501-2985-45F3-AD14-0E7AABAA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9223-88FC-423C-820B-B60ED627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3A2A-6798-45C6-97EB-8B32AA05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DD37-D001-4BEA-A699-0A7671B3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535D-A776-4441-8C6B-DF1D104A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B588-659D-4D06-B218-B202C0BE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7F5-84DD-49E1-96D8-3885EF40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254-D348-4979-9392-2BC4B2B2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0FE-DA36-4480-8DD9-1D708F5F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E174-54CD-425A-846A-7774DCEB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F76A-514B-4F7B-815A-CC09FE9921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pentance and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3880" y="2438280"/>
            <a:ext cx="594360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 Great a Salv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274680"/>
            <a:ext cx="716256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bear fruits in keeping with repentance, and do not begin to say to yourselves, ‘We have Abraham for our father,” for I say to you that from these stones God is able to raise up children to Abraham. (Luke 3:8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23888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’s bond-servant must not be quarrelsome, but be kind to all, able to teach, patient when wronged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gentleness correcting those who are in opposition, if perhaps God may grant them repentance leading to the knowledge of the truth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y may come to their sense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escap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snare of the devil, having been held captive by him to do his will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 Timothy 2:24-26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3962520" cy="9907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pentanc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438280"/>
            <a:ext cx="3962520" cy="1295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the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1371600"/>
            <a:ext cx="3886200" cy="9907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ai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2438280"/>
            <a:ext cx="3886200" cy="1295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the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733920"/>
            <a:ext cx="3962520" cy="1295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s away from sin and rebe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3733920"/>
            <a:ext cx="3886200" cy="1295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s to God and trusts in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Faith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76720" y="2179800"/>
            <a:ext cx="541008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g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in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14400" y="2133720"/>
            <a:ext cx="739152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om where does faith come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6858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it is written, “There is none righteous, not even one;</a:t>
            </a:r>
            <a:br>
              <a:rPr sz="32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re is none who understands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ne who seeks for God;</a:t>
            </a:r>
            <a:br>
              <a:rPr sz="32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ll have turned aside, together they have become useless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ne who does good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t even one (Romans 3:10-12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248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a natural man does not accept the things of the Spirit of God; for they are foolishness to him, and he cannot understand them, because they are spiritually appraised. (1 Corinthians 2:14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dia... was listening... and the Lord opened her heart to respond to the things spoken by Paul (Acts 16:1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.as God has allotted to each, a measure of faith (Romans 12:3b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o one is given the word of wisdom through the Spirit... to another faith by the same Spirit (1 Corinthians 12:8-9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920" y="380880"/>
            <a:ext cx="739116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ith as a gift from Go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o you it has been granted for Christ’s sake, not only to believe in Him, but also to suffer for His sake, (Philippians 1:29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on Peter... to those who HAVE RECEIVED a faith of the same kind as ours, by the righteousness of our God and Savior, Jesus Christ (2 Peter 1: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920" y="380880"/>
            <a:ext cx="739116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ith as a gift from Go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, I brought You my son, possessed with a spirit which makes him mute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whenever it seizes him, it slams hi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the grou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foam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t the mou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grinds his teeth and stiffens out. I told Your disciples to cast it out, and they could no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 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” (Mark 9:17-18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09680" y="3657600"/>
            <a:ext cx="4762800" cy="297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352320"/>
            <a:ext cx="304776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pentanc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3352680"/>
            <a:ext cx="304776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ai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3809880"/>
            <a:ext cx="1447560" cy="381240"/>
          </a:xfrm>
          <a:prstGeom prst="leftRightArrow">
            <a:avLst>
              <a:gd name="adj1" fmla="val 50000"/>
              <a:gd name="adj2" fmla="val 75588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47920" y="1828800"/>
            <a:ext cx="607212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is the difference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asked his father, “How long has this been happening to him?” And he said, “From childhood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has often thrown him both into the fire and into the water to destroy him. But if You can do anything, take pity on us and help us!” (Mark 9:21-22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209680" y="3657600"/>
            <a:ext cx="4762800" cy="297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Jesus said to him, “‘If You can?’ All things are possible to him who believes.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mmediately the boy’s father cried out and said, “I do believe; help my unbelief.” (Mark 9:20-24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09680" y="3657600"/>
            <a:ext cx="4762800" cy="297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by grace you have been saved through faith; and that not of yourselves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ift of God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t as a result of works, so that no one may boast. (Ephesians 2:8-9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digal 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arisee and Tax Collec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acche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ul of Tar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ilippian Jail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838080"/>
            <a:ext cx="784872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dels of Faith &amp; Repentan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09680" y="20574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cha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Reflects the idea of sorrow and often indicates a change of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hu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To tu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304920"/>
            <a:ext cx="607212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ld Testament Term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304920"/>
            <a:ext cx="607212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ld Testament Term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112400"/>
            <a:ext cx="853452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 even now,” declares the LORD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Return [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hu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to Me with all your heart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ith fasting, weeping, and mourning; </a:t>
            </a:r>
            <a:br>
              <a:rPr sz="32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rend your heart and not your garments.”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return [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hu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tothe LORD your God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 is gracious and compassionate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to anger, abounding in lovingkindness, And relenting [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cha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of evil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Joel 2:12-13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28600" y="304920"/>
            <a:ext cx="607212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ld Testament Term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knows whether He will not turn [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hu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and relent [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cha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eave a blessing behind Him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a grain offering and a lib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LORD your God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Joel 2:14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8600" y="304920"/>
            <a:ext cx="607212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w Testament Term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600200"/>
            <a:ext cx="7238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etanoeo: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sponds to the Hebrew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cha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pistreph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sponds to the Hebrew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hu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343400"/>
            <a:ext cx="861048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lassical Greek used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metanoeo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 in a general sense of a change of mind, heart, or direction, including times when a person repented of doing something good to turn to a path of ev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fore repent [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tanoe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] and return [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pistreph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], so that your sins may be wiped away, in order that times of refreshing may come from the presence of the Lord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that He may send Jesus, the Christ appointed for you” (Acts 3:19-20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ouis Berkhof lists three elements of biblical repentance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80720" y="3276360"/>
            <a:ext cx="670572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intellectual e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emotional e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volitional e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now rejoice, not that you were made sorrowful, but that you were made sorrowful t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point o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ntance; for you were made sorrowful according t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will o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, so that you might not suffer loss in anything through us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the sorrow that is according t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will o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produces a repentance without regret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ad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alvation, but the sorrow of the world produces death. (2 Corinthians 7:9-10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2-02-14T10:28:39Z</dcterms:modified>
  <cp:revision>437</cp:revision>
  <dc:subject/>
  <dc:title>So Great a Salvation</dc:title>
</cp:coreProperties>
</file>