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F9D-6928-4839-9BA7-E3B80967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E9A-199F-4A95-8DDE-C3F55EC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D92-4C71-4EB1-A750-5ABB9316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1BB-9E59-45C1-A027-13627009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A8A-B1C0-40CF-9AFF-28AC5BB3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5AD-0ECB-4158-A45B-9CE630D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93C-6BA7-46C3-9396-8D9B31D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359-33DD-42A4-84EF-95A93A1D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532-F764-42CF-915A-B83767E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1E3-1615-40F0-95BD-831FE90C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296-3AC2-41CC-96F0-661EA01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53B-07F0-472F-887F-2F5AB2A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4B3A-9F10-4127-A9D8-709109D34E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438280"/>
            <a:ext cx="5943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Great a Sal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answered and said to him, “Truly, truly, I say to you, unless one is born again he cannot see the kingdom of God.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John 3:3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9907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odemus said to Him, “How can a man be born when he is old? He cannot enter a second time into his mother’s womb and be born, can he?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John 3:4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9907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om where does it c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answered, “Truly, truly, I say to you, unless one is born of water and the Spirit he cannot enter into the kingdom of God.” (John 3:5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9907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om where does it c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429000"/>
            <a:ext cx="8381880" cy="3141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n I will sprinkle clean water on you, and you will be clean; I will cleanse you from all your filthiness and from all your idols. (Ezekiel 36:2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429000"/>
            <a:ext cx="8381880" cy="3141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over, I will give you a new heart and put a new spirit within you; and I will remove the heart of stone from your flesh and give you a heart of flesh. (Ezekiel 36:26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429000"/>
            <a:ext cx="8381880" cy="3141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I will put My Spirit within you and cause you to walk in My statutes, and you will be careful to observe My ordinances. (Ezekiel 36:27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 that represents the purification from si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Bi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657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you have been born again not of seed which is perishable but imperishable,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at i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through the living and abiding word of God. (1 Peter 1:23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 that represents the purification from si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Bi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y Spir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133720"/>
            <a:ext cx="335268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654"/>
              </a:gs>
              <a:gs pos="100000">
                <a:srgbClr val="00272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Ato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s accomp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2133720"/>
            <a:ext cx="335304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654"/>
              </a:gs>
              <a:gs pos="100000">
                <a:srgbClr val="00272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benefit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Ato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re applied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743200"/>
            <a:ext cx="1981440" cy="457200"/>
          </a:xfrm>
          <a:prstGeom prst="right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5105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I will pour out water on the thirsty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land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streams on the dry ground;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 will pour out My Spirit on your offspring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My blessing on your descendants (Isaiah 44:3).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3657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they will spring up among the grass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ke poplars by streams of water. (Isaiah 44:4).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orn of water and Spirit…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baptism that represents the purification from si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Bi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y Spir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t which is born of the flesh is flesh, and that which is born of the Spirit is spiri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o not be amazed that I said to you, ‘You must be born again.’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John 3:6-7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9907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om where does it c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ind blows where it wishes and you hear the sound of it, but do not know where it comes from and where it is going; so is everyone who is born of the Spirit.” (John 3:8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9907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om where does it c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ind blows where it wishes and you hear the sound of it, but do not know where it comes from and where it is going; so is everyone who is born of the Spirit.” (John 3:8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990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do I get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5181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Moses lifted up the serpent in the wilderness, even so must the Son of Man be lifted up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at whoever believes will in Him have eternal lif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hn 3:14-1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990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do I get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15000" y="1266840"/>
            <a:ext cx="2924280" cy="46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exercise of His will He brought us forth by the word of truth, so that we might be, as it were, the first fruits among His creatures. (James 1:1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990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do I get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you have been born again not of seed which is perishable but imperishable, that is, through the living and abiding word of God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 Peter 1:23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90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 do I get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43000" y="7621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ource of 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438280"/>
            <a:ext cx="761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as many as received Him, to them He gave the right to become children of God, even to those who believe in His name,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o were born not of blood, nor of the will of the flesh, nor of the will of man, but of God. (John 1:12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when He was in Jerusalem at the Passover, during the feast, many believed in His name, observing His signs which He was doing. (John 2:23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7810560" cy="265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1532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Jesus, on His part, was not entrusting Himself to them, for He knew all me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because He did not need anyone to testify concerning man, for He Himself knew what was in man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2:24-25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0" y="73188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ere was a man of the Pharisees, named Nicodemus, a ruler of the Jew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3:1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73356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an came to Jesus by night and said to Him, “Rabbi, we know that You have come from Go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eacher; for no one can do these signs that You do unless God is with him.” (John 3:2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73356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5680" y="45720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answered and said to him, “Truly, truly, I say to you, unless one is born again he cannot see the kingdom of God.” (John 3:3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73356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where does it co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 I get 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685800"/>
            <a:ext cx="46479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Bir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1-08T22:18:26Z</dcterms:modified>
  <cp:revision>418</cp:revision>
  <dc:subject/>
  <dc:title>So Great a Salvation</dc:title>
</cp:coreProperties>
</file>