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E7D0-2ABD-47C0-8E85-8D0D473B1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AEE5-B8F5-4F2C-A718-943504E6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F524-CBC5-4516-92C1-8EB0ECBDB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91FC-651E-47B7-A9D4-319390935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213B-077A-4907-802F-886F122D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0F4C-D52B-45FC-9B94-9EA9EDD2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DD69-C1EC-4FDF-B1F1-72CFAFAD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FD8B-484C-484E-8A1B-AA09C722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1CC7-1089-4989-91BD-43C9267E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4229-3CF9-4520-888F-8A0073A0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258B-94B4-4565-ACB0-3B9D178D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EDDA-2D93-4FFF-8699-33ABF7C9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2C59-2C4B-4E3E-ABF2-ABA8A368E8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 Extent of the Aton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50292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523880" y="2438280"/>
            <a:ext cx="5943600" cy="895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o Great a Salva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emphasis of Scrip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380880"/>
            <a:ext cx="82296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rticular 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09120" y="3733920"/>
            <a:ext cx="3962520" cy="213336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are not my sheep because you have not believed.”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3048120"/>
            <a:ext cx="3962520" cy="6858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mini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3733920"/>
            <a:ext cx="3962520" cy="213336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do not believe, because you are not of my sheep”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John 10:2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3048120"/>
            <a:ext cx="3962520" cy="6858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emphasis of Scrip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ly a limited number hear the gosp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380880"/>
            <a:ext cx="82296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rticular 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3886200"/>
            <a:ext cx="8686800" cy="27432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t that time Jesus answered and said, “I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raise Thee, O Father, Lord of heaven and earth, that Thou didst hide these things from the wise and intelligent and didst reveal them to babes” (Matthew 11:26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emphasis of Scrip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ly a limited number hear the gosp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380880"/>
            <a:ext cx="82296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rticular 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4648320"/>
            <a:ext cx="8610480" cy="13716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Yes, Father, for thus it was well-pleasing in Thy sight” (Matthew 11:27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emphasis of Scrip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ly a limited number hear the gosp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Intercessory work of Christ was restricted to the ele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380880"/>
            <a:ext cx="82296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rticular 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4952880"/>
            <a:ext cx="8686800" cy="16765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 ask on their behalf; I do NOT ask on behalf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of the world, but of those whom You have given Me; for they are Yours” (John 17:9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676520" y="1752480"/>
            <a:ext cx="327636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2209680"/>
            <a:ext cx="16765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2743200"/>
            <a:ext cx="16002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4191120"/>
            <a:ext cx="32767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76400" y="5638680"/>
            <a:ext cx="25146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04920"/>
            <a:ext cx="24382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consider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r call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brethren, tha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were not many wise according to the flesh, not many mighty, not many noble; </a:t>
            </a:r>
            <a:br>
              <a:rPr sz="32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d has chose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olish things of the world to shame the wise, an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d has chose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eak things of the world to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me the things which are strong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the base things of the world and the despised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d has chos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the things that are not, that He might nullify the things that are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at no man should boast befor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y His doing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are in Christ Jesus... (1 Corinthians 1:26-30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3657600" cy="22399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ll of the sins of all me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3276720"/>
            <a:ext cx="3657600" cy="2286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None of the sins of all 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1066680"/>
            <a:ext cx="3657600" cy="22399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ome of the sins of all 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19720" y="3276720"/>
            <a:ext cx="3657600" cy="2286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ll of the sins of some 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1905120"/>
            <a:ext cx="4267080" cy="26668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8120" y="2666880"/>
            <a:ext cx="281916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505320" y="3276720"/>
            <a:ext cx="205740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moved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143000" y="1676520"/>
            <a:ext cx="662940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Universal languag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295280" y="2743200"/>
            <a:ext cx="632484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d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26600"/>
            <a:ext cx="8229600" cy="17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The General Nature of Universal Language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2484000"/>
            <a:ext cx="7696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will be hated by all on account of My name” (Matthew 10:22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the Jews know my manner of life...” (Acts 26:4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it will come about after this that I will pour out My Spirit on all mankind” (Joel 2:28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nd I, if I be lifted up from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he earth, will draw all men to Myself.” (John 12:32)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that the Father gives Me shall come to Me, and the one who comes to Me I will certainly not cast out” (John 6:37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one can come to Me, unless the Father who sent Me draws him; and I will raise him up on the last day” (John 6:44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one who has heard and learned from the Father, comes to Me” (John 6:45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69339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of all, then, I urge that entreatie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yers, petition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sgivings, be made on behalf of all men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kings and all who are in authority, in order that we may lead a tranquil and quiet life in all godliness and dignity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is is good and acceptable in the sight of God our Savior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o desires all men to be saved and to come to the knowledge of the truth (1 Timothy 2:1-4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960" y="151920"/>
            <a:ext cx="8839080" cy="7621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is man saved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914400"/>
            <a:ext cx="2743200" cy="5335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ural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19520" y="914400"/>
            <a:ext cx="6095880" cy="5335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ernatural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447920"/>
            <a:ext cx="2743200" cy="16002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 saves himself by self eff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19520" y="1447920"/>
            <a:ext cx="6095880" cy="16002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accomplishes the work of salvation through the death of His Son, Jesus, upon the cro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51814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rd is not slow abou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promise, as some count slowness, but is patient toward you, not wishing for any to perish but for all to come to repentance (2 Peter 3:9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01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it is for this we labor and strive, because we have fixed our hope on the living God, who is the Savior of all men, especially of believer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1 Timothy 4:10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4343400"/>
            <a:ext cx="2743200" cy="18288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 is the Savior of all 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34120" y="4343400"/>
            <a:ext cx="2895480" cy="18288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especially saves belie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5029200"/>
            <a:ext cx="2286000" cy="380880"/>
          </a:xfrm>
          <a:prstGeom prst="leftRightArrow">
            <a:avLst>
              <a:gd name="adj1" fmla="val 50000"/>
              <a:gd name="adj2" fmla="val 119482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752480" y="2361960"/>
            <a:ext cx="647712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sufficient for 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offered to 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914400"/>
            <a:ext cx="815328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Universal aspects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52480" y="2361960"/>
            <a:ext cx="647712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sufficient for 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offered to 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914400"/>
            <a:ext cx="815328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Universal aspects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4151160"/>
            <a:ext cx="8229600" cy="15562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 having overlooked the times of ignorance, God is now declaring to men that all everywhere should repent (Acts 17:30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52480" y="2361960"/>
            <a:ext cx="647712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sufficient for 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offered to 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914400"/>
            <a:ext cx="815328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Universal aspects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3962520"/>
            <a:ext cx="8229600" cy="25311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Spirit and the br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y, “Come.” And let the one who hears say, “Come.” And let the one who is thirsty come; let the one who wishes take the water of life without cost. (Revelation 22:17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151920"/>
            <a:ext cx="8839080" cy="7621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is man saved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914400"/>
            <a:ext cx="2743200" cy="5335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ural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9520" y="914400"/>
            <a:ext cx="6095880" cy="5335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ernatural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320" y="1447920"/>
            <a:ext cx="2743200" cy="22096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 saves himself by self eff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1447920"/>
            <a:ext cx="6095880" cy="16002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accomplishes the work of salvation through the death of His Son, Jesus, upon the cro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3048120"/>
            <a:ext cx="6095880" cy="60948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es God save Ma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960" y="151920"/>
            <a:ext cx="8839080" cy="7621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is man saved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320" y="914400"/>
            <a:ext cx="2743200" cy="5335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ural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914400"/>
            <a:ext cx="6095880" cy="5335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ernatural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447920"/>
            <a:ext cx="2743200" cy="51814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 saves himself by self eff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1447920"/>
            <a:ext cx="6095880" cy="16002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accomplishes the work of salvation through the death of His Son, Jesus, upon the cro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19520" y="3048120"/>
            <a:ext cx="6095880" cy="60948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es God save Ma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19520" y="3657600"/>
            <a:ext cx="3047760" cy="9907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cerdotal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867280" y="3657600"/>
            <a:ext cx="3048120" cy="9907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ngelical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819520" y="4648320"/>
            <a:ext cx="3047760" cy="19810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 saved through partaking in sacra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67280" y="4648320"/>
            <a:ext cx="3048120" cy="19810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 saved through preaching of the gosp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2280" y="762120"/>
            <a:ext cx="8763120" cy="83808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oes God save 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1600200"/>
            <a:ext cx="4419720" cy="7621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cerdotal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1600200"/>
            <a:ext cx="4343400" cy="7621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ngelical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2362320"/>
            <a:ext cx="4419720" cy="16002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 saved through partaking in sacra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2362320"/>
            <a:ext cx="4343400" cy="16002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 saved through preaching of the gosp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3962520"/>
            <a:ext cx="4419720" cy="16002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hurch dispenses sal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3962520"/>
            <a:ext cx="4343400" cy="16002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ly Spirit brings salvation to those who belie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2280" y="380880"/>
            <a:ext cx="8763120" cy="83844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om Did Christ Di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1219320"/>
            <a:ext cx="4419720" cy="76176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all men equal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1219320"/>
            <a:ext cx="4343400" cy="76176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ele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51920" y="1980720"/>
            <a:ext cx="4419720" cy="449604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is is true, then it follows tha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men are sa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that the atonement only made it possible for some men to save themsel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1981080"/>
            <a:ext cx="4343400" cy="449604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is is true, then it follows tha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some are sa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tonement accomplished that for which it was desig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52280" y="380880"/>
            <a:ext cx="8763120" cy="83844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om Did Christ Di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1219320"/>
            <a:ext cx="4419720" cy="76176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all men equal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1219320"/>
            <a:ext cx="4343400" cy="76176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ele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3200400"/>
            <a:ext cx="7010640" cy="7621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ss + Man’s Decision = Sal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4572000"/>
            <a:ext cx="7086600" cy="16002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ss + God’s inward call (which results in repentance and faith) = Sal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emphasis of Scrip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died for His people (Matthew 1:2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died for His friends (John 15:13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died for His sheep (John 10:1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died for His body - the church (Ephesians 5:23-26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died for the elect (Romans 8:32-34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died for Us (Titus 2:14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380880"/>
            <a:ext cx="82296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rticular 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emphasis of Scrip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380880"/>
            <a:ext cx="82296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rticular 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2819520"/>
            <a:ext cx="6705720" cy="15562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am the good shepherd; the good shepherd lays down His life for the sheep (John 10:11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12-01-08T21:19:58Z</dcterms:modified>
  <cp:revision>410</cp:revision>
  <dc:subject/>
  <dc:title>So Great a Salvation</dc:title>
</cp:coreProperties>
</file>