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93D-5F5A-47A2-9F5D-37F25836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BC3-0BCC-46B7-A8EE-D0B8EEFF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DBB-EE89-484C-928C-196746DE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426-795A-48F9-98AB-369033D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3E3-113C-4DE3-9545-B8FAB6E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51D-EED6-4570-81BC-6A2309D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F1D-8908-41D0-8F64-9231CB9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FF5-57C1-4A2A-9DF2-8E791BC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297-D421-4A9D-961F-6FBCA10B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252-77F8-4DC6-AD07-CD99AC8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B79-F43C-4D51-8080-12C2ABB6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7FC-4161-4B9E-99FA-D978312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39D-A6F5-4E60-8C60-3B152E0590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438280"/>
            <a:ext cx="5943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Great a Sal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is attitude in yourselves whic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lso in Christ Jesu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, although He existed in the form of God, did not regard equality with God a thing to be graspe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emptied Himself, taking the form of a bondservant, and being made in the likeness of men. And being found in appearance as a man, He humbled Himself by becoming obedient to the point of death, even death on a cross. (Philippians 2:5-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3429000"/>
            <a:ext cx="388620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..The Son of God appeared for this purpose, that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ight destroy the works of the devil. (1 John 3:8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657600"/>
            <a:ext cx="388620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judgment is upon this world; now the ruler of this world shall be cast out (John 12:3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1981080"/>
            <a:ext cx="426708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anks be to God, who always leads us in His triumph in Christ, and manifests through us the sweet aroma of the knowledge of Him in every pl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2 Corinthians 2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400480"/>
            <a:ext cx="426708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He had disarmed the rulers and authorities,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de a public display of them, having triumphed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m through Him (Colossians 2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9880"/>
            <a:ext cx="78487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I delivered to you as of first importance what I also received, that Christ died for our sins according to the Scriptures (1 Corinthians 15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191120"/>
            <a:ext cx="78487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Jesus therefore had received the sour wine, He said, “It is finished!” And He bowed His head, and gave up His spirit. (John 19: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U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065560"/>
            <a:ext cx="78487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sus said to him, “I am the way, and the truth, and the life; no one comes to the Father, but through Me.” (John 14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U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re is salvation in no one else; for there is no other name under heaven that has been given among men, by which we must be saved (Acts 4: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 – Presupposes inadequacy of animal sacrif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– Presupposes man’s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 – Presupposes man’s inability to sav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 – Presupposes a penal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 – Presupposes 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 – Presupposes gui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 – Presupposes sla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lavery in the Ancient Worl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f the means of a stranger or of 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journer with you becomes sufficient, and 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man of your becomes so poor with regard to him as to sell himself to a stranger who is sojourning with you, or to the descendants of a stranger’s fami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he shall have redemption right after he has been sold. One of his brothers may redeem hi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his uncle, or his uncle’s son, may redeem him, or one of his blood relatives from his family may redeem him or if he prospers, he may redeem himsel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eviticus 25:47-4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a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Able to Pay the Ransom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Willing to Pay the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590920"/>
            <a:ext cx="800100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nce then the children share in fl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blood, He Himself likewise also partook of the same, that through death He might render powerless him who had the power of death, that is, the devil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ight deliver those who through fear of death were subject to slavery all their lives. (Hebrews 2:14-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581280"/>
            <a:ext cx="80010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we do not have a high priest 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nnot sympathize with our weaknesses, but one who has been tempted in all things as we are, yet without sin (Hebrews 4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Able to Pay the Ransom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Willing to Pay the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1-08T19:09:14Z</dcterms:modified>
  <cp:revision>400</cp:revision>
  <dc:subject/>
  <dc:title>So Great a Salvation</dc:title>
</cp:coreProperties>
</file>