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wmf" ContentType="image/x-wmf"/>
  <Override PartName="/ppt/media/image7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4C3C3-2642-4A2C-A515-F4CEFAF4A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6E8CB-5FA7-48B4-83EB-05FBCB9BD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5396F-3775-4477-94C5-F82C12BE2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5D952-9549-482D-AC5C-7BC602089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1C28A-93EB-48F6-8B53-DEC1CB750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20977-3AAC-4643-AA8B-1B76332B8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55117-69CF-4429-938B-D3D88499D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11135-A123-4BFD-9213-A115644BF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23CC8-7BD0-4FAD-B50F-CBF9B7E7D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104E2-21C1-416C-AD43-00EB3F9D4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B4425-BE83-48AA-9B7A-6FBC25D4A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86BE7-2333-4E83-9AA6-0F417BA09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229B6-0776-43ED-9F52-0A0C555C4AD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400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The Aton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895480" y="5029200"/>
            <a:ext cx="350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© John Stevenson, 20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523880" y="2438280"/>
            <a:ext cx="5943600" cy="8953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So Great a Salvation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acrificia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once and for all sacrifi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380880"/>
            <a:ext cx="7010280" cy="685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Nature of the Atonement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8" name=""/>
          <p:cNvSpPr/>
          <p:nvPr/>
        </p:nvSpPr>
        <p:spPr>
          <a:xfrm>
            <a:off x="1143000" y="3505320"/>
            <a:ext cx="7086600" cy="204372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By this will we have been sanctified through the offering of the body of Jesus Christ once for 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(Hebrews 10:10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acrificia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once and for all sacrifi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380880"/>
            <a:ext cx="7010280" cy="685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Nature of the Atonement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1" name=""/>
          <p:cNvSpPr/>
          <p:nvPr/>
        </p:nvSpPr>
        <p:spPr>
          <a:xfrm>
            <a:off x="533520" y="3429000"/>
            <a:ext cx="8076960" cy="301860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And every priest stands daily ministering and offering time after time the same sacrifices, which can never take away sins; </a:t>
            </a:r>
            <a:r>
              <a:rPr b="0" lang="en-US" sz="1800" spc="-1" strike="noStrike">
                <a:solidFill>
                  <a:srgbClr val="ccffff"/>
                </a:solidFill>
                <a:latin typeface="Arial"/>
              </a:rPr>
              <a:t>12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 but He, having offered one sacrifi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for sins for all time, sat down at the right hand of God (Hebrews 10:11-12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acrificia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Vicario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380880"/>
            <a:ext cx="7010280" cy="685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Nature of the Atonement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acrificia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Vicarious (a legal representative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380880"/>
            <a:ext cx="7010280" cy="685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Nature of the Atonement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1714680" y="3848040"/>
            <a:ext cx="1714320" cy="171468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2095560" y="5372280"/>
            <a:ext cx="1047600" cy="5713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dam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5105520" y="3429000"/>
            <a:ext cx="1673280" cy="25146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 txBox="1"/>
          <p:nvPr/>
        </p:nvSpPr>
        <p:spPr>
          <a:xfrm>
            <a:off x="5486400" y="5638680"/>
            <a:ext cx="1047600" cy="571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Jesus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acrificia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Vicarious (a legal representative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380880"/>
            <a:ext cx="7010280" cy="685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Nature of the Atonement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2" name=""/>
          <p:cNvSpPr/>
          <p:nvPr/>
        </p:nvSpPr>
        <p:spPr>
          <a:xfrm>
            <a:off x="533520" y="3429000"/>
            <a:ext cx="8076960" cy="253116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So then as through one transgression the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resulted condemnation to all men, even so through one act of righteousness there resulted justification o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life to all men (Romans 5:18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acrificia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Vicarious (a legal representative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380880"/>
            <a:ext cx="7010280" cy="685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Nature of the Atonement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5" name=""/>
          <p:cNvSpPr/>
          <p:nvPr/>
        </p:nvSpPr>
        <p:spPr>
          <a:xfrm>
            <a:off x="533520" y="3429000"/>
            <a:ext cx="8076960" cy="204372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For as through the one man’s disobedience the many were made sinners, even so through the obedience of the One the many will be made righteous. (Romans 5:19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acrificia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Vicario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ubstitutiona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380880"/>
            <a:ext cx="7010280" cy="685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Nature of the Atonement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8" name=""/>
          <p:cNvSpPr/>
          <p:nvPr/>
        </p:nvSpPr>
        <p:spPr>
          <a:xfrm>
            <a:off x="4419720" y="1828800"/>
            <a:ext cx="4267080" cy="448092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All of us like sheep have gone astray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Each of us has turned to his own way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But the LORD has caused the iniquity of us 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To fall on Him. (Isaiah 53:6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acrificia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Vicario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ubstitutiona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380880"/>
            <a:ext cx="7010280" cy="685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Nature of the Atonement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1" name=""/>
          <p:cNvSpPr/>
          <p:nvPr/>
        </p:nvSpPr>
        <p:spPr>
          <a:xfrm>
            <a:off x="4267080" y="1442880"/>
            <a:ext cx="4572000" cy="448092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And when you were dead in your transgressions and the uncircumcision of your flesh, He made you alive together with Him, having forgiven us all our transgressions… (Colossians 2:13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acrificia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Vicario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ubstitutiona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380880"/>
            <a:ext cx="7010280" cy="685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Nature of the Atonement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4" name=""/>
          <p:cNvSpPr/>
          <p:nvPr/>
        </p:nvSpPr>
        <p:spPr>
          <a:xfrm>
            <a:off x="4267080" y="1442880"/>
            <a:ext cx="4496040" cy="448092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…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having canceled out the certificate of debt consisting of decrees against us and which was hostile to us; and He has taken it out of the way, having nailed it to the cross (Colossians 2:14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acrificia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Vicario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ubstitutiona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ena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380880"/>
            <a:ext cx="7010280" cy="685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Nature of the Atonement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7" name=""/>
          <p:cNvSpPr/>
          <p:nvPr/>
        </p:nvSpPr>
        <p:spPr>
          <a:xfrm>
            <a:off x="4419720" y="2324160"/>
            <a:ext cx="4038480" cy="399348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Christ redeemed us from the curse of the Law, having become a curse for us-- for it is written, “Cursed is everyone who hangs on a tree” (Galatia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3:13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The Temptation Seal, showing Adam, Eve, the tree and the serpent"/>
          <p:cNvPicPr/>
          <p:nvPr/>
        </p:nvPicPr>
        <p:blipFill>
          <a:blip r:embed="rId2"/>
          <a:stretch/>
        </p:blipFill>
        <p:spPr>
          <a:xfrm>
            <a:off x="2971800" y="609480"/>
            <a:ext cx="2857680" cy="15433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447920" y="2133360"/>
            <a:ext cx="586728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What happened in the Garden?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acrificia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Vicario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ubstitutiona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ena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opitiato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380880"/>
            <a:ext cx="7010280" cy="685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Nature of the Atonement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0" name=""/>
          <p:cNvSpPr/>
          <p:nvPr/>
        </p:nvSpPr>
        <p:spPr>
          <a:xfrm>
            <a:off x="4267080" y="1523880"/>
            <a:ext cx="4496040" cy="496836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Therefore, He had to be made like H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brethren in all things, that He might become a merciful and faithful high priest in things pertaining to God, to make </a:t>
            </a:r>
            <a:r>
              <a:rPr b="1" lang="en-US" sz="3200" spc="-1" strike="noStrike">
                <a:solidFill>
                  <a:srgbClr val="ccffff"/>
                </a:solidFill>
                <a:latin typeface="Arial"/>
              </a:rPr>
              <a:t>propitiation 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for the sins of the people (Hebrews 2:17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acrificia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Vicario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ubstitutiona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ena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opitiato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380880"/>
            <a:ext cx="7010280" cy="685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Nature of the Atonement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4876920" y="1676520"/>
            <a:ext cx="3429000" cy="30178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spd="med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acrificia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Vicario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ubstitutiona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ena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opitiato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pitiation presupposes ang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380880"/>
            <a:ext cx="7010280" cy="685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Nature of the Atonement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4876920" y="1676520"/>
            <a:ext cx="3429000" cy="30178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spd="med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acrificia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Vicario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ubstitutiona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ena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opitiato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pitiation presupposes ang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price of propitiation was de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380880"/>
            <a:ext cx="7010280" cy="685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Nature of the Atonement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9" name=""/>
          <p:cNvSpPr/>
          <p:nvPr/>
        </p:nvSpPr>
        <p:spPr>
          <a:xfrm>
            <a:off x="4191120" y="1881360"/>
            <a:ext cx="4647960" cy="253116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…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Christ Jesus; </a:t>
            </a:r>
            <a:r>
              <a:rPr b="0" lang="en-US" sz="1800" spc="-1" strike="noStrike">
                <a:solidFill>
                  <a:srgbClr val="ccffff"/>
                </a:solidFill>
                <a:latin typeface="Arial"/>
              </a:rPr>
              <a:t>25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 whom God displayed publicly as a propitiation in His blood through faith (Romans 3:24-25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acrificia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Vicario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ubstitutiona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ena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opitiato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pitiation presupposes ang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price of propitiation was de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initiation of propitiation was lo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380880"/>
            <a:ext cx="7010280" cy="685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Nature of the Atonement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2" name=""/>
          <p:cNvSpPr/>
          <p:nvPr/>
        </p:nvSpPr>
        <p:spPr>
          <a:xfrm>
            <a:off x="4267080" y="1600200"/>
            <a:ext cx="4496040" cy="301860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In this is love, not that we loved God, but that He loved us and sent His Son to be the propitiation for our si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(1 John 4:10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acrificia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Vicario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ubstitutiona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ena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opitiato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xpiato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380880"/>
            <a:ext cx="7010280" cy="685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Nature of the Atonement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4343400" cy="1143000"/>
          </a:xfrm>
          <a:prstGeom prst="rect">
            <a:avLst/>
          </a:prstGeom>
          <a:gradFill rotWithShape="0">
            <a:gsLst>
              <a:gs pos="0">
                <a:srgbClr val="800000"/>
              </a:gs>
              <a:gs pos="100000">
                <a:srgbClr val="3b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Propitiation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04920" y="1447920"/>
            <a:ext cx="4343400" cy="129528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o appease or satisfy wrat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648320" y="304920"/>
            <a:ext cx="4114800" cy="1143000"/>
          </a:xfrm>
          <a:prstGeom prst="rect">
            <a:avLst/>
          </a:prstGeom>
          <a:gradFill rotWithShape="0">
            <a:gsLst>
              <a:gs pos="0">
                <a:srgbClr val="800000"/>
              </a:gs>
              <a:gs pos="100000">
                <a:srgbClr val="3b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Expi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648320" y="1447920"/>
            <a:ext cx="4114800" cy="129528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o erase or remove guil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04920" y="2743200"/>
            <a:ext cx="4343400" cy="129528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rected toward the anger of Go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648320" y="2743200"/>
            <a:ext cx="4114800" cy="129528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rected toward the guilt of ma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04920" y="4038480"/>
            <a:ext cx="4343400" cy="243864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sacrifice in the temple appeased the just demands of a righteous God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648320" y="4038480"/>
            <a:ext cx="4114800" cy="243864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y covering the guilt of the sins committe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acrificia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Vicario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ubstitutiona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ena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opitiato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xpiato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380880"/>
            <a:ext cx="7010280" cy="685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Nature of the Atonement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5" name=""/>
          <p:cNvSpPr/>
          <p:nvPr/>
        </p:nvSpPr>
        <p:spPr>
          <a:xfrm>
            <a:off x="4038480" y="3809880"/>
            <a:ext cx="4496040" cy="253116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As far as the east is from the west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So far has He removed our transgressions from us (Psalm 103:12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Genesis 3:7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990720" y="1219320"/>
            <a:ext cx="72388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n the eyes of both of them were opened, and they knew that they were naked; and they sewed fig leaves together and made themselves loin covering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14400" y="1066680"/>
            <a:ext cx="7315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380880" y="1752480"/>
            <a:ext cx="3047760" cy="2285640"/>
            <a:chOff x="380880" y="1752480"/>
            <a:chExt cx="3047760" cy="2285640"/>
          </a:xfrm>
        </p:grpSpPr>
        <p:sp>
          <p:nvSpPr>
            <p:cNvPr id="50" name="Cloud"/>
            <p:cNvSpPr/>
            <p:nvPr/>
          </p:nvSpPr>
          <p:spPr>
            <a:xfrm>
              <a:off x="380880" y="1752480"/>
              <a:ext cx="3047760" cy="2285640"/>
            </a:xfrm>
            <a:prstGeom prst="pie">
              <a:avLst/>
            </a:prstGeom>
            <a:gradFill rotWithShape="0">
              <a:gsLst>
                <a:gs pos="0">
                  <a:srgbClr val="ca2514"/>
                </a:gs>
                <a:gs pos="100000">
                  <a:srgbClr val="5d1109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 txBox="1"/>
            <p:nvPr/>
          </p:nvSpPr>
          <p:spPr>
            <a:xfrm>
              <a:off x="842400" y="2292840"/>
              <a:ext cx="2118240" cy="97020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gradFill rotWithShape="0">
                    <a:gsLst>
                      <a:gs pos="0">
                        <a:srgbClr val="0066cc"/>
                      </a:gs>
                      <a:gs pos="100000">
                        <a:srgbClr val="002f5e"/>
                      </a:gs>
                    </a:gsLst>
                    <a:path path="rect">
                      <a:fillToRect l="50000" t="50000" r="50000" b="50000"/>
                    </a:path>
                  </a:gra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OD</a:t>
              </a:r>
              <a:endPara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6172200" y="2133720"/>
            <a:ext cx="1714680" cy="17143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4191120" y="0"/>
            <a:ext cx="1143000" cy="6858000"/>
          </a:xfrm>
          <a:custGeom>
            <a:avLst/>
            <a:gdLst/>
            <a:ahLst/>
            <a:rect l="l" t="t" r="r" b="b"/>
            <a:pathLst>
              <a:path w="720" h="4320">
                <a:moveTo>
                  <a:pt x="48" y="96"/>
                </a:moveTo>
                <a:lnTo>
                  <a:pt x="96" y="384"/>
                </a:lnTo>
                <a:lnTo>
                  <a:pt x="0" y="816"/>
                </a:lnTo>
                <a:lnTo>
                  <a:pt x="96" y="1440"/>
                </a:lnTo>
                <a:lnTo>
                  <a:pt x="48" y="1776"/>
                </a:lnTo>
                <a:lnTo>
                  <a:pt x="96" y="1968"/>
                </a:lnTo>
                <a:lnTo>
                  <a:pt x="48" y="2160"/>
                </a:lnTo>
                <a:lnTo>
                  <a:pt x="96" y="2688"/>
                </a:lnTo>
                <a:lnTo>
                  <a:pt x="48" y="3120"/>
                </a:lnTo>
                <a:lnTo>
                  <a:pt x="96" y="3408"/>
                </a:lnTo>
                <a:lnTo>
                  <a:pt x="48" y="3552"/>
                </a:lnTo>
                <a:lnTo>
                  <a:pt x="96" y="3600"/>
                </a:lnTo>
                <a:lnTo>
                  <a:pt x="0" y="3936"/>
                </a:lnTo>
                <a:lnTo>
                  <a:pt x="96" y="4176"/>
                </a:lnTo>
                <a:lnTo>
                  <a:pt x="96" y="4320"/>
                </a:lnTo>
                <a:lnTo>
                  <a:pt x="672" y="4320"/>
                </a:lnTo>
                <a:lnTo>
                  <a:pt x="720" y="4032"/>
                </a:lnTo>
                <a:lnTo>
                  <a:pt x="624" y="3552"/>
                </a:lnTo>
                <a:lnTo>
                  <a:pt x="624" y="3120"/>
                </a:lnTo>
                <a:lnTo>
                  <a:pt x="672" y="3072"/>
                </a:lnTo>
                <a:lnTo>
                  <a:pt x="624" y="2832"/>
                </a:lnTo>
                <a:lnTo>
                  <a:pt x="672" y="2592"/>
                </a:lnTo>
                <a:lnTo>
                  <a:pt x="576" y="2112"/>
                </a:lnTo>
                <a:lnTo>
                  <a:pt x="624" y="2016"/>
                </a:lnTo>
                <a:lnTo>
                  <a:pt x="576" y="1872"/>
                </a:lnTo>
                <a:lnTo>
                  <a:pt x="624" y="1584"/>
                </a:lnTo>
                <a:lnTo>
                  <a:pt x="576" y="1344"/>
                </a:lnTo>
                <a:lnTo>
                  <a:pt x="576" y="1296"/>
                </a:lnTo>
                <a:lnTo>
                  <a:pt x="528" y="1152"/>
                </a:lnTo>
                <a:lnTo>
                  <a:pt x="576" y="1104"/>
                </a:lnTo>
                <a:lnTo>
                  <a:pt x="576" y="1008"/>
                </a:lnTo>
                <a:lnTo>
                  <a:pt x="576" y="816"/>
                </a:lnTo>
                <a:lnTo>
                  <a:pt x="624" y="624"/>
                </a:lnTo>
                <a:lnTo>
                  <a:pt x="528" y="384"/>
                </a:lnTo>
                <a:lnTo>
                  <a:pt x="576" y="240"/>
                </a:lnTo>
                <a:lnTo>
                  <a:pt x="576" y="96"/>
                </a:lnTo>
                <a:lnTo>
                  <a:pt x="528" y="0"/>
                </a:lnTo>
                <a:lnTo>
                  <a:pt x="48" y="0"/>
                </a:lnTo>
                <a:lnTo>
                  <a:pt x="48" y="48"/>
                </a:lnTo>
                <a:lnTo>
                  <a:pt x="48" y="96"/>
                </a:lnTo>
                <a:close/>
              </a:path>
            </a:pathLst>
          </a:custGeom>
          <a:solidFill>
            <a:srgbClr val="3333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 rot="5400000">
            <a:off x="3371400" y="2647800"/>
            <a:ext cx="2743200" cy="647640"/>
          </a:xfrm>
          <a:prstGeom prst="rect">
            <a:avLst/>
          </a:prstGeom>
        </p:spPr>
        <p:txBody>
          <a:bodyPr wrap="none" lIns="90000" rIns="90000" tIns="46800" bIns="46800" anchor="ctr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Arial Black"/>
              </a:rPr>
              <a:t>SI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Arial Black"/>
              <a:ea typeface="Arial Black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6172200" y="2133720"/>
            <a:ext cx="1714680" cy="17143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4191120" y="0"/>
            <a:ext cx="1143000" cy="6858000"/>
          </a:xfrm>
          <a:custGeom>
            <a:avLst/>
            <a:gdLst/>
            <a:ahLst/>
            <a:rect l="l" t="t" r="r" b="b"/>
            <a:pathLst>
              <a:path w="720" h="4320">
                <a:moveTo>
                  <a:pt x="48" y="96"/>
                </a:moveTo>
                <a:lnTo>
                  <a:pt x="96" y="384"/>
                </a:lnTo>
                <a:lnTo>
                  <a:pt x="0" y="816"/>
                </a:lnTo>
                <a:lnTo>
                  <a:pt x="96" y="1440"/>
                </a:lnTo>
                <a:lnTo>
                  <a:pt x="48" y="1776"/>
                </a:lnTo>
                <a:lnTo>
                  <a:pt x="96" y="1968"/>
                </a:lnTo>
                <a:lnTo>
                  <a:pt x="48" y="2160"/>
                </a:lnTo>
                <a:lnTo>
                  <a:pt x="96" y="2688"/>
                </a:lnTo>
                <a:lnTo>
                  <a:pt x="48" y="3120"/>
                </a:lnTo>
                <a:lnTo>
                  <a:pt x="96" y="3408"/>
                </a:lnTo>
                <a:lnTo>
                  <a:pt x="48" y="3552"/>
                </a:lnTo>
                <a:lnTo>
                  <a:pt x="96" y="3600"/>
                </a:lnTo>
                <a:lnTo>
                  <a:pt x="0" y="3936"/>
                </a:lnTo>
                <a:lnTo>
                  <a:pt x="96" y="4176"/>
                </a:lnTo>
                <a:lnTo>
                  <a:pt x="96" y="4320"/>
                </a:lnTo>
                <a:lnTo>
                  <a:pt x="672" y="4320"/>
                </a:lnTo>
                <a:lnTo>
                  <a:pt x="720" y="4032"/>
                </a:lnTo>
                <a:lnTo>
                  <a:pt x="624" y="3552"/>
                </a:lnTo>
                <a:lnTo>
                  <a:pt x="624" y="3120"/>
                </a:lnTo>
                <a:lnTo>
                  <a:pt x="672" y="3072"/>
                </a:lnTo>
                <a:lnTo>
                  <a:pt x="624" y="2832"/>
                </a:lnTo>
                <a:lnTo>
                  <a:pt x="672" y="2592"/>
                </a:lnTo>
                <a:lnTo>
                  <a:pt x="576" y="2112"/>
                </a:lnTo>
                <a:lnTo>
                  <a:pt x="624" y="2016"/>
                </a:lnTo>
                <a:lnTo>
                  <a:pt x="576" y="1872"/>
                </a:lnTo>
                <a:lnTo>
                  <a:pt x="624" y="1584"/>
                </a:lnTo>
                <a:lnTo>
                  <a:pt x="576" y="1344"/>
                </a:lnTo>
                <a:lnTo>
                  <a:pt x="576" y="1296"/>
                </a:lnTo>
                <a:lnTo>
                  <a:pt x="528" y="1152"/>
                </a:lnTo>
                <a:lnTo>
                  <a:pt x="576" y="1104"/>
                </a:lnTo>
                <a:lnTo>
                  <a:pt x="576" y="1008"/>
                </a:lnTo>
                <a:lnTo>
                  <a:pt x="576" y="816"/>
                </a:lnTo>
                <a:lnTo>
                  <a:pt x="624" y="624"/>
                </a:lnTo>
                <a:lnTo>
                  <a:pt x="528" y="384"/>
                </a:lnTo>
                <a:lnTo>
                  <a:pt x="576" y="240"/>
                </a:lnTo>
                <a:lnTo>
                  <a:pt x="576" y="96"/>
                </a:lnTo>
                <a:lnTo>
                  <a:pt x="528" y="0"/>
                </a:lnTo>
                <a:lnTo>
                  <a:pt x="48" y="0"/>
                </a:lnTo>
                <a:lnTo>
                  <a:pt x="48" y="48"/>
                </a:lnTo>
                <a:lnTo>
                  <a:pt x="48" y="96"/>
                </a:lnTo>
                <a:close/>
              </a:path>
            </a:pathLst>
          </a:custGeom>
          <a:solidFill>
            <a:srgbClr val="3333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29000" y="2514600"/>
            <a:ext cx="3048120" cy="762120"/>
          </a:xfrm>
          <a:prstGeom prst="rightArrow">
            <a:avLst>
              <a:gd name="adj1" fmla="val 50000"/>
              <a:gd name="adj2" fmla="val 99988"/>
            </a:avLst>
          </a:prstGeom>
          <a:gradFill rotWithShape="0">
            <a:gsLst>
              <a:gs pos="0">
                <a:srgbClr val="0033cc"/>
              </a:gs>
              <a:gs pos="100000">
                <a:srgbClr val="0017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3809880" y="1600200"/>
            <a:ext cx="1825920" cy="2743200"/>
          </a:xfrm>
          <a:prstGeom prst="rect">
            <a:avLst/>
          </a:prstGeom>
          <a:ln w="0">
            <a:noFill/>
          </a:ln>
        </p:spPr>
      </p:pic>
      <p:grpSp>
        <p:nvGrpSpPr>
          <p:cNvPr id="59" name=""/>
          <p:cNvGrpSpPr/>
          <p:nvPr/>
        </p:nvGrpSpPr>
        <p:grpSpPr>
          <a:xfrm>
            <a:off x="380880" y="1752480"/>
            <a:ext cx="3047760" cy="2285640"/>
            <a:chOff x="380880" y="1752480"/>
            <a:chExt cx="3047760" cy="2285640"/>
          </a:xfrm>
        </p:grpSpPr>
        <p:sp>
          <p:nvSpPr>
            <p:cNvPr id="60" name="Cloud"/>
            <p:cNvSpPr/>
            <p:nvPr/>
          </p:nvSpPr>
          <p:spPr>
            <a:xfrm>
              <a:off x="380880" y="1752480"/>
              <a:ext cx="3047760" cy="2285640"/>
            </a:xfrm>
            <a:prstGeom prst="pie">
              <a:avLst/>
            </a:prstGeom>
            <a:gradFill rotWithShape="0">
              <a:gsLst>
                <a:gs pos="0">
                  <a:srgbClr val="ca2514"/>
                </a:gs>
                <a:gs pos="100000">
                  <a:srgbClr val="5d1109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 txBox="1"/>
            <p:nvPr/>
          </p:nvSpPr>
          <p:spPr>
            <a:xfrm>
              <a:off x="842400" y="2292840"/>
              <a:ext cx="2118240" cy="97020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gradFill rotWithShape="0">
                    <a:gsLst>
                      <a:gs pos="0">
                        <a:srgbClr val="0066cc"/>
                      </a:gs>
                      <a:gs pos="100000">
                        <a:srgbClr val="002f5e"/>
                      </a:gs>
                    </a:gsLst>
                    <a:path path="rect">
                      <a:fillToRect l="50000" t="50000" r="50000" b="50000"/>
                    </a:path>
                  </a:gra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OD</a:t>
              </a:r>
              <a:endPara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sp>
        <p:nvSpPr>
          <p:cNvPr id="62" name=""/>
          <p:cNvSpPr txBox="1"/>
          <p:nvPr/>
        </p:nvSpPr>
        <p:spPr>
          <a:xfrm>
            <a:off x="3352680" y="4495680"/>
            <a:ext cx="2743200" cy="685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tonement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3352680" y="5486400"/>
            <a:ext cx="2743200" cy="685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t-one-ment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acrificia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380880"/>
            <a:ext cx="7010280" cy="685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Nature of the Atonement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4952880" y="1752480"/>
            <a:ext cx="3343320" cy="35146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acrificia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380880"/>
            <a:ext cx="7010280" cy="685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Nature of the Atonement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9" name=""/>
          <p:cNvSpPr/>
          <p:nvPr/>
        </p:nvSpPr>
        <p:spPr>
          <a:xfrm>
            <a:off x="3733920" y="1523880"/>
            <a:ext cx="4800600" cy="496836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He was oppressed and He was afflicted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Yet He did not open His mouth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Like a lamb that is led to slaughter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And like a sheep that is silent before its shearers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So He did not open His mouth (Isaiah 53:7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acrificia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380880"/>
            <a:ext cx="7010280" cy="685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Nature of the Atonement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2" name=""/>
          <p:cNvSpPr/>
          <p:nvPr/>
        </p:nvSpPr>
        <p:spPr>
          <a:xfrm>
            <a:off x="3733920" y="1523880"/>
            <a:ext cx="3962160" cy="204372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...For Christ our Passover also has been sacrific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(1 Corinthians 5:7b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acrificia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380880"/>
            <a:ext cx="7010280" cy="685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Nature of the Atonement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5" name=""/>
          <p:cNvSpPr/>
          <p:nvPr/>
        </p:nvSpPr>
        <p:spPr>
          <a:xfrm>
            <a:off x="3733920" y="1523880"/>
            <a:ext cx="4800600" cy="338580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...Christ also loved you, and gave Himself up for us, an offering and a sacrifice to God as a fragrant aroma (Ephesians 5:2b)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4T08:55:22Z</dcterms:created>
  <dc:creator>John Stevenson</dc:creator>
  <dc:description/>
  <dc:language>en-US</dc:language>
  <cp:lastModifiedBy>John Stevenson</cp:lastModifiedBy>
  <dcterms:modified xsi:type="dcterms:W3CDTF">2012-01-08T18:51:36Z</dcterms:modified>
  <cp:revision>393</cp:revision>
  <dc:subject/>
  <dc:title>So Great a Salvation</dc:title>
</cp:coreProperties>
</file>