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9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2EC-2325-4FCE-B249-E606BC0C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C36-7E6F-4AFE-A880-AE9DC58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F33-3F6B-438A-819A-436720B9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6AA-6F06-445C-8833-256291B2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B1C-835D-462C-A0E2-0DECF2AD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B24-5441-46FA-AF99-54534ED3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5A5-D2AE-4002-8ED5-5ED2D26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242-6BAD-4702-8956-2A1CB1F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175-0552-45CD-97E8-EACE026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E15-C58A-471C-A479-E702FD8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0BF-5C13-4BC7-9D85-35CE3E49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656-7496-49C2-B42E-0F29214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29E-0B79-43BE-8BE7-493652DB3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81464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phet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Neo-Babylonian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86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209680"/>
            <a:ext cx="46530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phetic Vo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acle of Nineve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the vision of Nahum the Elkoshit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ealous and avenging God is the LO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avenging and wrath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takes vengeance on His adversari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reserves wrath for His enemi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slow to anger and great in pow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LORD will by no means le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uilt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unish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irlwind and storm is His w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louds are the dust beneath His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267080" y="4952880"/>
            <a:ext cx="2057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means “comfort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will come about that all who see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hrink from you and s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veh is devasta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grieve for h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ill I seek comforters for you?” (Nahum 3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67080" y="5638680"/>
            <a:ext cx="4191120" cy="1099440"/>
            <a:chOff x="4267080" y="5638680"/>
            <a:chExt cx="4191120" cy="1099440"/>
          </a:xfrm>
        </p:grpSpPr>
        <p:sp>
          <p:nvSpPr>
            <p:cNvPr id="86" name=""/>
            <p:cNvSpPr/>
            <p:nvPr/>
          </p:nvSpPr>
          <p:spPr>
            <a:xfrm>
              <a:off x="4800600" y="5867280"/>
              <a:ext cx="350532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7080" y="5638680"/>
              <a:ext cx="2514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~x;n"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1320" y="588024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Nacham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-228600"/>
          <a:ext cx="7772400" cy="708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-228600"/>
                    <a:ext cx="777240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133720" y="1905120"/>
            <a:ext cx="61722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Lessons from Nahum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concerned with politics and political happen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takes it seriously when anyone hurts His 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God shows compassion, He demands that compassion is shown to othe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52880" y="2285640"/>
            <a:ext cx="2438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ayer &amp; Praise of God’s Proph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609480"/>
            <a:ext cx="3014640" cy="97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bakku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3052800" cy="426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" y="7920"/>
            <a:ext cx="9145440" cy="685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640            630            620            610            600            590            5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86800" y="1066680"/>
            <a:ext cx="0" cy="152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133720"/>
            <a:ext cx="7848720" cy="838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3840" y="1676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ings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0600" y="2362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os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133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447920"/>
            <a:ext cx="1295280" cy="533160"/>
          </a:xfrm>
          <a:prstGeom prst="wedgeRectCallout">
            <a:avLst>
              <a:gd name="adj1" fmla="val -13236"/>
              <a:gd name="adj2" fmla="val 87203"/>
            </a:avLst>
          </a:prstGeom>
          <a:solidFill>
            <a:srgbClr val="66ff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hoah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3600" y="23623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hoia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133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2133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447920"/>
            <a:ext cx="1447560" cy="533160"/>
          </a:xfrm>
          <a:prstGeom prst="wedgeRectCallout">
            <a:avLst>
              <a:gd name="adj1" fmla="val -19624"/>
              <a:gd name="adj2" fmla="val 99106"/>
            </a:avLst>
          </a:prstGeom>
          <a:solidFill>
            <a:srgbClr val="66ff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ehoia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840" y="2362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Zedeki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2971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304812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rusalem &amp; Temple Destro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6095160"/>
            <a:ext cx="1219320" cy="762120"/>
          </a:xfrm>
          <a:prstGeom prst="wedgeRectCallout">
            <a:avLst>
              <a:gd name="adj1" fmla="val -19796"/>
              <a:gd name="adj2" fmla="val 12166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neve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657600"/>
            <a:ext cx="190512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133720"/>
            <a:ext cx="0" cy="838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4267080"/>
            <a:ext cx="58672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erem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5029200"/>
            <a:ext cx="43434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867280"/>
            <a:ext cx="2597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zek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29200"/>
            <a:ext cx="18288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638680"/>
            <a:ext cx="167616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bakk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ais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1143000"/>
            <a:ext cx="35053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0880"/>
            <a:ext cx="35053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4800600"/>
            <a:ext cx="266688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2: God will also judg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ais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86040" y="2666880"/>
            <a:ext cx="3505320" cy="381024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for th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faith i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1143000"/>
            <a:ext cx="35053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0880"/>
            <a:ext cx="35053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00600"/>
            <a:ext cx="266688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2: God will also judg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ession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the significant items of background information about the book of Nahum that bear on the meaning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God’s surprising and troubling method for dealing with Habakkuk's (and Israel’s) problem with the evil in Israel’s society and how that relates to the world in which we l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352680"/>
            <a:ext cx="8305920" cy="3018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oracle which Habakkuk the prophet saw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ow long, O LORD, will I call for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You will not hea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cry out to You, "Violence!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t You do not save. (Habakkuk 1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352680"/>
            <a:ext cx="8305920" cy="2531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do You make me see iniqu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cause me to look on wickedn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, destruction and violence are before me; Strife exists and contention arises. (Habakkuk 1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352680"/>
            <a:ext cx="7239240" cy="2531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 the law is igno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justice is never uphe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the wicked surround the righteous; Therefore justice comes out perverted. (Habakkuk 1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352680"/>
            <a:ext cx="7239240" cy="3018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ook among the nation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serve! Be astonished! Wonder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cause I am doing something in your days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would not believe if you were told. (Habakkuk 1: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8954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4400" y="4422240"/>
            <a:ext cx="5896080" cy="6058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does God use evil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914400" y="4124160"/>
          <a:ext cx="11134800" cy="222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4124160"/>
                    <a:ext cx="111348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without Par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48320" y="5337720"/>
            <a:ext cx="4830120" cy="678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ve Woes Proclaim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without Par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Ultimately Balanced His Books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unusual and/or troubling ways God has worked His will in your own lif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abakkuk 3:3-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992160"/>
            <a:ext cx="79246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mes from Tem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Holy One from Mount Paran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plendor covers the heave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is full of His p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radiance is like the sunl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rays flashing from His h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the hiding of His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fore Him goes pestile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lague comes after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some of the key themes in Jeremiah and Ezeki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abakkuk 3:1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21824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didst go forth for the salvation of Thy peop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lvation of Thine anoi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didst strike the head of the house of the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ay him open from thigh to neck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 Black"/>
              </a:rPr>
              <a:t>Habakkuk 3:1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157760"/>
            <a:ext cx="6781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God is my streng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has made my feet like hinds’ fee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s me walk on my high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hoir director, on my stringed instr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90720" y="304920"/>
            <a:ext cx="4190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209680" cy="2112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600200" y="2362320"/>
            <a:ext cx="5105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895480"/>
            <a:ext cx="6553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pients &amp; their circum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messages or 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reative presentation of the message of thi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80880" y="12189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remiah/Ezeki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5880" y="57913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rlin W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327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id people feel when the Berlin Wall came dow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419360" cy="33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590920" y="3809880"/>
            <a:ext cx="78084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19200" y="436248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26668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SYR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90920" y="3809880"/>
            <a:ext cx="78084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9200" y="4362480"/>
            <a:ext cx="78120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486400" y="26668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SYR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5562720"/>
            <a:ext cx="10857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rot="15801600">
            <a:off x="6134040" y="3161520"/>
            <a:ext cx="762120" cy="685800"/>
          </a:xfrm>
          <a:prstGeom prst="rightArrow">
            <a:avLst>
              <a:gd name="adj1" fmla="val 44444"/>
              <a:gd name="adj2" fmla="val 54869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8520" y="3581280"/>
            <a:ext cx="11430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byl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 rot="10639800">
            <a:off x="6934320" y="2437920"/>
            <a:ext cx="914400" cy="685800"/>
          </a:xfrm>
          <a:prstGeom prst="rightArrow">
            <a:avLst>
              <a:gd name="adj1" fmla="val 45102"/>
              <a:gd name="adj2" fmla="val 62025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75560" y="2895480"/>
            <a:ext cx="129528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s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96080" y="2459160"/>
            <a:ext cx="129564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des &amp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rot="6059400">
            <a:off x="5754600" y="1483200"/>
            <a:ext cx="1824120" cy="685800"/>
          </a:xfrm>
          <a:prstGeom prst="rightArrow">
            <a:avLst>
              <a:gd name="adj1" fmla="val 33630"/>
              <a:gd name="adj2" fmla="val 77135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00800" y="609480"/>
            <a:ext cx="144792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yth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Prophet of Nineveh’s De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2286000"/>
            <a:ext cx="2709720" cy="97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h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ahum and Jon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focus upon Assyria and their capital city of Nineve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ontain prophecies of Nineveh's de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lose their books with a qu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4-18T13:27:12Z</dcterms:modified>
  <cp:revision>289</cp:revision>
  <dc:subject>Prophets of the Old and New Testament</dc:subject>
  <dc:title>Prophetic Voice</dc:title>
</cp:coreProperties>
</file>