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1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jpeg" ContentType="image/jpeg"/>
  <Override PartName="/ppt/media/image17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884A-100B-44FF-A699-F509C3EC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BC1B-10D9-4842-B8BB-4A897102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56B3-61AE-415F-AA16-14D6FC9E6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82DB-9C40-485E-A44A-289170AC1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2CFE-F3F2-4E5D-879D-8E36062F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0CFB-B3FF-40B2-8F6F-3318A1D1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E3EE-A2B5-4FB2-8D78-9116B1DD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AECA-1ED9-4FCC-A360-5286D58F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542C-E965-4BB3-B346-7A6B75B6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F862-5B1B-4B9F-9E51-F46C015E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3FA4-83F1-4D00-A2EC-9E010741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FFC1-3DBB-442C-AC3F-2116FA1E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2CEB-7B78-4965-8D0E-2F5CAD8E60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4814640"/>
            <a:ext cx="64008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ntroduction to Biblical Prophe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61866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09680" y="2209680"/>
            <a:ext cx="465300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ophetic Voic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1142640"/>
            <a:ext cx="7162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The Function of the Old Testament Prophet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123720"/>
            <a:ext cx="70866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functioned as Preach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functioned as Predict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Distinctive Roles of Prophet Versus Priest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5800" y="2895480"/>
          <a:ext cx="7302600" cy="3245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895480"/>
                    <a:ext cx="7302600" cy="32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905120" y="2438280"/>
            <a:ext cx="5100480" cy="1562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ophets and th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venant Dynami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267080" y="3886200"/>
            <a:ext cx="4876920" cy="2311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istorical Boo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320" y="1752120"/>
            <a:ext cx="2743200" cy="6858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2000 - 1500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0" y="2438280"/>
            <a:ext cx="2819520" cy="14479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 of the Patriarc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1752480"/>
            <a:ext cx="3047760" cy="6858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1500 - 1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867280" y="1752480"/>
            <a:ext cx="2819520" cy="6858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1000 - 5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14400" y="609480"/>
            <a:ext cx="7010280" cy="914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ld Testament Histor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"/>
          <p:cNvSpPr/>
          <p:nvPr/>
        </p:nvSpPr>
        <p:spPr>
          <a:xfrm>
            <a:off x="8686800" y="1752480"/>
            <a:ext cx="457200" cy="6858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-17640" y="1752480"/>
            <a:ext cx="79560" cy="6858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2438280"/>
            <a:ext cx="1447560" cy="14479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odus and Sin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2438280"/>
            <a:ext cx="1600200" cy="14479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2438280"/>
            <a:ext cx="2667240" cy="14479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ngs of Israel and Jud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8115120" y="2857320"/>
            <a:ext cx="144792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u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4530600"/>
            <a:ext cx="2590920" cy="581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oetic Boo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886200"/>
            <a:ext cx="4267080" cy="2311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ora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00800" y="5110200"/>
            <a:ext cx="2743200" cy="10688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rophetic Boo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4760" y="1981080"/>
            <a:ext cx="51051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What do these two passages teach us about the ministry of the prophets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90720" y="609480"/>
            <a:ext cx="41907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oup Projec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4800600"/>
            <a:ext cx="33526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2:6-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10080" y="4800600"/>
            <a:ext cx="335304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uteronom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8:15-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629400" y="304920"/>
            <a:ext cx="2209680" cy="2112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057400" y="2362320"/>
            <a:ext cx="5095800" cy="1714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igh &amp; Low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etermin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4678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which came to Jeremiah from the LORD saying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“Arise and go down to the potter’s house, and there I shall announce My words to you.”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n I went down to the potter's house, and there he was, making something on the wheel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22600" y="0"/>
            <a:ext cx="513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eremiah 18:1-3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914400"/>
            <a:ext cx="7467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4678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 vessel that he was making of clay was spoiled in the hand of the potter; so he remade it into another vessel, as it pleased the potter to make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eremiah 18: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914400"/>
            <a:ext cx="7467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4678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the word of the LORD came to me saying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“Can I not, O house of Israel, deal with you as this potter does?” declares the LORD.  “Behold, like the clay in the potter's hand, so are you in My hand, O house of Israel.”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eremiah 18:5-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914400"/>
            <a:ext cx="7467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4678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one moment I might speak concerning a nation or concerning a kingdom to uproot, to pull down, or to destroy it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f that nation against which I have spoken turns from its evil, I will relent concerning the calamity I planned to bring on it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eremiah 18:7-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914400"/>
            <a:ext cx="7467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r. John T. Stevens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95680" y="17226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ily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ademic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246384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4678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at another moment I might speak concerning a nation or concern-ing a kingdom to build up or to plant it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f it does evil in My sight by not obeying My voice, then I will think better of the good with which I had promised to bless it.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eremiah 18:9-1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914400"/>
            <a:ext cx="7467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28954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redic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2286000" cy="22860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I speak concerning a nation to destroy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228600"/>
            <a:ext cx="304776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ontingenc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1143000"/>
            <a:ext cx="2286000" cy="22860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y turn from their ev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228600"/>
            <a:ext cx="304812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Fulfill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1143000"/>
            <a:ext cx="2286000" cy="22860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relent of the calam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1905120"/>
            <a:ext cx="914400" cy="685800"/>
          </a:xfrm>
          <a:prstGeom prst="rightArrow">
            <a:avLst>
              <a:gd name="adj1" fmla="val 53704"/>
              <a:gd name="adj2" fmla="val 8124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15000" y="1905120"/>
            <a:ext cx="914400" cy="685800"/>
          </a:xfrm>
          <a:prstGeom prst="rightArrow">
            <a:avLst>
              <a:gd name="adj1" fmla="val 53704"/>
              <a:gd name="adj2" fmla="val 8124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3962520"/>
            <a:ext cx="2286000" cy="22860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I speak concerning a nation to plan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3962520"/>
            <a:ext cx="2286000" cy="22860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y do evil and do not ob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3962520"/>
            <a:ext cx="2286000" cy="22860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think better of the g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4724280"/>
            <a:ext cx="914400" cy="685800"/>
          </a:xfrm>
          <a:prstGeom prst="rightArrow">
            <a:avLst>
              <a:gd name="adj1" fmla="val 53704"/>
              <a:gd name="adj2" fmla="val 8124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4724280"/>
            <a:ext cx="914400" cy="685800"/>
          </a:xfrm>
          <a:prstGeom prst="rightArrow">
            <a:avLst>
              <a:gd name="adj1" fmla="val 53704"/>
              <a:gd name="adj2" fmla="val 8124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914040" y="2819520"/>
            <a:ext cx="789156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ditional Predictions:  “If… then” clau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qualified Predic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firmed Predic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worn Predic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057400" y="457200"/>
            <a:ext cx="5095800" cy="1714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igh &amp; Low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etermin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066680" y="2743200"/>
            <a:ext cx="697716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World of the Prophet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80880" y="762120"/>
            <a:ext cx="8382240" cy="51814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505320" y="2666880"/>
            <a:ext cx="2361960" cy="144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33520" y="1104840"/>
            <a:ext cx="8153280" cy="5676840"/>
          </a:xfrm>
          <a:custGeom>
            <a:avLst/>
            <a:gdLst/>
            <a:ahLst/>
            <a:rect l="l" t="t" r="r" b="b"/>
            <a:pathLst>
              <a:path w="5136" h="3576">
                <a:moveTo>
                  <a:pt x="768" y="3576"/>
                </a:moveTo>
                <a:lnTo>
                  <a:pt x="720" y="3480"/>
                </a:lnTo>
                <a:cubicBezTo>
                  <a:pt x="720" y="3440"/>
                  <a:pt x="776" y="3360"/>
                  <a:pt x="768" y="3336"/>
                </a:cubicBezTo>
                <a:cubicBezTo>
                  <a:pt x="760" y="3312"/>
                  <a:pt x="704" y="3336"/>
                  <a:pt x="672" y="3336"/>
                </a:cubicBezTo>
                <a:lnTo>
                  <a:pt x="576" y="3336"/>
                </a:lnTo>
                <a:lnTo>
                  <a:pt x="528" y="3240"/>
                </a:lnTo>
                <a:lnTo>
                  <a:pt x="432" y="3144"/>
                </a:lnTo>
                <a:lnTo>
                  <a:pt x="336" y="3048"/>
                </a:lnTo>
                <a:lnTo>
                  <a:pt x="288" y="2904"/>
                </a:lnTo>
                <a:lnTo>
                  <a:pt x="240" y="2808"/>
                </a:lnTo>
                <a:lnTo>
                  <a:pt x="288" y="2712"/>
                </a:lnTo>
                <a:lnTo>
                  <a:pt x="288" y="2616"/>
                </a:lnTo>
                <a:lnTo>
                  <a:pt x="384" y="2520"/>
                </a:lnTo>
                <a:cubicBezTo>
                  <a:pt x="384" y="2520"/>
                  <a:pt x="368" y="2336"/>
                  <a:pt x="384" y="2280"/>
                </a:cubicBezTo>
                <a:cubicBezTo>
                  <a:pt x="400" y="2224"/>
                  <a:pt x="440" y="2208"/>
                  <a:pt x="480" y="2184"/>
                </a:cubicBezTo>
                <a:cubicBezTo>
                  <a:pt x="520" y="2160"/>
                  <a:pt x="576" y="2152"/>
                  <a:pt x="624" y="2136"/>
                </a:cubicBezTo>
                <a:cubicBezTo>
                  <a:pt x="624" y="2136"/>
                  <a:pt x="768" y="2088"/>
                  <a:pt x="768" y="2088"/>
                </a:cubicBezTo>
                <a:cubicBezTo>
                  <a:pt x="768" y="2088"/>
                  <a:pt x="852" y="2084"/>
                  <a:pt x="916" y="2084"/>
                </a:cubicBezTo>
                <a:cubicBezTo>
                  <a:pt x="980" y="2084"/>
                  <a:pt x="1089" y="2103"/>
                  <a:pt x="1152" y="2088"/>
                </a:cubicBezTo>
                <a:cubicBezTo>
                  <a:pt x="1216" y="2080"/>
                  <a:pt x="1248" y="2016"/>
                  <a:pt x="1296" y="1992"/>
                </a:cubicBezTo>
                <a:cubicBezTo>
                  <a:pt x="1344" y="1968"/>
                  <a:pt x="1408" y="1968"/>
                  <a:pt x="1440" y="1944"/>
                </a:cubicBezTo>
                <a:lnTo>
                  <a:pt x="1488" y="1848"/>
                </a:lnTo>
                <a:cubicBezTo>
                  <a:pt x="1488" y="1848"/>
                  <a:pt x="1622" y="1762"/>
                  <a:pt x="1632" y="1704"/>
                </a:cubicBezTo>
                <a:cubicBezTo>
                  <a:pt x="1642" y="1646"/>
                  <a:pt x="1584" y="1512"/>
                  <a:pt x="1584" y="1512"/>
                </a:cubicBezTo>
                <a:cubicBezTo>
                  <a:pt x="1584" y="1512"/>
                  <a:pt x="1640" y="1440"/>
                  <a:pt x="1680" y="1416"/>
                </a:cubicBezTo>
                <a:cubicBezTo>
                  <a:pt x="1720" y="1392"/>
                  <a:pt x="1769" y="1398"/>
                  <a:pt x="1793" y="1358"/>
                </a:cubicBezTo>
                <a:cubicBezTo>
                  <a:pt x="1817" y="1318"/>
                  <a:pt x="1808" y="1240"/>
                  <a:pt x="1824" y="1176"/>
                </a:cubicBezTo>
                <a:cubicBezTo>
                  <a:pt x="1840" y="1112"/>
                  <a:pt x="1856" y="1040"/>
                  <a:pt x="1920" y="984"/>
                </a:cubicBezTo>
                <a:cubicBezTo>
                  <a:pt x="1920" y="984"/>
                  <a:pt x="2112" y="864"/>
                  <a:pt x="2208" y="840"/>
                </a:cubicBezTo>
                <a:cubicBezTo>
                  <a:pt x="2304" y="816"/>
                  <a:pt x="2400" y="808"/>
                  <a:pt x="2496" y="840"/>
                </a:cubicBezTo>
                <a:cubicBezTo>
                  <a:pt x="2592" y="872"/>
                  <a:pt x="2712" y="984"/>
                  <a:pt x="2784" y="1032"/>
                </a:cubicBezTo>
                <a:lnTo>
                  <a:pt x="2928" y="1128"/>
                </a:lnTo>
                <a:lnTo>
                  <a:pt x="3024" y="1176"/>
                </a:lnTo>
                <a:cubicBezTo>
                  <a:pt x="3080" y="1192"/>
                  <a:pt x="3192" y="1184"/>
                  <a:pt x="3264" y="1224"/>
                </a:cubicBezTo>
                <a:cubicBezTo>
                  <a:pt x="3336" y="1264"/>
                  <a:pt x="3400" y="1352"/>
                  <a:pt x="3456" y="1416"/>
                </a:cubicBezTo>
                <a:lnTo>
                  <a:pt x="3600" y="1608"/>
                </a:lnTo>
                <a:lnTo>
                  <a:pt x="3792" y="1800"/>
                </a:lnTo>
                <a:lnTo>
                  <a:pt x="3984" y="1944"/>
                </a:lnTo>
                <a:lnTo>
                  <a:pt x="4320" y="2088"/>
                </a:lnTo>
                <a:lnTo>
                  <a:pt x="4608" y="2184"/>
                </a:lnTo>
                <a:lnTo>
                  <a:pt x="4752" y="2280"/>
                </a:lnTo>
                <a:lnTo>
                  <a:pt x="4896" y="2328"/>
                </a:lnTo>
                <a:lnTo>
                  <a:pt x="4992" y="2280"/>
                </a:lnTo>
                <a:lnTo>
                  <a:pt x="5136" y="2280"/>
                </a:lnTo>
                <a:lnTo>
                  <a:pt x="5136" y="2184"/>
                </a:lnTo>
                <a:lnTo>
                  <a:pt x="5040" y="2088"/>
                </a:lnTo>
                <a:lnTo>
                  <a:pt x="4944" y="1848"/>
                </a:lnTo>
                <a:lnTo>
                  <a:pt x="4704" y="1608"/>
                </a:lnTo>
                <a:lnTo>
                  <a:pt x="4464" y="1512"/>
                </a:lnTo>
                <a:lnTo>
                  <a:pt x="4272" y="1272"/>
                </a:lnTo>
                <a:lnTo>
                  <a:pt x="4032" y="1032"/>
                </a:lnTo>
                <a:lnTo>
                  <a:pt x="3840" y="744"/>
                </a:lnTo>
                <a:cubicBezTo>
                  <a:pt x="3776" y="656"/>
                  <a:pt x="3736" y="592"/>
                  <a:pt x="3648" y="504"/>
                </a:cubicBezTo>
                <a:cubicBezTo>
                  <a:pt x="3560" y="416"/>
                  <a:pt x="3448" y="296"/>
                  <a:pt x="3312" y="216"/>
                </a:cubicBezTo>
                <a:lnTo>
                  <a:pt x="2832" y="24"/>
                </a:lnTo>
                <a:cubicBezTo>
                  <a:pt x="2664" y="0"/>
                  <a:pt x="2446" y="33"/>
                  <a:pt x="2304" y="72"/>
                </a:cubicBezTo>
                <a:cubicBezTo>
                  <a:pt x="2176" y="112"/>
                  <a:pt x="2077" y="180"/>
                  <a:pt x="1981" y="256"/>
                </a:cubicBezTo>
                <a:cubicBezTo>
                  <a:pt x="1885" y="332"/>
                  <a:pt x="1784" y="439"/>
                  <a:pt x="1730" y="531"/>
                </a:cubicBezTo>
                <a:cubicBezTo>
                  <a:pt x="1676" y="623"/>
                  <a:pt x="1671" y="740"/>
                  <a:pt x="1655" y="807"/>
                </a:cubicBezTo>
                <a:lnTo>
                  <a:pt x="1632" y="936"/>
                </a:lnTo>
                <a:lnTo>
                  <a:pt x="1632" y="1080"/>
                </a:lnTo>
                <a:lnTo>
                  <a:pt x="1536" y="1128"/>
                </a:lnTo>
                <a:lnTo>
                  <a:pt x="1488" y="1224"/>
                </a:lnTo>
                <a:lnTo>
                  <a:pt x="1440" y="1368"/>
                </a:lnTo>
                <a:lnTo>
                  <a:pt x="1344" y="1464"/>
                </a:lnTo>
                <a:lnTo>
                  <a:pt x="1344" y="1560"/>
                </a:lnTo>
                <a:lnTo>
                  <a:pt x="1296" y="1752"/>
                </a:lnTo>
                <a:cubicBezTo>
                  <a:pt x="1280" y="1800"/>
                  <a:pt x="1272" y="1816"/>
                  <a:pt x="1248" y="1848"/>
                </a:cubicBezTo>
                <a:cubicBezTo>
                  <a:pt x="1224" y="1880"/>
                  <a:pt x="1192" y="1920"/>
                  <a:pt x="1152" y="1944"/>
                </a:cubicBezTo>
                <a:lnTo>
                  <a:pt x="1008" y="1992"/>
                </a:lnTo>
                <a:lnTo>
                  <a:pt x="864" y="1992"/>
                </a:lnTo>
                <a:lnTo>
                  <a:pt x="672" y="1992"/>
                </a:lnTo>
                <a:lnTo>
                  <a:pt x="576" y="1944"/>
                </a:lnTo>
                <a:lnTo>
                  <a:pt x="480" y="1896"/>
                </a:lnTo>
                <a:lnTo>
                  <a:pt x="336" y="1896"/>
                </a:lnTo>
                <a:lnTo>
                  <a:pt x="240" y="1896"/>
                </a:lnTo>
                <a:lnTo>
                  <a:pt x="96" y="1896"/>
                </a:lnTo>
                <a:lnTo>
                  <a:pt x="0" y="1992"/>
                </a:lnTo>
                <a:lnTo>
                  <a:pt x="96" y="2136"/>
                </a:lnTo>
                <a:lnTo>
                  <a:pt x="144" y="2232"/>
                </a:lnTo>
                <a:cubicBezTo>
                  <a:pt x="144" y="2232"/>
                  <a:pt x="164" y="2305"/>
                  <a:pt x="165" y="2334"/>
                </a:cubicBezTo>
                <a:cubicBezTo>
                  <a:pt x="157" y="2366"/>
                  <a:pt x="148" y="2378"/>
                  <a:pt x="152" y="2409"/>
                </a:cubicBezTo>
                <a:cubicBezTo>
                  <a:pt x="156" y="2440"/>
                  <a:pt x="176" y="2464"/>
                  <a:pt x="192" y="2520"/>
                </a:cubicBezTo>
                <a:cubicBezTo>
                  <a:pt x="199" y="2578"/>
                  <a:pt x="192" y="2696"/>
                  <a:pt x="192" y="2760"/>
                </a:cubicBezTo>
                <a:cubicBezTo>
                  <a:pt x="192" y="2824"/>
                  <a:pt x="192" y="2848"/>
                  <a:pt x="192" y="2904"/>
                </a:cubicBezTo>
                <a:cubicBezTo>
                  <a:pt x="198" y="2958"/>
                  <a:pt x="203" y="3038"/>
                  <a:pt x="227" y="3086"/>
                </a:cubicBezTo>
                <a:cubicBezTo>
                  <a:pt x="251" y="3134"/>
                  <a:pt x="296" y="3160"/>
                  <a:pt x="336" y="3192"/>
                </a:cubicBezTo>
                <a:lnTo>
                  <a:pt x="432" y="3288"/>
                </a:lnTo>
                <a:lnTo>
                  <a:pt x="528" y="3432"/>
                </a:lnTo>
                <a:lnTo>
                  <a:pt x="672" y="3384"/>
                </a:lnTo>
                <a:lnTo>
                  <a:pt x="672" y="3480"/>
                </a:lnTo>
                <a:lnTo>
                  <a:pt x="768" y="3576"/>
                </a:lnTo>
                <a:close/>
              </a:path>
            </a:pathLst>
          </a:custGeom>
          <a:solidFill>
            <a:srgbClr val="003366">
              <a:alpha val="33000"/>
            </a:srgbClr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200400" y="3048120"/>
            <a:ext cx="362412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ertile Cresc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33520" y="1104840"/>
            <a:ext cx="8153280" cy="5676840"/>
          </a:xfrm>
          <a:custGeom>
            <a:avLst/>
            <a:gdLst/>
            <a:ahLst/>
            <a:rect l="l" t="t" r="r" b="b"/>
            <a:pathLst>
              <a:path w="5136" h="3576">
                <a:moveTo>
                  <a:pt x="768" y="3576"/>
                </a:moveTo>
                <a:lnTo>
                  <a:pt x="720" y="3480"/>
                </a:lnTo>
                <a:cubicBezTo>
                  <a:pt x="720" y="3440"/>
                  <a:pt x="776" y="3360"/>
                  <a:pt x="768" y="3336"/>
                </a:cubicBezTo>
                <a:cubicBezTo>
                  <a:pt x="760" y="3312"/>
                  <a:pt x="704" y="3336"/>
                  <a:pt x="672" y="3336"/>
                </a:cubicBezTo>
                <a:lnTo>
                  <a:pt x="576" y="3336"/>
                </a:lnTo>
                <a:lnTo>
                  <a:pt x="528" y="3240"/>
                </a:lnTo>
                <a:lnTo>
                  <a:pt x="432" y="3144"/>
                </a:lnTo>
                <a:lnTo>
                  <a:pt x="336" y="3048"/>
                </a:lnTo>
                <a:lnTo>
                  <a:pt x="288" y="2904"/>
                </a:lnTo>
                <a:lnTo>
                  <a:pt x="240" y="2808"/>
                </a:lnTo>
                <a:lnTo>
                  <a:pt x="288" y="2712"/>
                </a:lnTo>
                <a:lnTo>
                  <a:pt x="288" y="2616"/>
                </a:lnTo>
                <a:lnTo>
                  <a:pt x="384" y="2520"/>
                </a:lnTo>
                <a:cubicBezTo>
                  <a:pt x="384" y="2520"/>
                  <a:pt x="368" y="2336"/>
                  <a:pt x="384" y="2280"/>
                </a:cubicBezTo>
                <a:cubicBezTo>
                  <a:pt x="400" y="2224"/>
                  <a:pt x="440" y="2208"/>
                  <a:pt x="480" y="2184"/>
                </a:cubicBezTo>
                <a:cubicBezTo>
                  <a:pt x="520" y="2160"/>
                  <a:pt x="576" y="2152"/>
                  <a:pt x="624" y="2136"/>
                </a:cubicBezTo>
                <a:cubicBezTo>
                  <a:pt x="624" y="2136"/>
                  <a:pt x="768" y="2088"/>
                  <a:pt x="768" y="2088"/>
                </a:cubicBezTo>
                <a:cubicBezTo>
                  <a:pt x="768" y="2088"/>
                  <a:pt x="852" y="2084"/>
                  <a:pt x="916" y="2084"/>
                </a:cubicBezTo>
                <a:cubicBezTo>
                  <a:pt x="980" y="2084"/>
                  <a:pt x="1089" y="2103"/>
                  <a:pt x="1152" y="2088"/>
                </a:cubicBezTo>
                <a:cubicBezTo>
                  <a:pt x="1216" y="2080"/>
                  <a:pt x="1248" y="2016"/>
                  <a:pt x="1296" y="1992"/>
                </a:cubicBezTo>
                <a:cubicBezTo>
                  <a:pt x="1344" y="1968"/>
                  <a:pt x="1408" y="1968"/>
                  <a:pt x="1440" y="1944"/>
                </a:cubicBezTo>
                <a:lnTo>
                  <a:pt x="1488" y="1848"/>
                </a:lnTo>
                <a:cubicBezTo>
                  <a:pt x="1488" y="1848"/>
                  <a:pt x="1622" y="1762"/>
                  <a:pt x="1632" y="1704"/>
                </a:cubicBezTo>
                <a:cubicBezTo>
                  <a:pt x="1642" y="1646"/>
                  <a:pt x="1584" y="1512"/>
                  <a:pt x="1584" y="1512"/>
                </a:cubicBezTo>
                <a:cubicBezTo>
                  <a:pt x="1584" y="1512"/>
                  <a:pt x="1640" y="1440"/>
                  <a:pt x="1680" y="1416"/>
                </a:cubicBezTo>
                <a:cubicBezTo>
                  <a:pt x="1720" y="1392"/>
                  <a:pt x="1769" y="1398"/>
                  <a:pt x="1793" y="1358"/>
                </a:cubicBezTo>
                <a:cubicBezTo>
                  <a:pt x="1817" y="1318"/>
                  <a:pt x="1808" y="1240"/>
                  <a:pt x="1824" y="1176"/>
                </a:cubicBezTo>
                <a:cubicBezTo>
                  <a:pt x="1840" y="1112"/>
                  <a:pt x="1856" y="1040"/>
                  <a:pt x="1920" y="984"/>
                </a:cubicBezTo>
                <a:cubicBezTo>
                  <a:pt x="1920" y="984"/>
                  <a:pt x="2112" y="864"/>
                  <a:pt x="2208" y="840"/>
                </a:cubicBezTo>
                <a:cubicBezTo>
                  <a:pt x="2304" y="816"/>
                  <a:pt x="2400" y="808"/>
                  <a:pt x="2496" y="840"/>
                </a:cubicBezTo>
                <a:cubicBezTo>
                  <a:pt x="2592" y="872"/>
                  <a:pt x="2712" y="984"/>
                  <a:pt x="2784" y="1032"/>
                </a:cubicBezTo>
                <a:lnTo>
                  <a:pt x="2928" y="1128"/>
                </a:lnTo>
                <a:lnTo>
                  <a:pt x="3024" y="1176"/>
                </a:lnTo>
                <a:cubicBezTo>
                  <a:pt x="3080" y="1192"/>
                  <a:pt x="3192" y="1184"/>
                  <a:pt x="3264" y="1224"/>
                </a:cubicBezTo>
                <a:cubicBezTo>
                  <a:pt x="3336" y="1264"/>
                  <a:pt x="3400" y="1352"/>
                  <a:pt x="3456" y="1416"/>
                </a:cubicBezTo>
                <a:lnTo>
                  <a:pt x="3600" y="1608"/>
                </a:lnTo>
                <a:lnTo>
                  <a:pt x="3792" y="1800"/>
                </a:lnTo>
                <a:lnTo>
                  <a:pt x="3984" y="1944"/>
                </a:lnTo>
                <a:lnTo>
                  <a:pt x="4320" y="2088"/>
                </a:lnTo>
                <a:lnTo>
                  <a:pt x="4608" y="2184"/>
                </a:lnTo>
                <a:lnTo>
                  <a:pt x="4752" y="2280"/>
                </a:lnTo>
                <a:lnTo>
                  <a:pt x="4896" y="2328"/>
                </a:lnTo>
                <a:lnTo>
                  <a:pt x="4992" y="2280"/>
                </a:lnTo>
                <a:lnTo>
                  <a:pt x="5136" y="2280"/>
                </a:lnTo>
                <a:lnTo>
                  <a:pt x="5136" y="2184"/>
                </a:lnTo>
                <a:lnTo>
                  <a:pt x="5040" y="2088"/>
                </a:lnTo>
                <a:lnTo>
                  <a:pt x="4944" y="1848"/>
                </a:lnTo>
                <a:lnTo>
                  <a:pt x="4704" y="1608"/>
                </a:lnTo>
                <a:lnTo>
                  <a:pt x="4464" y="1512"/>
                </a:lnTo>
                <a:lnTo>
                  <a:pt x="4272" y="1272"/>
                </a:lnTo>
                <a:lnTo>
                  <a:pt x="4032" y="1032"/>
                </a:lnTo>
                <a:lnTo>
                  <a:pt x="3840" y="744"/>
                </a:lnTo>
                <a:cubicBezTo>
                  <a:pt x="3776" y="656"/>
                  <a:pt x="3736" y="592"/>
                  <a:pt x="3648" y="504"/>
                </a:cubicBezTo>
                <a:cubicBezTo>
                  <a:pt x="3560" y="416"/>
                  <a:pt x="3448" y="296"/>
                  <a:pt x="3312" y="216"/>
                </a:cubicBezTo>
                <a:lnTo>
                  <a:pt x="2832" y="24"/>
                </a:lnTo>
                <a:cubicBezTo>
                  <a:pt x="2664" y="0"/>
                  <a:pt x="2446" y="33"/>
                  <a:pt x="2304" y="72"/>
                </a:cubicBezTo>
                <a:cubicBezTo>
                  <a:pt x="2176" y="112"/>
                  <a:pt x="2077" y="180"/>
                  <a:pt x="1981" y="256"/>
                </a:cubicBezTo>
                <a:cubicBezTo>
                  <a:pt x="1885" y="332"/>
                  <a:pt x="1784" y="439"/>
                  <a:pt x="1730" y="531"/>
                </a:cubicBezTo>
                <a:cubicBezTo>
                  <a:pt x="1676" y="623"/>
                  <a:pt x="1671" y="740"/>
                  <a:pt x="1655" y="807"/>
                </a:cubicBezTo>
                <a:lnTo>
                  <a:pt x="1632" y="936"/>
                </a:lnTo>
                <a:lnTo>
                  <a:pt x="1632" y="1080"/>
                </a:lnTo>
                <a:lnTo>
                  <a:pt x="1536" y="1128"/>
                </a:lnTo>
                <a:lnTo>
                  <a:pt x="1488" y="1224"/>
                </a:lnTo>
                <a:lnTo>
                  <a:pt x="1440" y="1368"/>
                </a:lnTo>
                <a:lnTo>
                  <a:pt x="1344" y="1464"/>
                </a:lnTo>
                <a:lnTo>
                  <a:pt x="1344" y="1560"/>
                </a:lnTo>
                <a:lnTo>
                  <a:pt x="1296" y="1752"/>
                </a:lnTo>
                <a:cubicBezTo>
                  <a:pt x="1280" y="1800"/>
                  <a:pt x="1272" y="1816"/>
                  <a:pt x="1248" y="1848"/>
                </a:cubicBezTo>
                <a:cubicBezTo>
                  <a:pt x="1224" y="1880"/>
                  <a:pt x="1192" y="1920"/>
                  <a:pt x="1152" y="1944"/>
                </a:cubicBezTo>
                <a:lnTo>
                  <a:pt x="1008" y="1992"/>
                </a:lnTo>
                <a:lnTo>
                  <a:pt x="864" y="1992"/>
                </a:lnTo>
                <a:lnTo>
                  <a:pt x="672" y="1992"/>
                </a:lnTo>
                <a:lnTo>
                  <a:pt x="576" y="1944"/>
                </a:lnTo>
                <a:lnTo>
                  <a:pt x="480" y="1896"/>
                </a:lnTo>
                <a:lnTo>
                  <a:pt x="336" y="1896"/>
                </a:lnTo>
                <a:lnTo>
                  <a:pt x="240" y="1896"/>
                </a:lnTo>
                <a:lnTo>
                  <a:pt x="96" y="1896"/>
                </a:lnTo>
                <a:lnTo>
                  <a:pt x="0" y="1992"/>
                </a:lnTo>
                <a:lnTo>
                  <a:pt x="96" y="2136"/>
                </a:lnTo>
                <a:lnTo>
                  <a:pt x="144" y="2232"/>
                </a:lnTo>
                <a:cubicBezTo>
                  <a:pt x="144" y="2232"/>
                  <a:pt x="164" y="2305"/>
                  <a:pt x="165" y="2334"/>
                </a:cubicBezTo>
                <a:cubicBezTo>
                  <a:pt x="157" y="2366"/>
                  <a:pt x="148" y="2378"/>
                  <a:pt x="152" y="2409"/>
                </a:cubicBezTo>
                <a:cubicBezTo>
                  <a:pt x="156" y="2440"/>
                  <a:pt x="176" y="2464"/>
                  <a:pt x="192" y="2520"/>
                </a:cubicBezTo>
                <a:cubicBezTo>
                  <a:pt x="199" y="2578"/>
                  <a:pt x="192" y="2696"/>
                  <a:pt x="192" y="2760"/>
                </a:cubicBezTo>
                <a:cubicBezTo>
                  <a:pt x="192" y="2824"/>
                  <a:pt x="192" y="2848"/>
                  <a:pt x="192" y="2904"/>
                </a:cubicBezTo>
                <a:cubicBezTo>
                  <a:pt x="198" y="2958"/>
                  <a:pt x="203" y="3038"/>
                  <a:pt x="227" y="3086"/>
                </a:cubicBezTo>
                <a:cubicBezTo>
                  <a:pt x="251" y="3134"/>
                  <a:pt x="296" y="3160"/>
                  <a:pt x="336" y="3192"/>
                </a:cubicBezTo>
                <a:lnTo>
                  <a:pt x="432" y="3288"/>
                </a:lnTo>
                <a:lnTo>
                  <a:pt x="528" y="3432"/>
                </a:lnTo>
                <a:lnTo>
                  <a:pt x="672" y="3384"/>
                </a:lnTo>
                <a:lnTo>
                  <a:pt x="672" y="3480"/>
                </a:lnTo>
                <a:lnTo>
                  <a:pt x="768" y="3576"/>
                </a:lnTo>
                <a:close/>
              </a:path>
            </a:pathLst>
          </a:custGeom>
          <a:solidFill>
            <a:srgbClr val="003366">
              <a:alpha val="33000"/>
            </a:srgbClr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0" y="2590920"/>
            <a:ext cx="362412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esopotami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2280" y="4876920"/>
            <a:ext cx="167652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gyp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208480" y="266688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esopotam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3280" y="5257800"/>
            <a:ext cx="12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11720" y="5047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at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1308240"/>
            <a:ext cx="3682800" cy="3682800"/>
          </a:xfrm>
          <a:custGeom>
            <a:avLst/>
            <a:gdLst/>
            <a:ahLst/>
            <a:rect l="l" t="t" r="r" b="b"/>
            <a:pathLst>
              <a:path w="2320" h="2320">
                <a:moveTo>
                  <a:pt x="0" y="1912"/>
                </a:moveTo>
                <a:cubicBezTo>
                  <a:pt x="44" y="1876"/>
                  <a:pt x="299" y="1916"/>
                  <a:pt x="406" y="1890"/>
                </a:cubicBezTo>
                <a:cubicBezTo>
                  <a:pt x="513" y="1864"/>
                  <a:pt x="580" y="1829"/>
                  <a:pt x="640" y="1753"/>
                </a:cubicBezTo>
                <a:cubicBezTo>
                  <a:pt x="700" y="1677"/>
                  <a:pt x="691" y="1589"/>
                  <a:pt x="768" y="1432"/>
                </a:cubicBezTo>
                <a:cubicBezTo>
                  <a:pt x="845" y="1275"/>
                  <a:pt x="1040" y="976"/>
                  <a:pt x="1104" y="808"/>
                </a:cubicBezTo>
                <a:cubicBezTo>
                  <a:pt x="1168" y="640"/>
                  <a:pt x="1160" y="544"/>
                  <a:pt x="1152" y="424"/>
                </a:cubicBezTo>
                <a:cubicBezTo>
                  <a:pt x="1144" y="304"/>
                  <a:pt x="1024" y="144"/>
                  <a:pt x="1056" y="88"/>
                </a:cubicBezTo>
                <a:cubicBezTo>
                  <a:pt x="1088" y="32"/>
                  <a:pt x="1256" y="96"/>
                  <a:pt x="1344" y="88"/>
                </a:cubicBezTo>
                <a:cubicBezTo>
                  <a:pt x="1432" y="80"/>
                  <a:pt x="1560" y="0"/>
                  <a:pt x="1584" y="40"/>
                </a:cubicBezTo>
                <a:lnTo>
                  <a:pt x="1488" y="328"/>
                </a:lnTo>
                <a:lnTo>
                  <a:pt x="1344" y="616"/>
                </a:lnTo>
                <a:lnTo>
                  <a:pt x="1248" y="808"/>
                </a:lnTo>
                <a:cubicBezTo>
                  <a:pt x="1272" y="808"/>
                  <a:pt x="1408" y="664"/>
                  <a:pt x="1488" y="616"/>
                </a:cubicBezTo>
                <a:cubicBezTo>
                  <a:pt x="1568" y="568"/>
                  <a:pt x="1640" y="544"/>
                  <a:pt x="1728" y="520"/>
                </a:cubicBezTo>
                <a:cubicBezTo>
                  <a:pt x="1816" y="496"/>
                  <a:pt x="1952" y="432"/>
                  <a:pt x="2016" y="472"/>
                </a:cubicBezTo>
                <a:cubicBezTo>
                  <a:pt x="2080" y="512"/>
                  <a:pt x="2072" y="680"/>
                  <a:pt x="2112" y="760"/>
                </a:cubicBezTo>
                <a:cubicBezTo>
                  <a:pt x="2152" y="840"/>
                  <a:pt x="2320" y="920"/>
                  <a:pt x="2256" y="952"/>
                </a:cubicBezTo>
                <a:cubicBezTo>
                  <a:pt x="2192" y="984"/>
                  <a:pt x="1872" y="936"/>
                  <a:pt x="1728" y="952"/>
                </a:cubicBezTo>
                <a:cubicBezTo>
                  <a:pt x="1584" y="968"/>
                  <a:pt x="1504" y="992"/>
                  <a:pt x="1392" y="1048"/>
                </a:cubicBezTo>
                <a:cubicBezTo>
                  <a:pt x="1280" y="1104"/>
                  <a:pt x="1136" y="1192"/>
                  <a:pt x="1056" y="1288"/>
                </a:cubicBezTo>
                <a:cubicBezTo>
                  <a:pt x="976" y="1384"/>
                  <a:pt x="968" y="1504"/>
                  <a:pt x="912" y="1624"/>
                </a:cubicBezTo>
                <a:cubicBezTo>
                  <a:pt x="856" y="1744"/>
                  <a:pt x="800" y="1904"/>
                  <a:pt x="720" y="2008"/>
                </a:cubicBezTo>
                <a:cubicBezTo>
                  <a:pt x="640" y="2112"/>
                  <a:pt x="528" y="2200"/>
                  <a:pt x="432" y="2248"/>
                </a:cubicBezTo>
                <a:cubicBezTo>
                  <a:pt x="336" y="2296"/>
                  <a:pt x="192" y="2320"/>
                  <a:pt x="144" y="2296"/>
                </a:cubicBezTo>
                <a:cubicBezTo>
                  <a:pt x="96" y="2272"/>
                  <a:pt x="168" y="2168"/>
                  <a:pt x="144" y="2104"/>
                </a:cubicBezTo>
                <a:cubicBezTo>
                  <a:pt x="120" y="2040"/>
                  <a:pt x="30" y="1952"/>
                  <a:pt x="0" y="1912"/>
                </a:cubicBezTo>
                <a:close/>
              </a:path>
            </a:pathLst>
          </a:custGeom>
          <a:solidFill>
            <a:srgbClr val="003300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74480" y="2971800"/>
            <a:ext cx="144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ri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41840" y="4038480"/>
            <a:ext cx="163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3124080"/>
            <a:ext cx="3504960" cy="19814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dependent Trib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3124080"/>
            <a:ext cx="3505320" cy="19814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 Unified Kingd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38480" y="3733920"/>
            <a:ext cx="1371600" cy="838080"/>
          </a:xfrm>
          <a:prstGeom prst="rightArrow">
            <a:avLst>
              <a:gd name="adj1" fmla="val 43935"/>
              <a:gd name="adj2" fmla="val 84481"/>
            </a:avLst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86200" y="533520"/>
            <a:ext cx="1295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au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09880" y="1295280"/>
            <a:ext cx="152424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avi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581280" y="2057400"/>
            <a:ext cx="213372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lom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96280" cy="72057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178080" y="3438360"/>
            <a:ext cx="696960" cy="1217880"/>
          </a:xfrm>
          <a:custGeom>
            <a:avLst/>
            <a:gdLst/>
            <a:ahLst/>
            <a:rect l="l" t="t" r="r" b="b"/>
            <a:pathLst>
              <a:path w="439" h="767">
                <a:moveTo>
                  <a:pt x="98" y="723"/>
                </a:moveTo>
                <a:cubicBezTo>
                  <a:pt x="65" y="645"/>
                  <a:pt x="27" y="767"/>
                  <a:pt x="9" y="712"/>
                </a:cubicBezTo>
                <a:cubicBezTo>
                  <a:pt x="35" y="557"/>
                  <a:pt x="0" y="708"/>
                  <a:pt x="43" y="612"/>
                </a:cubicBezTo>
                <a:cubicBezTo>
                  <a:pt x="53" y="591"/>
                  <a:pt x="65" y="545"/>
                  <a:pt x="65" y="545"/>
                </a:cubicBezTo>
                <a:cubicBezTo>
                  <a:pt x="55" y="433"/>
                  <a:pt x="45" y="322"/>
                  <a:pt x="76" y="212"/>
                </a:cubicBezTo>
                <a:cubicBezTo>
                  <a:pt x="92" y="156"/>
                  <a:pt x="86" y="180"/>
                  <a:pt x="143" y="123"/>
                </a:cubicBezTo>
                <a:cubicBezTo>
                  <a:pt x="151" y="115"/>
                  <a:pt x="165" y="100"/>
                  <a:pt x="165" y="100"/>
                </a:cubicBezTo>
                <a:cubicBezTo>
                  <a:pt x="165" y="100"/>
                  <a:pt x="182" y="28"/>
                  <a:pt x="187" y="23"/>
                </a:cubicBezTo>
                <a:cubicBezTo>
                  <a:pt x="204" y="6"/>
                  <a:pt x="232" y="8"/>
                  <a:pt x="254" y="0"/>
                </a:cubicBezTo>
                <a:cubicBezTo>
                  <a:pt x="298" y="46"/>
                  <a:pt x="286" y="66"/>
                  <a:pt x="276" y="134"/>
                </a:cubicBezTo>
                <a:cubicBezTo>
                  <a:pt x="286" y="208"/>
                  <a:pt x="284" y="233"/>
                  <a:pt x="354" y="256"/>
                </a:cubicBezTo>
                <a:cubicBezTo>
                  <a:pt x="431" y="335"/>
                  <a:pt x="439" y="314"/>
                  <a:pt x="398" y="467"/>
                </a:cubicBezTo>
                <a:cubicBezTo>
                  <a:pt x="395" y="478"/>
                  <a:pt x="376" y="474"/>
                  <a:pt x="365" y="478"/>
                </a:cubicBezTo>
                <a:cubicBezTo>
                  <a:pt x="331" y="467"/>
                  <a:pt x="315" y="455"/>
                  <a:pt x="276" y="478"/>
                </a:cubicBezTo>
                <a:cubicBezTo>
                  <a:pt x="264" y="485"/>
                  <a:pt x="259" y="500"/>
                  <a:pt x="254" y="512"/>
                </a:cubicBezTo>
                <a:cubicBezTo>
                  <a:pt x="230" y="567"/>
                  <a:pt x="215" y="631"/>
                  <a:pt x="198" y="689"/>
                </a:cubicBezTo>
                <a:cubicBezTo>
                  <a:pt x="192" y="710"/>
                  <a:pt x="194" y="706"/>
                  <a:pt x="176" y="712"/>
                </a:cubicBezTo>
                <a:cubicBezTo>
                  <a:pt x="161" y="717"/>
                  <a:pt x="120" y="678"/>
                  <a:pt x="98" y="723"/>
                </a:cubicBezTo>
                <a:close/>
              </a:path>
            </a:pathLst>
          </a:custGeom>
          <a:solidFill>
            <a:srgbClr val="008000">
              <a:alpha val="41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89240" y="1828800"/>
            <a:ext cx="13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SSY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8240" y="477360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GY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398680" y="1635120"/>
            <a:ext cx="2998800" cy="3921120"/>
          </a:xfrm>
          <a:custGeom>
            <a:avLst/>
            <a:gdLst/>
            <a:ahLst/>
            <a:rect l="l" t="t" r="r" b="b"/>
            <a:pathLst>
              <a:path w="1889" h="2470">
                <a:moveTo>
                  <a:pt x="523" y="2447"/>
                </a:moveTo>
                <a:cubicBezTo>
                  <a:pt x="470" y="2413"/>
                  <a:pt x="465" y="2374"/>
                  <a:pt x="445" y="2314"/>
                </a:cubicBezTo>
                <a:cubicBezTo>
                  <a:pt x="421" y="2240"/>
                  <a:pt x="164" y="2189"/>
                  <a:pt x="145" y="2114"/>
                </a:cubicBezTo>
                <a:cubicBezTo>
                  <a:pt x="0" y="1948"/>
                  <a:pt x="111" y="1914"/>
                  <a:pt x="267" y="1825"/>
                </a:cubicBezTo>
                <a:cubicBezTo>
                  <a:pt x="287" y="1764"/>
                  <a:pt x="456" y="1592"/>
                  <a:pt x="511" y="1514"/>
                </a:cubicBezTo>
                <a:cubicBezTo>
                  <a:pt x="549" y="1404"/>
                  <a:pt x="525" y="1501"/>
                  <a:pt x="545" y="1359"/>
                </a:cubicBezTo>
                <a:cubicBezTo>
                  <a:pt x="545" y="1357"/>
                  <a:pt x="558" y="1281"/>
                  <a:pt x="567" y="1270"/>
                </a:cubicBezTo>
                <a:cubicBezTo>
                  <a:pt x="582" y="1251"/>
                  <a:pt x="613" y="1243"/>
                  <a:pt x="634" y="1236"/>
                </a:cubicBezTo>
                <a:cubicBezTo>
                  <a:pt x="641" y="1214"/>
                  <a:pt x="649" y="1192"/>
                  <a:pt x="656" y="1170"/>
                </a:cubicBezTo>
                <a:cubicBezTo>
                  <a:pt x="660" y="1159"/>
                  <a:pt x="657" y="1143"/>
                  <a:pt x="667" y="1136"/>
                </a:cubicBezTo>
                <a:cubicBezTo>
                  <a:pt x="713" y="1106"/>
                  <a:pt x="756" y="1088"/>
                  <a:pt x="800" y="1059"/>
                </a:cubicBezTo>
                <a:cubicBezTo>
                  <a:pt x="854" y="978"/>
                  <a:pt x="821" y="1004"/>
                  <a:pt x="889" y="970"/>
                </a:cubicBezTo>
                <a:cubicBezTo>
                  <a:pt x="908" y="913"/>
                  <a:pt x="931" y="842"/>
                  <a:pt x="978" y="803"/>
                </a:cubicBezTo>
                <a:cubicBezTo>
                  <a:pt x="988" y="794"/>
                  <a:pt x="1002" y="790"/>
                  <a:pt x="1012" y="781"/>
                </a:cubicBezTo>
                <a:cubicBezTo>
                  <a:pt x="1032" y="764"/>
                  <a:pt x="1067" y="725"/>
                  <a:pt x="1067" y="725"/>
                </a:cubicBezTo>
                <a:cubicBezTo>
                  <a:pt x="1093" y="648"/>
                  <a:pt x="1100" y="626"/>
                  <a:pt x="1145" y="559"/>
                </a:cubicBezTo>
                <a:cubicBezTo>
                  <a:pt x="1172" y="518"/>
                  <a:pt x="1169" y="498"/>
                  <a:pt x="1212" y="470"/>
                </a:cubicBezTo>
                <a:cubicBezTo>
                  <a:pt x="1248" y="359"/>
                  <a:pt x="1247" y="301"/>
                  <a:pt x="1334" y="214"/>
                </a:cubicBezTo>
                <a:cubicBezTo>
                  <a:pt x="1377" y="171"/>
                  <a:pt x="1412" y="166"/>
                  <a:pt x="1467" y="148"/>
                </a:cubicBezTo>
                <a:cubicBezTo>
                  <a:pt x="1478" y="144"/>
                  <a:pt x="1500" y="137"/>
                  <a:pt x="1500" y="137"/>
                </a:cubicBezTo>
                <a:cubicBezTo>
                  <a:pt x="1528" y="109"/>
                  <a:pt x="1551" y="94"/>
                  <a:pt x="1589" y="81"/>
                </a:cubicBezTo>
                <a:cubicBezTo>
                  <a:pt x="1606" y="64"/>
                  <a:pt x="1614" y="38"/>
                  <a:pt x="1634" y="25"/>
                </a:cubicBezTo>
                <a:cubicBezTo>
                  <a:pt x="1654" y="12"/>
                  <a:pt x="1701" y="3"/>
                  <a:pt x="1701" y="3"/>
                </a:cubicBezTo>
                <a:cubicBezTo>
                  <a:pt x="1768" y="20"/>
                  <a:pt x="1740" y="0"/>
                  <a:pt x="1767" y="81"/>
                </a:cubicBezTo>
                <a:cubicBezTo>
                  <a:pt x="1772" y="96"/>
                  <a:pt x="1821" y="110"/>
                  <a:pt x="1834" y="114"/>
                </a:cubicBezTo>
                <a:cubicBezTo>
                  <a:pt x="1883" y="166"/>
                  <a:pt x="1889" y="243"/>
                  <a:pt x="1856" y="314"/>
                </a:cubicBezTo>
                <a:cubicBezTo>
                  <a:pt x="1846" y="335"/>
                  <a:pt x="1811" y="329"/>
                  <a:pt x="1789" y="337"/>
                </a:cubicBezTo>
                <a:cubicBezTo>
                  <a:pt x="1743" y="353"/>
                  <a:pt x="1767" y="341"/>
                  <a:pt x="1723" y="370"/>
                </a:cubicBezTo>
                <a:cubicBezTo>
                  <a:pt x="1701" y="403"/>
                  <a:pt x="1684" y="442"/>
                  <a:pt x="1656" y="470"/>
                </a:cubicBezTo>
                <a:cubicBezTo>
                  <a:pt x="1629" y="497"/>
                  <a:pt x="1618" y="503"/>
                  <a:pt x="1601" y="537"/>
                </a:cubicBezTo>
                <a:cubicBezTo>
                  <a:pt x="1564" y="610"/>
                  <a:pt x="1535" y="669"/>
                  <a:pt x="1467" y="714"/>
                </a:cubicBezTo>
                <a:cubicBezTo>
                  <a:pt x="1438" y="759"/>
                  <a:pt x="1397" y="781"/>
                  <a:pt x="1356" y="814"/>
                </a:cubicBezTo>
                <a:cubicBezTo>
                  <a:pt x="1322" y="842"/>
                  <a:pt x="1291" y="889"/>
                  <a:pt x="1267" y="925"/>
                </a:cubicBezTo>
                <a:cubicBezTo>
                  <a:pt x="1252" y="973"/>
                  <a:pt x="1228" y="1010"/>
                  <a:pt x="1212" y="1059"/>
                </a:cubicBezTo>
                <a:cubicBezTo>
                  <a:pt x="1207" y="1074"/>
                  <a:pt x="1188" y="1080"/>
                  <a:pt x="1178" y="1092"/>
                </a:cubicBezTo>
                <a:cubicBezTo>
                  <a:pt x="1169" y="1102"/>
                  <a:pt x="1163" y="1114"/>
                  <a:pt x="1156" y="1125"/>
                </a:cubicBezTo>
                <a:cubicBezTo>
                  <a:pt x="1130" y="1203"/>
                  <a:pt x="1134" y="1188"/>
                  <a:pt x="1089" y="1248"/>
                </a:cubicBezTo>
                <a:cubicBezTo>
                  <a:pt x="1073" y="1269"/>
                  <a:pt x="1045" y="1314"/>
                  <a:pt x="1045" y="1314"/>
                </a:cubicBezTo>
                <a:cubicBezTo>
                  <a:pt x="1015" y="1406"/>
                  <a:pt x="1026" y="1358"/>
                  <a:pt x="1012" y="1459"/>
                </a:cubicBezTo>
                <a:cubicBezTo>
                  <a:pt x="1004" y="1643"/>
                  <a:pt x="1018" y="1851"/>
                  <a:pt x="900" y="2003"/>
                </a:cubicBezTo>
                <a:cubicBezTo>
                  <a:pt x="885" y="2047"/>
                  <a:pt x="877" y="2099"/>
                  <a:pt x="845" y="2136"/>
                </a:cubicBezTo>
                <a:cubicBezTo>
                  <a:pt x="758" y="2237"/>
                  <a:pt x="838" y="2140"/>
                  <a:pt x="767" y="2203"/>
                </a:cubicBezTo>
                <a:cubicBezTo>
                  <a:pt x="747" y="2220"/>
                  <a:pt x="731" y="2240"/>
                  <a:pt x="712" y="2259"/>
                </a:cubicBezTo>
                <a:cubicBezTo>
                  <a:pt x="704" y="2267"/>
                  <a:pt x="689" y="2281"/>
                  <a:pt x="689" y="2281"/>
                </a:cubicBezTo>
                <a:cubicBezTo>
                  <a:pt x="682" y="2303"/>
                  <a:pt x="680" y="2328"/>
                  <a:pt x="667" y="2347"/>
                </a:cubicBezTo>
                <a:cubicBezTo>
                  <a:pt x="660" y="2358"/>
                  <a:pt x="650" y="2369"/>
                  <a:pt x="645" y="2381"/>
                </a:cubicBezTo>
                <a:cubicBezTo>
                  <a:pt x="637" y="2399"/>
                  <a:pt x="631" y="2470"/>
                  <a:pt x="589" y="2470"/>
                </a:cubicBezTo>
                <a:cubicBezTo>
                  <a:pt x="566" y="2470"/>
                  <a:pt x="545" y="2455"/>
                  <a:pt x="523" y="2447"/>
                </a:cubicBezTo>
                <a:close/>
              </a:path>
            </a:pathLst>
          </a:custGeom>
          <a:gradFill rotWithShape="0">
            <a:gsLst>
              <a:gs pos="0">
                <a:srgbClr val="006600">
                  <a:alpha val="33333"/>
                </a:srgbClr>
              </a:gs>
              <a:gs pos="50000">
                <a:srgbClr val="002f00"/>
              </a:gs>
              <a:gs pos="100000">
                <a:srgbClr val="006600">
                  <a:alpha val="33333"/>
                </a:srgbClr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34320" y="3505320"/>
            <a:ext cx="165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 Black"/>
              </a:rPr>
              <a:t>Solomon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 Black"/>
              </a:rPr>
              <a:t>Kingd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495680" y="17226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ily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ademic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essional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143000" y="1676520"/>
            <a:ext cx="2655720" cy="3886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r. John T. Stevens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96280" cy="68803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874960" y="3832200"/>
            <a:ext cx="2681280" cy="2895480"/>
          </a:xfrm>
          <a:custGeom>
            <a:avLst/>
            <a:gdLst/>
            <a:ahLst/>
            <a:rect l="l" t="t" r="r" b="b"/>
            <a:pathLst>
              <a:path w="1689" h="1824">
                <a:moveTo>
                  <a:pt x="1656" y="241"/>
                </a:moveTo>
                <a:cubicBezTo>
                  <a:pt x="1560" y="228"/>
                  <a:pt x="1487" y="205"/>
                  <a:pt x="1412" y="141"/>
                </a:cubicBezTo>
                <a:cubicBezTo>
                  <a:pt x="1400" y="131"/>
                  <a:pt x="1392" y="116"/>
                  <a:pt x="1378" y="108"/>
                </a:cubicBezTo>
                <a:cubicBezTo>
                  <a:pt x="1358" y="97"/>
                  <a:pt x="1312" y="86"/>
                  <a:pt x="1312" y="86"/>
                </a:cubicBezTo>
                <a:cubicBezTo>
                  <a:pt x="1290" y="93"/>
                  <a:pt x="1267" y="101"/>
                  <a:pt x="1245" y="108"/>
                </a:cubicBezTo>
                <a:cubicBezTo>
                  <a:pt x="1230" y="113"/>
                  <a:pt x="1215" y="100"/>
                  <a:pt x="1200" y="97"/>
                </a:cubicBezTo>
                <a:cubicBezTo>
                  <a:pt x="1131" y="82"/>
                  <a:pt x="1067" y="52"/>
                  <a:pt x="989" y="119"/>
                </a:cubicBezTo>
                <a:cubicBezTo>
                  <a:pt x="953" y="95"/>
                  <a:pt x="908" y="77"/>
                  <a:pt x="867" y="64"/>
                </a:cubicBezTo>
                <a:cubicBezTo>
                  <a:pt x="740" y="75"/>
                  <a:pt x="762" y="0"/>
                  <a:pt x="667" y="64"/>
                </a:cubicBezTo>
                <a:cubicBezTo>
                  <a:pt x="656" y="71"/>
                  <a:pt x="645" y="79"/>
                  <a:pt x="634" y="86"/>
                </a:cubicBezTo>
                <a:cubicBezTo>
                  <a:pt x="623" y="93"/>
                  <a:pt x="600" y="108"/>
                  <a:pt x="600" y="108"/>
                </a:cubicBezTo>
                <a:cubicBezTo>
                  <a:pt x="595" y="115"/>
                  <a:pt x="538" y="195"/>
                  <a:pt x="534" y="197"/>
                </a:cubicBezTo>
                <a:cubicBezTo>
                  <a:pt x="491" y="218"/>
                  <a:pt x="389" y="225"/>
                  <a:pt x="345" y="230"/>
                </a:cubicBezTo>
                <a:cubicBezTo>
                  <a:pt x="327" y="242"/>
                  <a:pt x="301" y="255"/>
                  <a:pt x="289" y="275"/>
                </a:cubicBezTo>
                <a:cubicBezTo>
                  <a:pt x="283" y="285"/>
                  <a:pt x="283" y="298"/>
                  <a:pt x="278" y="308"/>
                </a:cubicBezTo>
                <a:cubicBezTo>
                  <a:pt x="265" y="335"/>
                  <a:pt x="253" y="344"/>
                  <a:pt x="234" y="364"/>
                </a:cubicBezTo>
                <a:cubicBezTo>
                  <a:pt x="197" y="469"/>
                  <a:pt x="173" y="576"/>
                  <a:pt x="123" y="675"/>
                </a:cubicBezTo>
                <a:cubicBezTo>
                  <a:pt x="96" y="728"/>
                  <a:pt x="98" y="755"/>
                  <a:pt x="56" y="797"/>
                </a:cubicBezTo>
                <a:cubicBezTo>
                  <a:pt x="37" y="855"/>
                  <a:pt x="12" y="902"/>
                  <a:pt x="0" y="963"/>
                </a:cubicBezTo>
                <a:cubicBezTo>
                  <a:pt x="8" y="1082"/>
                  <a:pt x="30" y="1190"/>
                  <a:pt x="45" y="1308"/>
                </a:cubicBezTo>
                <a:cubicBezTo>
                  <a:pt x="47" y="1326"/>
                  <a:pt x="47" y="1416"/>
                  <a:pt x="67" y="1452"/>
                </a:cubicBezTo>
                <a:cubicBezTo>
                  <a:pt x="98" y="1508"/>
                  <a:pt x="144" y="1563"/>
                  <a:pt x="189" y="1608"/>
                </a:cubicBezTo>
                <a:cubicBezTo>
                  <a:pt x="205" y="1655"/>
                  <a:pt x="236" y="1692"/>
                  <a:pt x="267" y="1730"/>
                </a:cubicBezTo>
                <a:cubicBezTo>
                  <a:pt x="275" y="1740"/>
                  <a:pt x="276" y="1759"/>
                  <a:pt x="289" y="1763"/>
                </a:cubicBezTo>
                <a:cubicBezTo>
                  <a:pt x="324" y="1775"/>
                  <a:pt x="363" y="1770"/>
                  <a:pt x="400" y="1775"/>
                </a:cubicBezTo>
                <a:cubicBezTo>
                  <a:pt x="467" y="1784"/>
                  <a:pt x="532" y="1808"/>
                  <a:pt x="600" y="1819"/>
                </a:cubicBezTo>
                <a:cubicBezTo>
                  <a:pt x="797" y="1811"/>
                  <a:pt x="842" y="1824"/>
                  <a:pt x="989" y="1775"/>
                </a:cubicBezTo>
                <a:cubicBezTo>
                  <a:pt x="1047" y="1756"/>
                  <a:pt x="1124" y="1766"/>
                  <a:pt x="1178" y="1730"/>
                </a:cubicBezTo>
                <a:cubicBezTo>
                  <a:pt x="1222" y="1701"/>
                  <a:pt x="1257" y="1669"/>
                  <a:pt x="1301" y="1641"/>
                </a:cubicBezTo>
                <a:cubicBezTo>
                  <a:pt x="1334" y="1541"/>
                  <a:pt x="1381" y="1530"/>
                  <a:pt x="1445" y="1463"/>
                </a:cubicBezTo>
                <a:cubicBezTo>
                  <a:pt x="1478" y="1332"/>
                  <a:pt x="1426" y="1515"/>
                  <a:pt x="1489" y="1375"/>
                </a:cubicBezTo>
                <a:cubicBezTo>
                  <a:pt x="1495" y="1362"/>
                  <a:pt x="1504" y="1292"/>
                  <a:pt x="1512" y="1275"/>
                </a:cubicBezTo>
                <a:cubicBezTo>
                  <a:pt x="1522" y="1254"/>
                  <a:pt x="1543" y="1239"/>
                  <a:pt x="1556" y="1219"/>
                </a:cubicBezTo>
                <a:cubicBezTo>
                  <a:pt x="1552" y="1167"/>
                  <a:pt x="1558" y="1114"/>
                  <a:pt x="1545" y="1063"/>
                </a:cubicBezTo>
                <a:cubicBezTo>
                  <a:pt x="1539" y="1037"/>
                  <a:pt x="1501" y="997"/>
                  <a:pt x="1501" y="997"/>
                </a:cubicBezTo>
                <a:cubicBezTo>
                  <a:pt x="1511" y="928"/>
                  <a:pt x="1527" y="867"/>
                  <a:pt x="1534" y="797"/>
                </a:cubicBezTo>
                <a:cubicBezTo>
                  <a:pt x="1549" y="655"/>
                  <a:pt x="1532" y="716"/>
                  <a:pt x="1556" y="641"/>
                </a:cubicBezTo>
                <a:cubicBezTo>
                  <a:pt x="1565" y="555"/>
                  <a:pt x="1558" y="538"/>
                  <a:pt x="1612" y="486"/>
                </a:cubicBezTo>
                <a:cubicBezTo>
                  <a:pt x="1631" y="426"/>
                  <a:pt x="1616" y="463"/>
                  <a:pt x="1667" y="386"/>
                </a:cubicBezTo>
                <a:cubicBezTo>
                  <a:pt x="1674" y="375"/>
                  <a:pt x="1689" y="352"/>
                  <a:pt x="1689" y="352"/>
                </a:cubicBezTo>
                <a:cubicBezTo>
                  <a:pt x="1685" y="337"/>
                  <a:pt x="1686" y="321"/>
                  <a:pt x="1678" y="308"/>
                </a:cubicBezTo>
                <a:cubicBezTo>
                  <a:pt x="1671" y="297"/>
                  <a:pt x="1649" y="299"/>
                  <a:pt x="1645" y="286"/>
                </a:cubicBezTo>
                <a:cubicBezTo>
                  <a:pt x="1640" y="271"/>
                  <a:pt x="1652" y="256"/>
                  <a:pt x="1656" y="241"/>
                </a:cubicBezTo>
                <a:close/>
              </a:path>
            </a:pathLst>
          </a:custGeom>
          <a:noFill/>
          <a:ln w="57240">
            <a:solidFill>
              <a:srgbClr val="00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3048120"/>
            <a:ext cx="685800" cy="838080"/>
          </a:xfrm>
          <a:custGeom>
            <a:avLst/>
            <a:gdLst/>
            <a:ahLst/>
            <a:rect l="l" t="t" r="r" b="b"/>
            <a:pathLst>
              <a:path w="432" h="528">
                <a:moveTo>
                  <a:pt x="0" y="0"/>
                </a:moveTo>
                <a:cubicBezTo>
                  <a:pt x="44" y="92"/>
                  <a:pt x="88" y="184"/>
                  <a:pt x="144" y="240"/>
                </a:cubicBezTo>
                <a:cubicBezTo>
                  <a:pt x="200" y="296"/>
                  <a:pt x="288" y="288"/>
                  <a:pt x="336" y="336"/>
                </a:cubicBezTo>
                <a:cubicBezTo>
                  <a:pt x="384" y="384"/>
                  <a:pt x="408" y="456"/>
                  <a:pt x="432" y="528"/>
                </a:cubicBezTo>
              </a:path>
            </a:pathLst>
          </a:custGeom>
          <a:noFill/>
          <a:ln w="57240">
            <a:solidFill>
              <a:srgbClr val="00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888840"/>
            <a:ext cx="1854360" cy="4445280"/>
          </a:xfrm>
          <a:custGeom>
            <a:avLst/>
            <a:gdLst/>
            <a:ahLst/>
            <a:rect l="l" t="t" r="r" b="b"/>
            <a:pathLst>
              <a:path w="1168" h="2800">
                <a:moveTo>
                  <a:pt x="0" y="2752"/>
                </a:moveTo>
                <a:cubicBezTo>
                  <a:pt x="68" y="2776"/>
                  <a:pt x="136" y="2800"/>
                  <a:pt x="192" y="2800"/>
                </a:cubicBezTo>
                <a:cubicBezTo>
                  <a:pt x="248" y="2800"/>
                  <a:pt x="288" y="2760"/>
                  <a:pt x="336" y="2752"/>
                </a:cubicBezTo>
                <a:cubicBezTo>
                  <a:pt x="384" y="2744"/>
                  <a:pt x="432" y="2792"/>
                  <a:pt x="480" y="2752"/>
                </a:cubicBezTo>
                <a:cubicBezTo>
                  <a:pt x="528" y="2712"/>
                  <a:pt x="560" y="2592"/>
                  <a:pt x="624" y="2512"/>
                </a:cubicBezTo>
                <a:cubicBezTo>
                  <a:pt x="688" y="2432"/>
                  <a:pt x="808" y="2376"/>
                  <a:pt x="864" y="2272"/>
                </a:cubicBezTo>
                <a:cubicBezTo>
                  <a:pt x="920" y="2168"/>
                  <a:pt x="920" y="1992"/>
                  <a:pt x="960" y="1888"/>
                </a:cubicBezTo>
                <a:cubicBezTo>
                  <a:pt x="1000" y="1784"/>
                  <a:pt x="1072" y="1760"/>
                  <a:pt x="1104" y="1648"/>
                </a:cubicBezTo>
                <a:cubicBezTo>
                  <a:pt x="1136" y="1536"/>
                  <a:pt x="1168" y="1328"/>
                  <a:pt x="1152" y="1216"/>
                </a:cubicBezTo>
                <a:cubicBezTo>
                  <a:pt x="1136" y="1104"/>
                  <a:pt x="1032" y="1072"/>
                  <a:pt x="1008" y="976"/>
                </a:cubicBezTo>
                <a:cubicBezTo>
                  <a:pt x="984" y="880"/>
                  <a:pt x="1032" y="744"/>
                  <a:pt x="1008" y="640"/>
                </a:cubicBezTo>
                <a:cubicBezTo>
                  <a:pt x="984" y="536"/>
                  <a:pt x="904" y="440"/>
                  <a:pt x="864" y="352"/>
                </a:cubicBezTo>
                <a:cubicBezTo>
                  <a:pt x="824" y="264"/>
                  <a:pt x="832" y="168"/>
                  <a:pt x="768" y="112"/>
                </a:cubicBezTo>
                <a:cubicBezTo>
                  <a:pt x="704" y="56"/>
                  <a:pt x="568" y="32"/>
                  <a:pt x="480" y="16"/>
                </a:cubicBezTo>
                <a:cubicBezTo>
                  <a:pt x="392" y="0"/>
                  <a:pt x="304" y="0"/>
                  <a:pt x="240" y="16"/>
                </a:cubicBezTo>
                <a:cubicBezTo>
                  <a:pt x="176" y="32"/>
                  <a:pt x="128" y="104"/>
                  <a:pt x="96" y="112"/>
                </a:cubicBezTo>
                <a:cubicBezTo>
                  <a:pt x="64" y="120"/>
                  <a:pt x="56" y="92"/>
                  <a:pt x="48" y="64"/>
                </a:cubicBezTo>
              </a:path>
            </a:pathLst>
          </a:custGeom>
          <a:noFill/>
          <a:ln w="57240">
            <a:solidFill>
              <a:srgbClr val="00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76320"/>
            <a:ext cx="381240" cy="38088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0" y="240"/>
                </a:moveTo>
                <a:cubicBezTo>
                  <a:pt x="68" y="152"/>
                  <a:pt x="136" y="64"/>
                  <a:pt x="240" y="0"/>
                </a:cubicBezTo>
              </a:path>
            </a:pathLst>
          </a:custGeom>
          <a:noFill/>
          <a:ln w="57240">
            <a:solidFill>
              <a:srgbClr val="00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247800" y="0"/>
            <a:ext cx="152280" cy="304920"/>
          </a:xfrm>
          <a:custGeom>
            <a:avLst/>
            <a:gdLst/>
            <a:ahLst/>
            <a:rect l="l" t="t" r="r" b="b"/>
            <a:pathLst>
              <a:path w="96" h="192">
                <a:moveTo>
                  <a:pt x="96" y="192"/>
                </a:moveTo>
                <a:cubicBezTo>
                  <a:pt x="80" y="160"/>
                  <a:pt x="64" y="128"/>
                  <a:pt x="48" y="96"/>
                </a:cubicBezTo>
                <a:cubicBezTo>
                  <a:pt x="32" y="64"/>
                  <a:pt x="16" y="32"/>
                  <a:pt x="0" y="0"/>
                </a:cubicBezTo>
              </a:path>
            </a:pathLst>
          </a:custGeom>
          <a:noFill/>
          <a:ln w="57240">
            <a:solidFill>
              <a:srgbClr val="00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60280" y="3581280"/>
            <a:ext cx="26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Webdings"/>
                <a:ea typeface="Webdings"/>
              </a:rPr>
              <a:t>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2080" y="33526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 Black"/>
              </a:rPr>
              <a:t>Beth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27840" y="304920"/>
            <a:ext cx="56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 Black"/>
              </a:rPr>
              <a:t>D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791320" y="0"/>
            <a:ext cx="152280" cy="533520"/>
          </a:xfrm>
          <a:prstGeom prst="line">
            <a:avLst/>
          </a:prstGeom>
          <a:ln w="381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50120" y="24382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Wingdings"/>
                <a:ea typeface="Wingdings"/>
              </a:rPr>
              <a:t>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35680" y="21337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 Black"/>
              </a:rPr>
              <a:t>Sa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495680" y="1219320"/>
            <a:ext cx="175284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srae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352680" y="4724280"/>
            <a:ext cx="1752840" cy="83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uda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"/>
          <p:cNvSpPr/>
          <p:nvPr/>
        </p:nvSpPr>
        <p:spPr>
          <a:xfrm>
            <a:off x="4662720" y="40813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Wingdings"/>
                <a:ea typeface="Wingdings"/>
              </a:rPr>
              <a:t>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07520" y="426708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 Black"/>
              </a:rPr>
              <a:t>Jerusa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05120" y="3657240"/>
            <a:ext cx="2286000" cy="11430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Torah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990720" y="2971080"/>
            <a:ext cx="1218960" cy="1219320"/>
          </a:xfrm>
          <a:custGeom>
            <a:avLst/>
            <a:gdLst>
              <a:gd name="textAreaLeft" fmla="*/ 0 w 1218960"/>
              <a:gd name="textAreaRight" fmla="*/ 1219320 w 1218960"/>
              <a:gd name="textAreaTop" fmla="*/ -360 h 1219320"/>
              <a:gd name="textAreaBottom" fmla="*/ 121932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010" stAng="10800000" swAng="5400000"/>
                <a:lnTo>
                  <a:pt x="12571" y="3150"/>
                </a:lnTo>
                <a:lnTo>
                  <a:pt x="12571" y="0"/>
                </a:lnTo>
                <a:lnTo>
                  <a:pt x="21600" y="6079"/>
                </a:lnTo>
                <a:lnTo>
                  <a:pt x="12571" y="12158"/>
                </a:lnTo>
                <a:lnTo>
                  <a:pt x="12571" y="9008"/>
                </a:lnTo>
                <a:lnTo>
                  <a:pt x="12427" y="9008"/>
                </a:lnTo>
                <a:arcTo wR="6569" hR="3152" stAng="16200000" swAng="-5400000"/>
                <a:lnTo>
                  <a:pt x="5858" y="21600"/>
                </a:lnTo>
                <a:close/>
              </a:path>
            </a:pathLst>
          </a:cu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09480" y="1143000"/>
            <a:ext cx="175284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os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990720" y="182880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&amp;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09480" y="2286000"/>
            <a:ext cx="190512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oshu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0" y="114300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lija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952880" y="182880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&amp;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"/>
          <p:cNvSpPr/>
          <p:nvPr/>
        </p:nvSpPr>
        <p:spPr>
          <a:xfrm>
            <a:off x="6019920" y="3657600"/>
            <a:ext cx="2895480" cy="11430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roph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05520" y="2971080"/>
            <a:ext cx="1218960" cy="1219320"/>
          </a:xfrm>
          <a:custGeom>
            <a:avLst/>
            <a:gdLst>
              <a:gd name="textAreaLeft" fmla="*/ 0 w 1218960"/>
              <a:gd name="textAreaRight" fmla="*/ 1219320 w 1218960"/>
              <a:gd name="textAreaTop" fmla="*/ -360 h 1219320"/>
              <a:gd name="textAreaBottom" fmla="*/ 121932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010" stAng="10800000" swAng="5400000"/>
                <a:lnTo>
                  <a:pt x="12571" y="3150"/>
                </a:lnTo>
                <a:lnTo>
                  <a:pt x="12571" y="0"/>
                </a:lnTo>
                <a:lnTo>
                  <a:pt x="21600" y="6079"/>
                </a:lnTo>
                <a:lnTo>
                  <a:pt x="12571" y="12158"/>
                </a:lnTo>
                <a:lnTo>
                  <a:pt x="12571" y="9008"/>
                </a:lnTo>
                <a:lnTo>
                  <a:pt x="12427" y="9008"/>
                </a:lnTo>
                <a:arcTo wR="6569" hR="3152" stAng="16200000" swAng="-5400000"/>
                <a:lnTo>
                  <a:pt x="5858" y="21600"/>
                </a:lnTo>
                <a:close/>
              </a:path>
            </a:pathLst>
          </a:cu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0" y="2286000"/>
            <a:ext cx="190512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lish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4876920"/>
            <a:ext cx="213372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65ffff"/>
                    </a:gs>
                  </a:gsLst>
                  <a:lin ang="5400000"/>
                </a:gradFill>
                <a:latin typeface="Impact"/>
              </a:rPr>
              <a:t>Mirac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65ff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800600" y="4800600"/>
            <a:ext cx="213372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65ffff"/>
                    </a:gs>
                  </a:gsLst>
                  <a:lin ang="5400000"/>
                </a:gradFill>
                <a:latin typeface="Impact"/>
              </a:rPr>
              <a:t>Mirac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65ff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96280" cy="68803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874960" y="3832200"/>
            <a:ext cx="2681280" cy="2895480"/>
          </a:xfrm>
          <a:custGeom>
            <a:avLst/>
            <a:gdLst/>
            <a:ahLst/>
            <a:rect l="l" t="t" r="r" b="b"/>
            <a:pathLst>
              <a:path w="1689" h="1824">
                <a:moveTo>
                  <a:pt x="1656" y="241"/>
                </a:moveTo>
                <a:cubicBezTo>
                  <a:pt x="1560" y="228"/>
                  <a:pt x="1487" y="205"/>
                  <a:pt x="1412" y="141"/>
                </a:cubicBezTo>
                <a:cubicBezTo>
                  <a:pt x="1400" y="131"/>
                  <a:pt x="1392" y="116"/>
                  <a:pt x="1378" y="108"/>
                </a:cubicBezTo>
                <a:cubicBezTo>
                  <a:pt x="1358" y="97"/>
                  <a:pt x="1312" y="86"/>
                  <a:pt x="1312" y="86"/>
                </a:cubicBezTo>
                <a:cubicBezTo>
                  <a:pt x="1290" y="93"/>
                  <a:pt x="1267" y="101"/>
                  <a:pt x="1245" y="108"/>
                </a:cubicBezTo>
                <a:cubicBezTo>
                  <a:pt x="1230" y="113"/>
                  <a:pt x="1215" y="100"/>
                  <a:pt x="1200" y="97"/>
                </a:cubicBezTo>
                <a:cubicBezTo>
                  <a:pt x="1131" y="82"/>
                  <a:pt x="1067" y="52"/>
                  <a:pt x="989" y="119"/>
                </a:cubicBezTo>
                <a:cubicBezTo>
                  <a:pt x="953" y="95"/>
                  <a:pt x="908" y="77"/>
                  <a:pt x="867" y="64"/>
                </a:cubicBezTo>
                <a:cubicBezTo>
                  <a:pt x="740" y="75"/>
                  <a:pt x="762" y="0"/>
                  <a:pt x="667" y="64"/>
                </a:cubicBezTo>
                <a:cubicBezTo>
                  <a:pt x="656" y="71"/>
                  <a:pt x="645" y="79"/>
                  <a:pt x="634" y="86"/>
                </a:cubicBezTo>
                <a:cubicBezTo>
                  <a:pt x="623" y="93"/>
                  <a:pt x="600" y="108"/>
                  <a:pt x="600" y="108"/>
                </a:cubicBezTo>
                <a:cubicBezTo>
                  <a:pt x="595" y="115"/>
                  <a:pt x="538" y="195"/>
                  <a:pt x="534" y="197"/>
                </a:cubicBezTo>
                <a:cubicBezTo>
                  <a:pt x="491" y="218"/>
                  <a:pt x="389" y="225"/>
                  <a:pt x="345" y="230"/>
                </a:cubicBezTo>
                <a:cubicBezTo>
                  <a:pt x="327" y="242"/>
                  <a:pt x="301" y="255"/>
                  <a:pt x="289" y="275"/>
                </a:cubicBezTo>
                <a:cubicBezTo>
                  <a:pt x="283" y="285"/>
                  <a:pt x="283" y="298"/>
                  <a:pt x="278" y="308"/>
                </a:cubicBezTo>
                <a:cubicBezTo>
                  <a:pt x="265" y="335"/>
                  <a:pt x="253" y="344"/>
                  <a:pt x="234" y="364"/>
                </a:cubicBezTo>
                <a:cubicBezTo>
                  <a:pt x="197" y="469"/>
                  <a:pt x="173" y="576"/>
                  <a:pt x="123" y="675"/>
                </a:cubicBezTo>
                <a:cubicBezTo>
                  <a:pt x="96" y="728"/>
                  <a:pt x="98" y="755"/>
                  <a:pt x="56" y="797"/>
                </a:cubicBezTo>
                <a:cubicBezTo>
                  <a:pt x="37" y="855"/>
                  <a:pt x="12" y="902"/>
                  <a:pt x="0" y="963"/>
                </a:cubicBezTo>
                <a:cubicBezTo>
                  <a:pt x="8" y="1082"/>
                  <a:pt x="30" y="1190"/>
                  <a:pt x="45" y="1308"/>
                </a:cubicBezTo>
                <a:cubicBezTo>
                  <a:pt x="47" y="1326"/>
                  <a:pt x="47" y="1416"/>
                  <a:pt x="67" y="1452"/>
                </a:cubicBezTo>
                <a:cubicBezTo>
                  <a:pt x="98" y="1508"/>
                  <a:pt x="144" y="1563"/>
                  <a:pt x="189" y="1608"/>
                </a:cubicBezTo>
                <a:cubicBezTo>
                  <a:pt x="205" y="1655"/>
                  <a:pt x="236" y="1692"/>
                  <a:pt x="267" y="1730"/>
                </a:cubicBezTo>
                <a:cubicBezTo>
                  <a:pt x="275" y="1740"/>
                  <a:pt x="276" y="1759"/>
                  <a:pt x="289" y="1763"/>
                </a:cubicBezTo>
                <a:cubicBezTo>
                  <a:pt x="324" y="1775"/>
                  <a:pt x="363" y="1770"/>
                  <a:pt x="400" y="1775"/>
                </a:cubicBezTo>
                <a:cubicBezTo>
                  <a:pt x="467" y="1784"/>
                  <a:pt x="532" y="1808"/>
                  <a:pt x="600" y="1819"/>
                </a:cubicBezTo>
                <a:cubicBezTo>
                  <a:pt x="797" y="1811"/>
                  <a:pt x="842" y="1824"/>
                  <a:pt x="989" y="1775"/>
                </a:cubicBezTo>
                <a:cubicBezTo>
                  <a:pt x="1047" y="1756"/>
                  <a:pt x="1124" y="1766"/>
                  <a:pt x="1178" y="1730"/>
                </a:cubicBezTo>
                <a:cubicBezTo>
                  <a:pt x="1222" y="1701"/>
                  <a:pt x="1257" y="1669"/>
                  <a:pt x="1301" y="1641"/>
                </a:cubicBezTo>
                <a:cubicBezTo>
                  <a:pt x="1334" y="1541"/>
                  <a:pt x="1381" y="1530"/>
                  <a:pt x="1445" y="1463"/>
                </a:cubicBezTo>
                <a:cubicBezTo>
                  <a:pt x="1478" y="1332"/>
                  <a:pt x="1426" y="1515"/>
                  <a:pt x="1489" y="1375"/>
                </a:cubicBezTo>
                <a:cubicBezTo>
                  <a:pt x="1495" y="1362"/>
                  <a:pt x="1504" y="1292"/>
                  <a:pt x="1512" y="1275"/>
                </a:cubicBezTo>
                <a:cubicBezTo>
                  <a:pt x="1522" y="1254"/>
                  <a:pt x="1543" y="1239"/>
                  <a:pt x="1556" y="1219"/>
                </a:cubicBezTo>
                <a:cubicBezTo>
                  <a:pt x="1552" y="1167"/>
                  <a:pt x="1558" y="1114"/>
                  <a:pt x="1545" y="1063"/>
                </a:cubicBezTo>
                <a:cubicBezTo>
                  <a:pt x="1539" y="1037"/>
                  <a:pt x="1501" y="997"/>
                  <a:pt x="1501" y="997"/>
                </a:cubicBezTo>
                <a:cubicBezTo>
                  <a:pt x="1511" y="928"/>
                  <a:pt x="1527" y="867"/>
                  <a:pt x="1534" y="797"/>
                </a:cubicBezTo>
                <a:cubicBezTo>
                  <a:pt x="1549" y="655"/>
                  <a:pt x="1532" y="716"/>
                  <a:pt x="1556" y="641"/>
                </a:cubicBezTo>
                <a:cubicBezTo>
                  <a:pt x="1565" y="555"/>
                  <a:pt x="1558" y="538"/>
                  <a:pt x="1612" y="486"/>
                </a:cubicBezTo>
                <a:cubicBezTo>
                  <a:pt x="1631" y="426"/>
                  <a:pt x="1616" y="463"/>
                  <a:pt x="1667" y="386"/>
                </a:cubicBezTo>
                <a:cubicBezTo>
                  <a:pt x="1674" y="375"/>
                  <a:pt x="1689" y="352"/>
                  <a:pt x="1689" y="352"/>
                </a:cubicBezTo>
                <a:cubicBezTo>
                  <a:pt x="1685" y="337"/>
                  <a:pt x="1686" y="321"/>
                  <a:pt x="1678" y="308"/>
                </a:cubicBezTo>
                <a:cubicBezTo>
                  <a:pt x="1671" y="297"/>
                  <a:pt x="1649" y="299"/>
                  <a:pt x="1645" y="286"/>
                </a:cubicBezTo>
                <a:cubicBezTo>
                  <a:pt x="1640" y="271"/>
                  <a:pt x="1652" y="256"/>
                  <a:pt x="1656" y="241"/>
                </a:cubicBezTo>
                <a:close/>
              </a:path>
            </a:pathLst>
          </a:custGeom>
          <a:noFill/>
          <a:ln w="57240">
            <a:solidFill>
              <a:srgbClr val="00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3048120"/>
            <a:ext cx="685800" cy="838080"/>
          </a:xfrm>
          <a:custGeom>
            <a:avLst/>
            <a:gdLst/>
            <a:ahLst/>
            <a:rect l="l" t="t" r="r" b="b"/>
            <a:pathLst>
              <a:path w="432" h="528">
                <a:moveTo>
                  <a:pt x="0" y="0"/>
                </a:moveTo>
                <a:cubicBezTo>
                  <a:pt x="44" y="92"/>
                  <a:pt x="88" y="184"/>
                  <a:pt x="144" y="240"/>
                </a:cubicBezTo>
                <a:cubicBezTo>
                  <a:pt x="200" y="296"/>
                  <a:pt x="288" y="288"/>
                  <a:pt x="336" y="336"/>
                </a:cubicBezTo>
                <a:cubicBezTo>
                  <a:pt x="384" y="384"/>
                  <a:pt x="408" y="456"/>
                  <a:pt x="432" y="528"/>
                </a:cubicBezTo>
              </a:path>
            </a:pathLst>
          </a:custGeom>
          <a:noFill/>
          <a:ln w="57240">
            <a:solidFill>
              <a:srgbClr val="00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43600" y="888840"/>
            <a:ext cx="1854360" cy="4445280"/>
          </a:xfrm>
          <a:custGeom>
            <a:avLst/>
            <a:gdLst/>
            <a:ahLst/>
            <a:rect l="l" t="t" r="r" b="b"/>
            <a:pathLst>
              <a:path w="1168" h="2800">
                <a:moveTo>
                  <a:pt x="0" y="2752"/>
                </a:moveTo>
                <a:cubicBezTo>
                  <a:pt x="68" y="2776"/>
                  <a:pt x="136" y="2800"/>
                  <a:pt x="192" y="2800"/>
                </a:cubicBezTo>
                <a:cubicBezTo>
                  <a:pt x="248" y="2800"/>
                  <a:pt x="288" y="2760"/>
                  <a:pt x="336" y="2752"/>
                </a:cubicBezTo>
                <a:cubicBezTo>
                  <a:pt x="384" y="2744"/>
                  <a:pt x="432" y="2792"/>
                  <a:pt x="480" y="2752"/>
                </a:cubicBezTo>
                <a:cubicBezTo>
                  <a:pt x="528" y="2712"/>
                  <a:pt x="560" y="2592"/>
                  <a:pt x="624" y="2512"/>
                </a:cubicBezTo>
                <a:cubicBezTo>
                  <a:pt x="688" y="2432"/>
                  <a:pt x="808" y="2376"/>
                  <a:pt x="864" y="2272"/>
                </a:cubicBezTo>
                <a:cubicBezTo>
                  <a:pt x="920" y="2168"/>
                  <a:pt x="920" y="1992"/>
                  <a:pt x="960" y="1888"/>
                </a:cubicBezTo>
                <a:cubicBezTo>
                  <a:pt x="1000" y="1784"/>
                  <a:pt x="1072" y="1760"/>
                  <a:pt x="1104" y="1648"/>
                </a:cubicBezTo>
                <a:cubicBezTo>
                  <a:pt x="1136" y="1536"/>
                  <a:pt x="1168" y="1328"/>
                  <a:pt x="1152" y="1216"/>
                </a:cubicBezTo>
                <a:cubicBezTo>
                  <a:pt x="1136" y="1104"/>
                  <a:pt x="1032" y="1072"/>
                  <a:pt x="1008" y="976"/>
                </a:cubicBezTo>
                <a:cubicBezTo>
                  <a:pt x="984" y="880"/>
                  <a:pt x="1032" y="744"/>
                  <a:pt x="1008" y="640"/>
                </a:cubicBezTo>
                <a:cubicBezTo>
                  <a:pt x="984" y="536"/>
                  <a:pt x="904" y="440"/>
                  <a:pt x="864" y="352"/>
                </a:cubicBezTo>
                <a:cubicBezTo>
                  <a:pt x="824" y="264"/>
                  <a:pt x="832" y="168"/>
                  <a:pt x="768" y="112"/>
                </a:cubicBezTo>
                <a:cubicBezTo>
                  <a:pt x="704" y="56"/>
                  <a:pt x="568" y="32"/>
                  <a:pt x="480" y="16"/>
                </a:cubicBezTo>
                <a:cubicBezTo>
                  <a:pt x="392" y="0"/>
                  <a:pt x="304" y="0"/>
                  <a:pt x="240" y="16"/>
                </a:cubicBezTo>
                <a:cubicBezTo>
                  <a:pt x="176" y="32"/>
                  <a:pt x="128" y="104"/>
                  <a:pt x="96" y="112"/>
                </a:cubicBezTo>
                <a:cubicBezTo>
                  <a:pt x="64" y="120"/>
                  <a:pt x="56" y="92"/>
                  <a:pt x="48" y="64"/>
                </a:cubicBezTo>
              </a:path>
            </a:pathLst>
          </a:custGeom>
          <a:noFill/>
          <a:ln w="57240">
            <a:solidFill>
              <a:srgbClr val="00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67080" y="76320"/>
            <a:ext cx="381240" cy="38088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0" y="240"/>
                </a:moveTo>
                <a:cubicBezTo>
                  <a:pt x="68" y="152"/>
                  <a:pt x="136" y="64"/>
                  <a:pt x="240" y="0"/>
                </a:cubicBezTo>
              </a:path>
            </a:pathLst>
          </a:custGeom>
          <a:noFill/>
          <a:ln w="57240">
            <a:solidFill>
              <a:srgbClr val="00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7800" y="0"/>
            <a:ext cx="152280" cy="304920"/>
          </a:xfrm>
          <a:custGeom>
            <a:avLst/>
            <a:gdLst/>
            <a:ahLst/>
            <a:rect l="l" t="t" r="r" b="b"/>
            <a:pathLst>
              <a:path w="96" h="192">
                <a:moveTo>
                  <a:pt x="96" y="192"/>
                </a:moveTo>
                <a:cubicBezTo>
                  <a:pt x="80" y="160"/>
                  <a:pt x="64" y="128"/>
                  <a:pt x="48" y="96"/>
                </a:cubicBezTo>
                <a:cubicBezTo>
                  <a:pt x="32" y="64"/>
                  <a:pt x="16" y="32"/>
                  <a:pt x="0" y="0"/>
                </a:cubicBezTo>
              </a:path>
            </a:pathLst>
          </a:custGeom>
          <a:noFill/>
          <a:ln w="57240">
            <a:solidFill>
              <a:srgbClr val="00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27840" y="304920"/>
            <a:ext cx="56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 Black"/>
              </a:rPr>
              <a:t>D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791320" y="0"/>
            <a:ext cx="152280" cy="533520"/>
          </a:xfrm>
          <a:prstGeom prst="line">
            <a:avLst/>
          </a:prstGeom>
          <a:ln w="381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50120" y="24382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Wingdings"/>
                <a:ea typeface="Wingdings"/>
              </a:rPr>
              <a:t>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35680" y="21337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 Black"/>
              </a:rPr>
              <a:t>Sa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495680" y="1219320"/>
            <a:ext cx="175284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srae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352680" y="4724280"/>
            <a:ext cx="1752840" cy="83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uda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"/>
          <p:cNvSpPr/>
          <p:nvPr/>
        </p:nvSpPr>
        <p:spPr>
          <a:xfrm>
            <a:off x="4662720" y="40813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Wingdings"/>
                <a:ea typeface="Wingdings"/>
              </a:rPr>
              <a:t>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07520" y="426708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 Black"/>
              </a:rPr>
              <a:t>Jerusa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28600" y="228600"/>
            <a:ext cx="284796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59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rophets of t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28600" y="914400"/>
            <a:ext cx="284796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3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ivided Kingd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981080"/>
            <a:ext cx="2057400" cy="28371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aia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s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ca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96280" cy="72057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789240" y="1828800"/>
            <a:ext cx="13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SSY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08240" y="477360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GY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124080" y="3657600"/>
            <a:ext cx="781200" cy="361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srae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971800" y="4191120"/>
            <a:ext cx="781200" cy="361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uda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28600" y="228600"/>
            <a:ext cx="284796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59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rophets of t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28600" y="914400"/>
            <a:ext cx="284796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3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ivided Kingd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3" name=""/>
          <p:cNvSpPr/>
          <p:nvPr/>
        </p:nvSpPr>
        <p:spPr>
          <a:xfrm>
            <a:off x="6934320" y="2286000"/>
            <a:ext cx="2057400" cy="6426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na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96280" cy="72057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08240" y="477360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GY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124080" y="3657600"/>
            <a:ext cx="781200" cy="361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srae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971800" y="4191120"/>
            <a:ext cx="781200" cy="361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uda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28600" y="228600"/>
            <a:ext cx="284796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59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all of Samar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066680"/>
            <a:ext cx="1600200" cy="646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3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721 B.C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0" name=""/>
          <p:cNvSpPr/>
          <p:nvPr/>
        </p:nvSpPr>
        <p:spPr>
          <a:xfrm rot="3726600">
            <a:off x="5181120" y="1143000"/>
            <a:ext cx="457200" cy="3352680"/>
          </a:xfrm>
          <a:prstGeom prst="downArrow">
            <a:avLst>
              <a:gd name="adj1" fmla="val 50000"/>
              <a:gd name="adj2" fmla="val 125341"/>
            </a:avLst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789240" y="1828800"/>
            <a:ext cx="13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SSY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31680"/>
            <a:ext cx="10134720" cy="68263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520" y="5867280"/>
            <a:ext cx="2209680" cy="609840"/>
          </a:xfrm>
          <a:prstGeom prst="rect">
            <a:avLst/>
          </a:prstGeom>
          <a:gradFill rotWithShape="0">
            <a:gsLst>
              <a:gs pos="0">
                <a:srgbClr val="00b000"/>
              </a:gs>
              <a:gs pos="100000">
                <a:srgbClr val="0051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a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-380880" y="-23760"/>
            <a:ext cx="10362960" cy="68817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6286680" y="1752480"/>
            <a:ext cx="9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ssy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79640" y="340200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abyl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169840" y="149688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Me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34320" y="2209680"/>
            <a:ext cx="685800" cy="1143000"/>
          </a:xfrm>
          <a:custGeom>
            <a:avLst/>
            <a:gdLst/>
            <a:ahLst/>
            <a:rect l="l" t="t" r="r" b="b"/>
            <a:pathLst>
              <a:path w="432" h="720">
                <a:moveTo>
                  <a:pt x="432" y="720"/>
                </a:moveTo>
                <a:cubicBezTo>
                  <a:pt x="372" y="564"/>
                  <a:pt x="312" y="408"/>
                  <a:pt x="240" y="288"/>
                </a:cubicBezTo>
                <a:cubicBezTo>
                  <a:pt x="168" y="168"/>
                  <a:pt x="84" y="84"/>
                  <a:pt x="0" y="0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7314840" y="1752480"/>
            <a:ext cx="685800" cy="228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63520" y="4572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Scythi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0" y="914400"/>
            <a:ext cx="0" cy="838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29200" y="1295280"/>
            <a:ext cx="1295280" cy="533520"/>
          </a:xfrm>
          <a:custGeom>
            <a:avLst/>
            <a:gdLst/>
            <a:ahLst/>
            <a:rect l="l" t="t" r="r" b="b"/>
            <a:pathLst>
              <a:path w="1008" h="432">
                <a:moveTo>
                  <a:pt x="1008" y="432"/>
                </a:moveTo>
                <a:cubicBezTo>
                  <a:pt x="908" y="380"/>
                  <a:pt x="808" y="328"/>
                  <a:pt x="720" y="288"/>
                </a:cubicBezTo>
                <a:cubicBezTo>
                  <a:pt x="632" y="248"/>
                  <a:pt x="600" y="240"/>
                  <a:pt x="480" y="192"/>
                </a:cubicBezTo>
                <a:cubicBezTo>
                  <a:pt x="360" y="144"/>
                  <a:pt x="180" y="72"/>
                  <a:pt x="0" y="0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720" y="9907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65200" y="76212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archemi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7120" y="484992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GY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1219320"/>
            <a:ext cx="3581280" cy="3504960"/>
          </a:xfrm>
          <a:custGeom>
            <a:avLst/>
            <a:gdLst/>
            <a:ahLst/>
            <a:rect l="l" t="t" r="r" b="b"/>
            <a:pathLst>
              <a:path w="2256" h="2208">
                <a:moveTo>
                  <a:pt x="0" y="2208"/>
                </a:moveTo>
                <a:cubicBezTo>
                  <a:pt x="128" y="2140"/>
                  <a:pt x="256" y="2072"/>
                  <a:pt x="384" y="2016"/>
                </a:cubicBezTo>
                <a:cubicBezTo>
                  <a:pt x="512" y="1960"/>
                  <a:pt x="672" y="1928"/>
                  <a:pt x="768" y="1872"/>
                </a:cubicBezTo>
                <a:cubicBezTo>
                  <a:pt x="864" y="1816"/>
                  <a:pt x="912" y="1744"/>
                  <a:pt x="960" y="1680"/>
                </a:cubicBezTo>
                <a:cubicBezTo>
                  <a:pt x="1008" y="1616"/>
                  <a:pt x="1016" y="1552"/>
                  <a:pt x="1056" y="1488"/>
                </a:cubicBezTo>
                <a:cubicBezTo>
                  <a:pt x="1096" y="1424"/>
                  <a:pt x="1152" y="1352"/>
                  <a:pt x="1200" y="1296"/>
                </a:cubicBezTo>
                <a:cubicBezTo>
                  <a:pt x="1248" y="1240"/>
                  <a:pt x="1296" y="1232"/>
                  <a:pt x="1344" y="1152"/>
                </a:cubicBezTo>
                <a:cubicBezTo>
                  <a:pt x="1392" y="1072"/>
                  <a:pt x="1424" y="920"/>
                  <a:pt x="1488" y="816"/>
                </a:cubicBezTo>
                <a:cubicBezTo>
                  <a:pt x="1552" y="712"/>
                  <a:pt x="1656" y="632"/>
                  <a:pt x="1728" y="528"/>
                </a:cubicBezTo>
                <a:cubicBezTo>
                  <a:pt x="1800" y="424"/>
                  <a:pt x="1832" y="280"/>
                  <a:pt x="1920" y="192"/>
                </a:cubicBezTo>
                <a:cubicBezTo>
                  <a:pt x="2008" y="104"/>
                  <a:pt x="2200" y="32"/>
                  <a:pt x="2256" y="0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67600" y="3124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00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69320" y="301608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00"/>
                </a:solidFill>
                <a:latin typeface="Arial Black"/>
              </a:rPr>
              <a:t>Megid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5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-380880" y="-23760"/>
            <a:ext cx="10362960" cy="68817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7379640" y="340200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abyl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169840" y="149688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Me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34320" y="2209680"/>
            <a:ext cx="685800" cy="1143000"/>
          </a:xfrm>
          <a:custGeom>
            <a:avLst/>
            <a:gdLst/>
            <a:ahLst/>
            <a:rect l="l" t="t" r="r" b="b"/>
            <a:pathLst>
              <a:path w="432" h="720">
                <a:moveTo>
                  <a:pt x="432" y="720"/>
                </a:moveTo>
                <a:cubicBezTo>
                  <a:pt x="372" y="564"/>
                  <a:pt x="312" y="408"/>
                  <a:pt x="240" y="288"/>
                </a:cubicBezTo>
                <a:cubicBezTo>
                  <a:pt x="168" y="168"/>
                  <a:pt x="84" y="84"/>
                  <a:pt x="0" y="0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7314840" y="1752480"/>
            <a:ext cx="685800" cy="228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563520" y="4572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Scythi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0" y="914400"/>
            <a:ext cx="0" cy="838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29200" y="1295280"/>
            <a:ext cx="1600200" cy="685800"/>
          </a:xfrm>
          <a:custGeom>
            <a:avLst/>
            <a:gdLst/>
            <a:ahLst/>
            <a:rect l="l" t="t" r="r" b="b"/>
            <a:pathLst>
              <a:path w="1008" h="432">
                <a:moveTo>
                  <a:pt x="1008" y="432"/>
                </a:moveTo>
                <a:cubicBezTo>
                  <a:pt x="908" y="380"/>
                  <a:pt x="808" y="328"/>
                  <a:pt x="720" y="288"/>
                </a:cubicBezTo>
                <a:cubicBezTo>
                  <a:pt x="632" y="248"/>
                  <a:pt x="600" y="240"/>
                  <a:pt x="480" y="192"/>
                </a:cubicBezTo>
                <a:cubicBezTo>
                  <a:pt x="360" y="144"/>
                  <a:pt x="180" y="72"/>
                  <a:pt x="0" y="0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720" y="9907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165200" y="76212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archemi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7120" y="484992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GY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19520" y="1219320"/>
            <a:ext cx="1752480" cy="2438280"/>
          </a:xfrm>
          <a:custGeom>
            <a:avLst/>
            <a:gdLst/>
            <a:ahLst/>
            <a:rect l="l" t="t" r="r" b="b"/>
            <a:pathLst>
              <a:path w="1104" h="1536">
                <a:moveTo>
                  <a:pt x="1104" y="0"/>
                </a:moveTo>
                <a:cubicBezTo>
                  <a:pt x="888" y="108"/>
                  <a:pt x="672" y="216"/>
                  <a:pt x="528" y="384"/>
                </a:cubicBezTo>
                <a:cubicBezTo>
                  <a:pt x="384" y="552"/>
                  <a:pt x="328" y="816"/>
                  <a:pt x="240" y="1008"/>
                </a:cubicBezTo>
                <a:cubicBezTo>
                  <a:pt x="152" y="1200"/>
                  <a:pt x="76" y="1368"/>
                  <a:pt x="0" y="1536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228600"/>
            <a:ext cx="373392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59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rophets of Juda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" y="1600200"/>
            <a:ext cx="2590920" cy="17398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remia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bakku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Zephania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33720" y="4267080"/>
            <a:ext cx="1981080" cy="6426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badia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19920" y="1752480"/>
            <a:ext cx="1752480" cy="6426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hu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-380880" y="-23760"/>
            <a:ext cx="10362960" cy="68817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7379640" y="340200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abyl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7120" y="484992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GY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0" y="228600"/>
            <a:ext cx="434340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59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rophets of the Exi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6629400" y="2701800"/>
            <a:ext cx="1981080" cy="6426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ni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781680" y="3809880"/>
            <a:ext cx="1981440" cy="6426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zeki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0" y="-228600"/>
            <a:ext cx="9144000" cy="73724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7119000" y="278748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Me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786440" y="370188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Persi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21960" y="1949400"/>
            <a:ext cx="9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Lydi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693400" y="403776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Babylon </a:t>
            </a: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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81080" y="1905120"/>
            <a:ext cx="5715000" cy="2146320"/>
          </a:xfrm>
          <a:custGeom>
            <a:avLst/>
            <a:gdLst/>
            <a:ahLst/>
            <a:rect l="l" t="t" r="r" b="b"/>
            <a:pathLst>
              <a:path w="3600" h="1352">
                <a:moveTo>
                  <a:pt x="3216" y="672"/>
                </a:moveTo>
                <a:cubicBezTo>
                  <a:pt x="3104" y="632"/>
                  <a:pt x="2744" y="592"/>
                  <a:pt x="2496" y="528"/>
                </a:cubicBezTo>
                <a:cubicBezTo>
                  <a:pt x="2248" y="464"/>
                  <a:pt x="1960" y="352"/>
                  <a:pt x="1728" y="288"/>
                </a:cubicBezTo>
                <a:cubicBezTo>
                  <a:pt x="1496" y="224"/>
                  <a:pt x="1312" y="176"/>
                  <a:pt x="1104" y="144"/>
                </a:cubicBezTo>
                <a:cubicBezTo>
                  <a:pt x="896" y="112"/>
                  <a:pt x="608" y="104"/>
                  <a:pt x="480" y="96"/>
                </a:cubicBezTo>
                <a:cubicBezTo>
                  <a:pt x="352" y="88"/>
                  <a:pt x="376" y="96"/>
                  <a:pt x="336" y="96"/>
                </a:cubicBezTo>
                <a:lnTo>
                  <a:pt x="240" y="96"/>
                </a:lnTo>
                <a:lnTo>
                  <a:pt x="384" y="0"/>
                </a:lnTo>
                <a:lnTo>
                  <a:pt x="0" y="144"/>
                </a:lnTo>
                <a:lnTo>
                  <a:pt x="336" y="288"/>
                </a:lnTo>
                <a:lnTo>
                  <a:pt x="240" y="192"/>
                </a:lnTo>
                <a:cubicBezTo>
                  <a:pt x="240" y="192"/>
                  <a:pt x="432" y="192"/>
                  <a:pt x="432" y="192"/>
                </a:cubicBezTo>
                <a:cubicBezTo>
                  <a:pt x="432" y="192"/>
                  <a:pt x="664" y="216"/>
                  <a:pt x="816" y="240"/>
                </a:cubicBezTo>
                <a:cubicBezTo>
                  <a:pt x="968" y="264"/>
                  <a:pt x="1176" y="303"/>
                  <a:pt x="1344" y="351"/>
                </a:cubicBezTo>
                <a:cubicBezTo>
                  <a:pt x="1512" y="399"/>
                  <a:pt x="1641" y="445"/>
                  <a:pt x="1809" y="509"/>
                </a:cubicBezTo>
                <a:cubicBezTo>
                  <a:pt x="1977" y="573"/>
                  <a:pt x="2174" y="645"/>
                  <a:pt x="2352" y="720"/>
                </a:cubicBezTo>
                <a:cubicBezTo>
                  <a:pt x="2530" y="795"/>
                  <a:pt x="2720" y="880"/>
                  <a:pt x="2880" y="960"/>
                </a:cubicBezTo>
                <a:cubicBezTo>
                  <a:pt x="3040" y="1040"/>
                  <a:pt x="3192" y="1136"/>
                  <a:pt x="3312" y="1200"/>
                </a:cubicBezTo>
                <a:cubicBezTo>
                  <a:pt x="3432" y="1264"/>
                  <a:pt x="3584" y="1352"/>
                  <a:pt x="3600" y="1344"/>
                </a:cubicBezTo>
                <a:cubicBezTo>
                  <a:pt x="3600" y="1344"/>
                  <a:pt x="3462" y="1209"/>
                  <a:pt x="3408" y="1152"/>
                </a:cubicBezTo>
                <a:cubicBezTo>
                  <a:pt x="3408" y="1152"/>
                  <a:pt x="3316" y="1058"/>
                  <a:pt x="3276" y="1002"/>
                </a:cubicBezTo>
                <a:cubicBezTo>
                  <a:pt x="3236" y="946"/>
                  <a:pt x="3191" y="904"/>
                  <a:pt x="3183" y="872"/>
                </a:cubicBezTo>
                <a:cubicBezTo>
                  <a:pt x="3175" y="840"/>
                  <a:pt x="3160" y="792"/>
                  <a:pt x="3168" y="768"/>
                </a:cubicBezTo>
                <a:cubicBezTo>
                  <a:pt x="3176" y="744"/>
                  <a:pt x="3206" y="692"/>
                  <a:pt x="3216" y="672"/>
                </a:cubicBezTo>
                <a:close/>
              </a:path>
            </a:pathLst>
          </a:custGeom>
          <a:solidFill>
            <a:srgbClr val="003366">
              <a:alpha val="53000"/>
            </a:srgbClr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371600" y="1905120"/>
            <a:ext cx="1974960" cy="3152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495680" y="1722600"/>
            <a:ext cx="4114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ily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ademic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essional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iritual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istry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r. John T. Stevens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0" y="-228600"/>
            <a:ext cx="9144000" cy="73724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119000" y="278748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Me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786440" y="370188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Persi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93400" y="403776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Babylon </a:t>
            </a: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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0" y="228600"/>
            <a:ext cx="4343400" cy="1219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59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ost Exilic Prophe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1676520"/>
            <a:ext cx="2361960" cy="17398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gg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Zecharia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lach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447920" y="380880"/>
            <a:ext cx="4316400" cy="6172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64" name=""/>
          <p:cNvSpPr txBox="1"/>
          <p:nvPr/>
        </p:nvSpPr>
        <p:spPr>
          <a:xfrm>
            <a:off x="5257800" y="2362320"/>
            <a:ext cx="22860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lexand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Grea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-380880" y="0"/>
            <a:ext cx="11125080" cy="69073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291960" y="3684600"/>
            <a:ext cx="1917720" cy="2639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6171840" y="3276720"/>
            <a:ext cx="2438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ed to In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d in Babyl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stronges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-380880" y="0"/>
            <a:ext cx="11125080" cy="69073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5562720" y="1752480"/>
            <a:ext cx="22096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70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eleuc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724280" y="3962520"/>
            <a:ext cx="11052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uda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819520" y="4952880"/>
            <a:ext cx="2057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70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tolem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-380880" y="0"/>
            <a:ext cx="11125080" cy="69073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5105520" y="1600200"/>
            <a:ext cx="26668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70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tioch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piphan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724280" y="3962520"/>
            <a:ext cx="11052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uda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3359160" cy="6095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76" name=""/>
          <p:cNvSpPr txBox="1"/>
          <p:nvPr/>
        </p:nvSpPr>
        <p:spPr>
          <a:xfrm>
            <a:off x="2819520" y="4952880"/>
            <a:ext cx="2057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70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tolem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-380880" y="0"/>
            <a:ext cx="11125080" cy="69073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4724280" y="3962520"/>
            <a:ext cx="11052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uda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3359160" cy="6095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80" name=""/>
          <p:cNvSpPr txBox="1"/>
          <p:nvPr/>
        </p:nvSpPr>
        <p:spPr>
          <a:xfrm>
            <a:off x="5715000" y="2895480"/>
            <a:ext cx="245736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asmonean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715000" y="3454560"/>
            <a:ext cx="245736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Maccabees)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-380880" y="0"/>
            <a:ext cx="11125080" cy="69073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4724280" y="3962520"/>
            <a:ext cx="11052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uda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3359160" cy="6095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85" name="" descr=""/>
          <p:cNvPicPr/>
          <p:nvPr/>
        </p:nvPicPr>
        <p:blipFill>
          <a:blip r:embed="rId4"/>
          <a:stretch/>
        </p:blipFill>
        <p:spPr>
          <a:xfrm>
            <a:off x="6781680" y="380880"/>
            <a:ext cx="2136960" cy="327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86" name=""/>
          <p:cNvSpPr/>
          <p:nvPr/>
        </p:nvSpPr>
        <p:spPr>
          <a:xfrm>
            <a:off x="6858000" y="2971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omp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-380880" y="0"/>
            <a:ext cx="11125080" cy="69073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724280" y="4210200"/>
            <a:ext cx="11052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ude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3359160" cy="6095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6781680" y="380880"/>
            <a:ext cx="2136960" cy="327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91" name=""/>
          <p:cNvSpPr/>
          <p:nvPr/>
        </p:nvSpPr>
        <p:spPr>
          <a:xfrm>
            <a:off x="6858000" y="2971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omp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-380880" y="0"/>
            <a:ext cx="11125080" cy="69073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4724280" y="4210200"/>
            <a:ext cx="11052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ude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3359160" cy="6095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95" name=""/>
          <p:cNvSpPr txBox="1"/>
          <p:nvPr/>
        </p:nvSpPr>
        <p:spPr>
          <a:xfrm>
            <a:off x="6019920" y="3621240"/>
            <a:ext cx="1295280" cy="87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8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Hero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-380880" y="0"/>
            <a:ext cx="11125080" cy="69073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 txBox="1"/>
          <p:nvPr/>
        </p:nvSpPr>
        <p:spPr>
          <a:xfrm>
            <a:off x="4724280" y="4210200"/>
            <a:ext cx="11052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ude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3359160" cy="6095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99" name=""/>
          <p:cNvSpPr txBox="1"/>
          <p:nvPr/>
        </p:nvSpPr>
        <p:spPr>
          <a:xfrm>
            <a:off x="6019920" y="3657600"/>
            <a:ext cx="213336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8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rocurato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roup Introduc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8960" y="2590560"/>
            <a:ext cx="6933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home chu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are you in the TIU proces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your current ministry within the Kingdo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86200" y="12952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23880" y="3657240"/>
            <a:ext cx="1828800" cy="11430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Torah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609480" y="2971080"/>
            <a:ext cx="1219320" cy="1219320"/>
          </a:xfrm>
          <a:custGeom>
            <a:avLst/>
            <a:gdLst>
              <a:gd name="textAreaLeft" fmla="*/ 0 w 1219320"/>
              <a:gd name="textAreaRight" fmla="*/ 1219680 w 1219320"/>
              <a:gd name="textAreaTop" fmla="*/ -360 h 1219320"/>
              <a:gd name="textAreaBottom" fmla="*/ 121932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010" stAng="10800000" swAng="5400000"/>
                <a:lnTo>
                  <a:pt x="12571" y="3150"/>
                </a:lnTo>
                <a:lnTo>
                  <a:pt x="12571" y="0"/>
                </a:lnTo>
                <a:lnTo>
                  <a:pt x="21600" y="6079"/>
                </a:lnTo>
                <a:lnTo>
                  <a:pt x="12571" y="12158"/>
                </a:lnTo>
                <a:lnTo>
                  <a:pt x="12571" y="9008"/>
                </a:lnTo>
                <a:lnTo>
                  <a:pt x="12427" y="9008"/>
                </a:lnTo>
                <a:arcTo wR="6569" hR="3152" stAng="16200000" swAng="-5400000"/>
                <a:lnTo>
                  <a:pt x="5858" y="21600"/>
                </a:lnTo>
                <a:close/>
              </a:path>
            </a:pathLst>
          </a:cu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28600" y="114300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os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09480" y="182880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&amp;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28600" y="2286000"/>
            <a:ext cx="190512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oshu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971800" y="114300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lija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352680" y="182880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&amp;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7" name=""/>
          <p:cNvSpPr/>
          <p:nvPr/>
        </p:nvSpPr>
        <p:spPr>
          <a:xfrm>
            <a:off x="4191120" y="3657600"/>
            <a:ext cx="2514600" cy="11430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oph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3505320" y="2971080"/>
            <a:ext cx="1218960" cy="1219320"/>
          </a:xfrm>
          <a:custGeom>
            <a:avLst/>
            <a:gdLst>
              <a:gd name="textAreaLeft" fmla="*/ 0 w 1218960"/>
              <a:gd name="textAreaRight" fmla="*/ 1219320 w 1218960"/>
              <a:gd name="textAreaTop" fmla="*/ -360 h 1219320"/>
              <a:gd name="textAreaBottom" fmla="*/ 121932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010" stAng="10800000" swAng="5400000"/>
                <a:lnTo>
                  <a:pt x="12571" y="3150"/>
                </a:lnTo>
                <a:lnTo>
                  <a:pt x="12571" y="0"/>
                </a:lnTo>
                <a:lnTo>
                  <a:pt x="21600" y="6079"/>
                </a:lnTo>
                <a:lnTo>
                  <a:pt x="12571" y="12158"/>
                </a:lnTo>
                <a:lnTo>
                  <a:pt x="12571" y="9008"/>
                </a:lnTo>
                <a:lnTo>
                  <a:pt x="12427" y="9008"/>
                </a:lnTo>
                <a:arcTo wR="6569" hR="3152" stAng="16200000" swAng="-5400000"/>
                <a:lnTo>
                  <a:pt x="5858" y="21600"/>
                </a:lnTo>
                <a:close/>
              </a:path>
            </a:pathLst>
          </a:cu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971800" y="2286000"/>
            <a:ext cx="190512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lish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4876920"/>
            <a:ext cx="213336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65ffff"/>
                    </a:gs>
                  </a:gsLst>
                  <a:lin ang="5400000"/>
                </a:gradFill>
                <a:latin typeface="Impact"/>
              </a:rPr>
              <a:t>Mirac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65ff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200400" y="4800600"/>
            <a:ext cx="213372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65ffff"/>
                    </a:gs>
                  </a:gsLst>
                  <a:lin ang="5400000"/>
                </a:gradFill>
                <a:latin typeface="Impact"/>
              </a:rPr>
              <a:t>Mirac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65ff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12" name=""/>
          <p:cNvSpPr/>
          <p:nvPr/>
        </p:nvSpPr>
        <p:spPr>
          <a:xfrm>
            <a:off x="7086600" y="3657600"/>
            <a:ext cx="1828800" cy="11430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N.T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6172200" y="2971080"/>
            <a:ext cx="1219320" cy="1219320"/>
          </a:xfrm>
          <a:custGeom>
            <a:avLst/>
            <a:gdLst>
              <a:gd name="textAreaLeft" fmla="*/ 0 w 1219320"/>
              <a:gd name="textAreaRight" fmla="*/ 1219680 w 1219320"/>
              <a:gd name="textAreaTop" fmla="*/ -360 h 1219320"/>
              <a:gd name="textAreaBottom" fmla="*/ 121932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010" stAng="10800000" swAng="5400000"/>
                <a:lnTo>
                  <a:pt x="12571" y="3150"/>
                </a:lnTo>
                <a:lnTo>
                  <a:pt x="12571" y="0"/>
                </a:lnTo>
                <a:lnTo>
                  <a:pt x="21600" y="6079"/>
                </a:lnTo>
                <a:lnTo>
                  <a:pt x="12571" y="12158"/>
                </a:lnTo>
                <a:lnTo>
                  <a:pt x="12571" y="9008"/>
                </a:lnTo>
                <a:lnTo>
                  <a:pt x="12427" y="9008"/>
                </a:lnTo>
                <a:arcTo wR="6569" hR="3152" stAng="16200000" swAng="-5400000"/>
                <a:lnTo>
                  <a:pt x="5858" y="21600"/>
                </a:lnTo>
                <a:close/>
              </a:path>
            </a:pathLst>
          </a:cu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791320" y="114300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esu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172200" y="182880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&amp;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5791320" y="2286000"/>
            <a:ext cx="220968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postl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867280" y="4876920"/>
            <a:ext cx="213372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65ffff"/>
                    </a:gs>
                  </a:gsLst>
                  <a:lin ang="5400000"/>
                </a:gradFill>
                <a:latin typeface="Impact"/>
              </a:rPr>
              <a:t>Mirac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65ff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000"/>
                            </p:stCondLst>
                            <p:childTnLst>
                              <p:par>
                                <p:cTn id="6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500"/>
                            </p:stCondLst>
                            <p:childTnLst>
                              <p:par>
                                <p:cTn id="6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2500"/>
                            </p:stCondLst>
                            <p:childTnLst>
                              <p:par>
                                <p:cTn id="7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1066680" y="5638680"/>
            <a:ext cx="297180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rch of Titu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1066680" y="5638680"/>
            <a:ext cx="297180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rch of Titu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r. John T. Stevens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2712600"/>
            <a:ext cx="678204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JohnStevenson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Stevenson@Bellsouth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stevens@mail.tiu.e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Course Objective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 the meaning and importance of prophecy and the role of the prophet in ancient Isra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the historical framework of the time in which biblical prophecy took place to give the proper context to the mater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 the backgrounds for each of the prophets how they help properly determine the meaning of the book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Course Objective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153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an understanding of the overall messages and major themes of each of the prophets, and make appropriate applications to the Church to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the symbols and visions used in apocalyptic litera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Old Testament Designations for “Prophet”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66880" y="2133720"/>
            <a:ext cx="5181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phe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- </a:t>
            </a:r>
            <a:r>
              <a:rPr b="0" lang="en-US" sz="6000" spc="-1" strike="noStrike">
                <a:solidFill>
                  <a:srgbClr val="ffffff"/>
                </a:solidFill>
                <a:latin typeface="Bwhebb"/>
              </a:rPr>
              <a:t>ayb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rva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esseng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n of G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Stevenson</cp:lastModifiedBy>
  <dcterms:modified xsi:type="dcterms:W3CDTF">2010-03-27T16:47:49Z</dcterms:modified>
  <cp:revision>230</cp:revision>
  <dc:subject>Prophets of the Old and New Testament</dc:subject>
  <dc:title>Prophetic Voice</dc:title>
</cp:coreProperties>
</file>