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2FD-8C62-4E9E-81F2-B5CF6C3C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AEB-246C-48DB-AF8E-879DBA94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378-2803-416C-B11A-8A43FDE7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BF4-C5AC-429A-BD3B-67D0A77D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CF5-463E-46CE-97B2-7A979356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B3E-8572-4AAB-AD85-0B0ED112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4D7-7504-42A2-A794-23DBB567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10E-D12B-427A-83FC-6774B4B7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534-2DA9-4239-8705-0BD167B4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16A-A270-48F9-945A-B41B513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71B-A1CA-4429-B64C-63A34F7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F97-574B-4C1A-9E26-433F3AFB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09B1-51E1-486A-9086-225FFA99AD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o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2514600"/>
            <a:ext cx="4800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etic Boo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6:6-8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the ant, O slugg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 her ways and be wi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, having no chief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r, or rul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s her food in the summ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athers her provisions in the harv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95480" y="4876920"/>
            <a:ext cx="479124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Dilligent work br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048200" y="5638680"/>
            <a:ext cx="243828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5632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ucces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5632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6:9-1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 will you lie down, O sluggar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ill you arise from your sleep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A little sleep, a little slumb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ttle folding of the hands to rest”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poverty will come in like a vagabo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need like an armed 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5:19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the lazy is as a hedge of thorn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path of the upright is a high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11:24-25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one who scatters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all the m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 is one who withholds what is justly due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yet it resul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in wa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generous man will be prospero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ho waters will himself be wat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228600"/>
            <a:ext cx="2361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11:26-27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withholds grain, the people will curse h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blessing will be on the head of him who sel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ho diligently seeks good seeks fav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who seeks evil, evil will come to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228600"/>
            <a:ext cx="2361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11:28-29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trusts in his riches will fa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righteous will flourish like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re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ho troubles his own house will inherit wi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foolish will be servant to the wisehea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228600"/>
            <a:ext cx="2361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:27-28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withhold good from those to whom it is du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is in your power to d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not say to your neighb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, and come bac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morrow I will gi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have it with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228600"/>
            <a:ext cx="2361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22:7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ch rules over the po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borrow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com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nder’s sl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228600"/>
            <a:ext cx="2361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4:4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no oxen are, the manger is clea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uch revenu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strength of the o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228600"/>
            <a:ext cx="2361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53920" y="1219320"/>
            <a:ext cx="38102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56324"/>
              </a:gs>
              <a:gs pos="100000">
                <a:srgbClr val="022d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22:9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is generous will be bless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gives some of his food to the po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2361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19720"/>
            <a:ext cx="8305920" cy="1068840"/>
          </a:xfrm>
          <a:prstGeom prst="rect">
            <a:avLst/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that hath a bountiful eye shall be blessed; for he giveth of his bread to the poor (KJ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2743200"/>
            <a:ext cx="3429000" cy="1922760"/>
            <a:chOff x="838080" y="2743200"/>
            <a:chExt cx="3429000" cy="1922760"/>
          </a:xfrm>
        </p:grpSpPr>
        <p:sp>
          <p:nvSpPr>
            <p:cNvPr id="146" name=""/>
            <p:cNvSpPr/>
            <p:nvPr/>
          </p:nvSpPr>
          <p:spPr>
            <a:xfrm>
              <a:off x="929880" y="2911320"/>
              <a:ext cx="327672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56324"/>
                </a:gs>
                <a:gs pos="100000">
                  <a:srgbClr val="022d1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2743200"/>
              <a:ext cx="3429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aWh !yI[;-bAj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lomon’s wisdom surpassed the wisdom of all the sons of the east and all the wisdom of Egypt.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For he was wiser than all men, than Ethan the Ezrahite, Heman, Calcol and Darda, the sons of Mahol; and his fame was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known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 all the surrounding nations.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He also spok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03848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648320" y="3124080"/>
            <a:ext cx="4267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,000 proverbs, and his songs were 1,005. (1 Kings 4:30-3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53920" y="1219320"/>
            <a:ext cx="38102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56324"/>
              </a:gs>
              <a:gs pos="100000">
                <a:srgbClr val="022d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22:9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is generous will be bless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gives some of his food to the po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228600"/>
            <a:ext cx="2361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3679920"/>
            <a:ext cx="8305560" cy="3018600"/>
          </a:xfrm>
          <a:prstGeom prst="rect">
            <a:avLst/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eye is the lamp of the body; so then if your eye is clear, your whole body will be full of light.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But if your eye is bad, your whole body will be full of darkness. If then the light that is in you is darkness, how great is the darkness!” (Matthew 6:22-2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2743200"/>
            <a:ext cx="3429000" cy="1922760"/>
            <a:chOff x="838080" y="2743200"/>
            <a:chExt cx="3429000" cy="1922760"/>
          </a:xfrm>
        </p:grpSpPr>
        <p:sp>
          <p:nvSpPr>
            <p:cNvPr id="155" name=""/>
            <p:cNvSpPr/>
            <p:nvPr/>
          </p:nvSpPr>
          <p:spPr>
            <a:xfrm>
              <a:off x="929880" y="2911320"/>
              <a:ext cx="327672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56324"/>
                </a:gs>
                <a:gs pos="100000">
                  <a:srgbClr val="022d1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2743200"/>
              <a:ext cx="3429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aWh !yI[;-bAj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11:11-12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blessing of the upright a city is exalt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by the mouth of the wicked it is torn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ho despises his neighbor lacks sen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 man of understanding keeps sil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11:13-14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goes about as a talebearer reveals secret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who is trustworthy conceals a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re there is no guidance the people fal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n abundance of counselors there is victo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26:17-19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who takes a dog by the 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he who passes b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dles with strife not belonging to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ke a madman who thr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brands, arrows and death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is the man who deceives his neighb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ays, “Was I not joking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26:20-22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lack of wood the fire goes ou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ere there is no whisperer, contention quiets dow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coal to hot embers and wood to fi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s a contentious man to kindle strif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words of a whisperer are like dainty morsel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go down into the innermost parts of the bod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26:23-25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rthen vessel overlaid with silver dro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burning lips and a wicked hear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ho hates disguis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his lip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lays up deceit in his hear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he speaks graciously, do not believe h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re are seven abominations in his hear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26:26-28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ough h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red covers itself with guil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ickedness will be revealed before the assembl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ho digs a pit will fall into 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ho rolls a stone, it will come back on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ying tongue hates those it crush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flattering mouth works ru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22:10-12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 out the scoffer, and contention will go ou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strife and dishonor will c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ho loves purity of he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se speech is gracious, the king is his fri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eyes of the LORD preserve knowledg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overthrows the words of the treacherous 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22:13-14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uggard says, “There is a lion outsid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all be slain in the street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outh of an adulteress is a deep pi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is cursed of the LORD will fall int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3:1-3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ise s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cepts h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’s discipli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 scoffer does not listen to rebu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the fruit of a man’s mouth he enjoys go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desire of the treacherous is viol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one who guards his mouth preserves his lif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who opens wide his lips comes to ru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00200" y="7621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tline of Proverb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1905120"/>
            <a:ext cx="175248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2666880"/>
            <a:ext cx="1752480" cy="2743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 to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809880"/>
            <a:ext cx="182880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of Solo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1905120"/>
            <a:ext cx="182880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0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809880"/>
            <a:ext cx="1905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of Hezek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666880"/>
            <a:ext cx="373392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Verse Max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2666880"/>
            <a:ext cx="18288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r Coup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666880"/>
            <a:ext cx="16761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1905120"/>
            <a:ext cx="190512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5-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905120"/>
            <a:ext cx="182880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1905120"/>
            <a:ext cx="167616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809880"/>
            <a:ext cx="182880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f Ag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809880"/>
            <a:ext cx="167616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f King Le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5562720"/>
            <a:ext cx="3429000" cy="885960"/>
            <a:chOff x="1066680" y="5562720"/>
            <a:chExt cx="3429000" cy="885960"/>
          </a:xfrm>
        </p:grpSpPr>
        <p:sp>
          <p:nvSpPr>
            <p:cNvPr id="62" name=""/>
            <p:cNvSpPr/>
            <p:nvPr/>
          </p:nvSpPr>
          <p:spPr>
            <a:xfrm>
              <a:off x="1066680" y="58672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375 Proverb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552760" y="4838760"/>
              <a:ext cx="380880" cy="18288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17:27-28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restrains his words has knowledg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ho has a cool spirit is a man of understanding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a fool, when he keeps silent, is considered wis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closes his lips, he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sider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ud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6:1-3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s of the heart belong to ma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answer of the tongue is from the L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l the ways of a man are clean in his own sigh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LORD weighs the mo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mit your works to the L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plans will be establish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6216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6:4-6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has made everything for its own purp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e wicked for the day of ev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ryone who is proud in heart is an abomination to the LOR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redly, he will not be unpunis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lovingkindness and truth iniquity is atoned f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y the fear of the LORD one keeps away from ev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7772400" y="6216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6:7-9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man’s ways are pleasing to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makes even his enemies to be at peace with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ter is a little with righte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great income with injust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mind of man plans his w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LORD directs his step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2286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4400" y="2330280"/>
            <a:ext cx="3124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1: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lse balance is an abomination to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 just weight is His deligh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14400" y="3581280"/>
            <a:ext cx="3505320" cy="1922760"/>
            <a:chOff x="914400" y="3581280"/>
            <a:chExt cx="3505320" cy="1922760"/>
          </a:xfrm>
        </p:grpSpPr>
        <p:sp>
          <p:nvSpPr>
            <p:cNvPr id="221" name=""/>
            <p:cNvSpPr/>
            <p:nvPr/>
          </p:nvSpPr>
          <p:spPr>
            <a:xfrm>
              <a:off x="990720" y="3733920"/>
              <a:ext cx="32004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4f76"/>
                </a:gs>
                <a:gs pos="100000">
                  <a:srgbClr val="00243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4400" y="3581280"/>
              <a:ext cx="3505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hm'lev. !b,a,w&gt;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4:29-30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is slow to anger has great understand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who is quick-tempered exalts fo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tranquil heart is life to the bod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passion is rottenness to the b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1219320"/>
            <a:ext cx="12636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2911320"/>
            <a:ext cx="1295280" cy="51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5:16-17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is a little with the fear of the L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great treasure and turmoil with i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ter is a dish of vegetables where love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a fattened ox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v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hatr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362320" y="2438280"/>
            <a:ext cx="45813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ords of Agu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verbs 3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0:5-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word of God is teste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shield to those who take refuge in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not add to His wo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 will reprove you, and you will be proved a li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0:7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hings I asked of Yo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refuse me before I die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eep deception and lies far from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neither poverty nor rich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 me with the food that is my portion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I not be full and den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ay, “Who is the LORD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that I not be in want and stea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rofane the name of my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080" y="685800"/>
            <a:ext cx="2819520" cy="1238400"/>
          </a:xfrm>
          <a:prstGeom prst="rect">
            <a:avLst/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mol{v.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971800" y="5334120"/>
            <a:ext cx="2819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37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4191120"/>
            <a:ext cx="10670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3505320"/>
            <a:ext cx="7617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m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895480"/>
            <a:ext cx="9144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038320"/>
            <a:ext cx="9907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v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234324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312408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380988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449568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1814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0:11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kind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urses his fa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oes not bless his m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re is a kind who is pure in his own ey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is not washed from his filthine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re is a kind-- oh how lofty are his eye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eyelids are rais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arrog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0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kind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se teeth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o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jaw tee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iv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vour the afflicted from the ea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needy from among 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0:15-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ech has two daughters, “Give,” “Giv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things that will not be satisfi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that will not say, “Enough”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ol, and the barren womb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that is never satisfied with wat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ire that never says, “Enough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0:18-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things which are too wonderful for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which I do not understand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way of an eagle in the sk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a serpent on a roc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a ship in the middle of the se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way of a man with a m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udy and present the roles of the following women in Proverb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80520" y="2895480"/>
            <a:ext cx="3048120" cy="1371600"/>
          </a:xfrm>
          <a:prstGeom prst="rect">
            <a:avLst/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of Fol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1905120" cy="18208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666880" y="304920"/>
            <a:ext cx="366264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419720"/>
            <a:ext cx="3124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16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:3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:1-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2895480"/>
            <a:ext cx="3048120" cy="1371600"/>
          </a:xfrm>
          <a:prstGeom prst="rect">
            <a:avLst/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ise Wom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4419720"/>
            <a:ext cx="3124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20-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:1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:1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1: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ng of gold in a swine’s sn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autiful woman who lacks discre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Excellent Wife</a:t>
            </a:r>
            <a:br>
              <a:rPr sz="48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verbs 31:10-3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conducts her affairs in such a way as to instill trust on the part of her husband (31: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both hard-working and 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not afraid to engage in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is given both to her husband as well as to 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743200" y="1295280"/>
            <a:ext cx="3276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10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cellent wife, who can fin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r worth is far above jew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09480" y="3657600"/>
            <a:ext cx="5867640" cy="2104920"/>
            <a:chOff x="609480" y="3657600"/>
            <a:chExt cx="5867640" cy="2104920"/>
          </a:xfrm>
        </p:grpSpPr>
        <p:sp>
          <p:nvSpPr>
            <p:cNvPr id="270" name=""/>
            <p:cNvSpPr/>
            <p:nvPr/>
          </p:nvSpPr>
          <p:spPr>
            <a:xfrm>
              <a:off x="685800" y="3657600"/>
              <a:ext cx="579132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4f76"/>
                </a:gs>
                <a:gs pos="100000">
                  <a:srgbClr val="00243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9480" y="3657600"/>
              <a:ext cx="28958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lyIx;-tv,ae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0400" y="392256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Isheth-chayil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14400" y="457200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A woman of might”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743200" y="1295280"/>
            <a:ext cx="3276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10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cellent wife, who can fin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r worth is far above jew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09480" y="3657600"/>
            <a:ext cx="5867640" cy="2104920"/>
            <a:chOff x="609480" y="3657600"/>
            <a:chExt cx="5867640" cy="2104920"/>
          </a:xfrm>
        </p:grpSpPr>
        <p:sp>
          <p:nvSpPr>
            <p:cNvPr id="281" name=""/>
            <p:cNvSpPr/>
            <p:nvPr/>
          </p:nvSpPr>
          <p:spPr>
            <a:xfrm>
              <a:off x="685800" y="3657600"/>
              <a:ext cx="579132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4f76"/>
                </a:gs>
                <a:gs pos="100000">
                  <a:srgbClr val="00243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480" y="3657600"/>
              <a:ext cx="28958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lyIx;-tv,ae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00400" y="392256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Isheth-chayil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4400" y="457200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A woman of might”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523880" y="5638680"/>
            <a:ext cx="632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54100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 were in Israel eight hundred thousand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valiant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men who drew the sword (2 Sam 24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66880" y="2835360"/>
            <a:ext cx="14479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10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cellent wife, who can fin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r worth is far above jew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590920" y="3809880"/>
            <a:ext cx="4343400" cy="3110400"/>
            <a:chOff x="2590920" y="3809880"/>
            <a:chExt cx="4343400" cy="3110400"/>
          </a:xfrm>
        </p:grpSpPr>
        <p:sp>
          <p:nvSpPr>
            <p:cNvPr id="294" name=""/>
            <p:cNvSpPr/>
            <p:nvPr/>
          </p:nvSpPr>
          <p:spPr>
            <a:xfrm>
              <a:off x="2590920" y="4038480"/>
              <a:ext cx="434340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4f76"/>
                </a:gs>
                <a:gs pos="100000">
                  <a:srgbClr val="00243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6880" y="3809880"/>
              <a:ext cx="236232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~ynIynIP.mi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24280" y="403848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“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Coral”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0: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verbs of Solom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ise son makes a father gla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 foolish son is a grief to his mo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743200" y="2819520"/>
            <a:ext cx="990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1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rt of her husband trusts in h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ill have no lack of 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14400" y="3581280"/>
            <a:ext cx="6172200" cy="1008360"/>
            <a:chOff x="914400" y="3581280"/>
            <a:chExt cx="6172200" cy="1008360"/>
          </a:xfrm>
        </p:grpSpPr>
        <p:sp>
          <p:nvSpPr>
            <p:cNvPr id="304" name=""/>
            <p:cNvSpPr/>
            <p:nvPr/>
          </p:nvSpPr>
          <p:spPr>
            <a:xfrm>
              <a:off x="914400" y="3581280"/>
              <a:ext cx="6172200" cy="99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4f76"/>
                </a:gs>
                <a:gs pos="100000">
                  <a:srgbClr val="00243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3581280"/>
              <a:ext cx="1523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ll'v'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37861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Shalal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62520" y="3769920"/>
              <a:ext cx="30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Prey, boot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743200" y="2819520"/>
            <a:ext cx="990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1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rt of her husband trusts in h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ill have no lack of 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14400" y="3581280"/>
            <a:ext cx="6172200" cy="1008360"/>
            <a:chOff x="914400" y="3581280"/>
            <a:chExt cx="6172200" cy="1008360"/>
          </a:xfrm>
        </p:grpSpPr>
        <p:sp>
          <p:nvSpPr>
            <p:cNvPr id="315" name=""/>
            <p:cNvSpPr/>
            <p:nvPr/>
          </p:nvSpPr>
          <p:spPr>
            <a:xfrm>
              <a:off x="914400" y="3581280"/>
              <a:ext cx="6172200" cy="99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4f76"/>
                </a:gs>
                <a:gs pos="100000">
                  <a:srgbClr val="00243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14400" y="3581280"/>
              <a:ext cx="1523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ll'v'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0" y="37861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Shalal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2520" y="3769920"/>
              <a:ext cx="30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Prey, boot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914400" y="464832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njamin is a ravenous wolf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 the morning he devours the pre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in the evening he divides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poil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enesis 49:2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743200" y="2819520"/>
            <a:ext cx="990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f76"/>
              </a:gs>
              <a:gs pos="100000">
                <a:srgbClr val="00243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1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rt of her husband trusts in h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ill have no lack of 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914400" y="3581280"/>
            <a:ext cx="6172200" cy="1008360"/>
            <a:chOff x="914400" y="3581280"/>
            <a:chExt cx="6172200" cy="1008360"/>
          </a:xfrm>
        </p:grpSpPr>
        <p:sp>
          <p:nvSpPr>
            <p:cNvPr id="327" name=""/>
            <p:cNvSpPr/>
            <p:nvPr/>
          </p:nvSpPr>
          <p:spPr>
            <a:xfrm>
              <a:off x="914400" y="3581280"/>
              <a:ext cx="6172200" cy="99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4f76"/>
                </a:gs>
                <a:gs pos="100000">
                  <a:srgbClr val="00243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" y="3581280"/>
              <a:ext cx="1523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ll'v'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37861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Shalal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62520" y="3769920"/>
              <a:ext cx="30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Prey, booty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914400" y="46483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behold, the servants of David and Joab came from a raid and brought much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poil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ith them (2 Samuel 3:2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12-14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743200" y="1219320"/>
            <a:ext cx="5562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does him good and not ev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days of her li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89548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looks for wool and fla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orks with her hands in del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is like merchant ship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brings her food from af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15-16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rises also while it is still nig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ives food to her househ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ortions to her maid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3962520"/>
            <a:ext cx="7391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considers a field and buys i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er earnings she plants a vine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17-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girds herself with streng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kes her arms st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289548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senses that her gain is goo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lamp does not go out at n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stretches out her hands to the distaf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r hands grasp the spind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20-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extends her hand to the po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e stretches out her hands to the nee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3352680"/>
            <a:ext cx="7391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is not afraid of the snow for her househol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er household are clothed with scarle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makes coverings for herself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clothing is fine linen and pur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23-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husband is known in the gat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sits among the elders of the 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3352680"/>
            <a:ext cx="7391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makes linen garments and sel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upplies belts to the tradesm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rength and dignity are her cloth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e smiles at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2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opens her mouth in wisdo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teaching of kindness is on her ton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3352680"/>
            <a:ext cx="7391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27-2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looks well to the ways of her househol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oes not eat the bread of idle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3352680"/>
            <a:ext cx="7391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children rise up and bless her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husb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he praises her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y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Many daughters have done nobl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you excel them all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0:2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-gotten gains do not prof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righteousness delivers from deat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ORD will not allow the righteous to hung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will reject the craving of the wick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or is he who works with a negligent ha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hand of the diligent makes ric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5000" y="5715000"/>
            <a:ext cx="29718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mon the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31:30-3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743200" y="121896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m is deceitful and beauty is vai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who fears the LORD, she shall be prais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52280" y="2286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Wife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52280" y="914400"/>
            <a:ext cx="2590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ell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9" name=""/>
          <p:cNvSpPr/>
          <p:nvPr/>
        </p:nvSpPr>
        <p:spPr>
          <a:xfrm>
            <a:off x="914400" y="3352680"/>
            <a:ext cx="7391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e her the product of her hand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t her works praise her in the g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ssons from the Proverb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Universal need for Wisd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Universal Arena of Wisd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Wise is also what is G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nciples rather than Prom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real view of the real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ians are called to be street-sm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practical examples from your own life in which you have or have not used wisdom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1905120" cy="182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0:5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gathers in summer is a son who acts wisel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sleeps in harvest is a son who acts sham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5000" y="5715000"/>
            <a:ext cx="29718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mon the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19400" y="3809880"/>
            <a:ext cx="479088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killed work br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62400" y="457200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5632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ucces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5632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0:26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vinegar to the teeth and smoke to the ey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s the lazy one to those who send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19400" y="3809880"/>
            <a:ext cx="479088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killed work br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62400" y="457200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5632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ucces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5632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0:29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see a man skilled in his work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stand before king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not stand before obscure 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0666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19400" y="3809880"/>
            <a:ext cx="479088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killed work br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62400" y="457200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5632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ucces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5632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6-03-12T00:22:05Z</dcterms:modified>
  <cp:revision>329</cp:revision>
  <dc:subject/>
  <dc:title>Poetic Books</dc:title>
</cp:coreProperties>
</file>