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BEE-7651-44E3-B486-DCCCE2FF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D28-3558-4C80-A6BB-B30FB7B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76B-AD5F-4FDE-AA17-406EF025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C59-2031-491E-AD52-C7CC9373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A61-CB60-4416-A66C-05446311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F0A-7020-49E6-9C95-9A73C378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CC8-4085-407B-A99C-A7E47A5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8B5-E40C-4FC5-BDE0-4F52E9F3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95C-D084-47F1-A704-B8B4B54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D99-0F20-465C-883A-565A6A6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42D-E75A-4933-BA35-42FB872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713-D7DD-4068-AB80-3ABC7E6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9CB-C9A8-4B11-99B7-9F7DBE2AFD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5146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etic 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114800" cy="76536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salm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41148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2280"/>
            <a:ext cx="4114800" cy="76536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914400"/>
            <a:ext cx="41148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s to our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002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s to our Intel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6668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in the prayer clo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6668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ut in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3392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 how to be holy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73392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 how to practice holiness befor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25780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 Lord with all your heart, soul, and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525780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your neighbor as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Nature of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isdom Literatur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s apart from God’s covena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ntion made of Moses or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ature of its Inspired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observation of nature instead of “thus says the Lo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5181480"/>
            <a:ext cx="8001000" cy="1371600"/>
            <a:chOff x="533520" y="5181480"/>
            <a:chExt cx="8001000" cy="1371600"/>
          </a:xfrm>
        </p:grpSpPr>
        <p:sp>
          <p:nvSpPr>
            <p:cNvPr id="98" name=""/>
            <p:cNvSpPr/>
            <p:nvPr/>
          </p:nvSpPr>
          <p:spPr>
            <a:xfrm>
              <a:off x="533520" y="5181480"/>
              <a:ext cx="22096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God spoke i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various way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(Heb. 1:1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51814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os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9720" y="5181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ophan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56386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he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60958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ag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56386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piritual communic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9720" y="60958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ightful observ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4:30-3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91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ssed by the field of the slugg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y the vineyard of the man lacking sens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hold, it was completely overgrown with thistl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surface was covered with nettl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s stone wall was broken dow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83808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4:32-34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66680" y="838080"/>
            <a:ext cx="7391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w, I reflected upon 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ok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 instruc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A little sleep, a little slu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folding of the hands to rest,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your poverty will co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b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want like an armed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83808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00200" y="7621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line of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905120"/>
            <a:ext cx="175248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666880"/>
            <a:ext cx="1752480" cy="2743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Solo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09880"/>
            <a:ext cx="1905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Hezek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666880"/>
            <a:ext cx="37339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Verse Max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666880"/>
            <a:ext cx="18288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 Cou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2666880"/>
            <a:ext cx="16761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1905120"/>
            <a:ext cx="190512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5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905120"/>
            <a:ext cx="167616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Ag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3809880"/>
            <a:ext cx="16761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King Le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6520" y="2209680"/>
            <a:ext cx="56433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ppeal of Wisd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2438280"/>
            <a:ext cx="17528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, my son, your father’s i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 not forsake your mother’s teaching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deed, they are a graceful wreath to your h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rnaments about your n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5105520"/>
            <a:ext cx="3886200" cy="1099440"/>
            <a:chOff x="838080" y="5105520"/>
            <a:chExt cx="3886200" cy="1099440"/>
          </a:xfrm>
        </p:grpSpPr>
        <p:sp>
          <p:nvSpPr>
            <p:cNvPr id="131" name=""/>
            <p:cNvSpPr/>
            <p:nvPr/>
          </p:nvSpPr>
          <p:spPr>
            <a:xfrm>
              <a:off x="1218960" y="5257800"/>
              <a:ext cx="34290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8080" y="5105520"/>
              <a:ext cx="2362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hr'AT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533412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Torah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10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if sinners entice yo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ons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y say, “Come with 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lie in wait for blo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ambush the innocent without cause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swallow them alive like Sheo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whole, as those who go down to the pit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ind a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precious weal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fill our houses with spoil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w in your lot with 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all all have one purse,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15-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do not walk in the way with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feet from their path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ir feet run to ev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hasten to shed bloo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835200"/>
            <a:ext cx="251460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2840" y="1828440"/>
            <a:ext cx="2133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&amp;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828800"/>
            <a:ext cx="25146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971800"/>
            <a:ext cx="25146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sa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9112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835200"/>
            <a:ext cx="213372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97180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&amp;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19112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828800"/>
            <a:ext cx="41148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bad things happen to good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835200"/>
            <a:ext cx="411480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971800"/>
            <a:ext cx="4114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I approach G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41911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all I l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17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, it is useless to spread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it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ight of any bird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y lie in wait for their own bloo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mbush their own l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are the ways of everyone who gains by violenc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kes away the life of its possess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411480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:10-1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411480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nticement of Sinn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523880"/>
            <a:ext cx="411480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:20-3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362320"/>
            <a:ext cx="411480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ppeal of Wis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0440" y="1311120"/>
            <a:ext cx="28958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0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dom shouts in the stre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lifts her voice in the square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head of the nois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ree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ries ou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trance of the gates in the city she utters her saying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876920"/>
            <a:ext cx="411480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First line is plura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n returns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2-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, O naive ones, will you love being simple-mind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coffers delight themselves in scoffing And fools hate knowledg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urn to my repro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I will pour out my spirit on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my words known to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4-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 called and you refus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tretched out my hand and no one paid attention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neglected all my couns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d not want my reproof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6-2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lso laugh at your calamity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ock when your dread come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r dread comes like a st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calamity comes like a whirlwi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stress and anguish come upo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8-2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will call on me, but I will not answ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seek me diligently but they will not find m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they hated knowled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d not choose the fear of the L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5530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 everyone who hears these words of Mine and acts on them, may be compared to a wise man who built his house on the rock.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the rain fell, and the floods came, and the winds blew and slammed against that house; and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did not fall, for it had been founded on the rock.” (Matthew 7:24-2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5530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veryone who hears these words of Mine and does not act on them, will be like a foolish man who built his house on the sand.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rain fell, and the floods came, and the winds blew and slammed against that house; and it fell-- and great was its fall.”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atthew 7:26-2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358128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hapter 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3581280" cy="2514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sdom calls out for the reader to 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295280"/>
            <a:ext cx="358128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hapter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286000"/>
            <a:ext cx="3581280" cy="2514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ader is told to search out Wisd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ook of Wisdo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67120" y="2076480"/>
            <a:ext cx="34336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if you will receive my wo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reasure my commandments within you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ke your ear attentive to wisdo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ine your heart to understanding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f you cry for discernmen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your voice for understanding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you seek her as si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earch for her as for hidden treasure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you will discern the fear of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scover the knowledg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:6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ORD gives wisdom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is mou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and understandin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stores up sound wisdom for the uprig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ield to those who walk in integrity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uarding the paths of justi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preserves the way of His godly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:21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upright will live in th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blameless will remain in it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 wicked will be cut off from th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treacherous will be uprooted from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666880" y="2286000"/>
            <a:ext cx="35625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st the Lo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verbs 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do not forget my teach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let your heart keep my commandment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or length of days and years of life And peace they will add to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et kindness and truth leave you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 them around your ne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m on the tablet of your hear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you will find favor and good re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ight of God and 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in the LORD with all your he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 not lean on your own understandin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ll your ways acknowledge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make your paths stra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7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wise in your own ey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the LORD and turn away from evi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will be healing to your bo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freshment to your b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the LORD from your weal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rom the first of all your produce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your barns will be filled with plen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vats will overflow with new w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goes aroun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es a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219320"/>
            <a:ext cx="7967520" cy="119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some modern day Proverb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re the proverbs…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2743200" cy="914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056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057400"/>
            <a:ext cx="2743200" cy="914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3505320"/>
            <a:ext cx="5105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ingle Proverb contains all the tru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ust all be taken and weighed togeth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143000"/>
            <a:ext cx="3657600" cy="4419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pen is mightier than the sword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1143000"/>
            <a:ext cx="3657600" cy="4419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676520"/>
            <a:ext cx="266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tions speak louder than wor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480" y="1143000"/>
            <a:ext cx="3657600" cy="4419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’re never too old to lear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1143000"/>
            <a:ext cx="3657600" cy="4419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1676520"/>
            <a:ext cx="266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 can’t teach an old dog new trick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6: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4114800" cy="2362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123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answer a fool according to his fol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will also be like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6: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1523880"/>
            <a:ext cx="4114800" cy="2362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123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a fool as his fol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not be wise in his own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17: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4114800" cy="3353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123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conceals a transgression seeks lov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ho repeats a matter separates intimate frie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520"/>
            <a:ext cx="4114800" cy="914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 28: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1523880"/>
            <a:ext cx="4114800" cy="3353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123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rebukes a man will afterward fi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v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he who flatters with the ton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cribes a situation in life without commenting on whether it is good or ba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3880" y="1981080"/>
            <a:ext cx="59295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752120"/>
            <a:ext cx="6858000" cy="266724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bribe is a charm in the sight of its owner;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rever he turns, he prospers. (Proverbs 17: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57400" y="533520"/>
            <a:ext cx="49388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1905120"/>
            <a:ext cx="6553440" cy="266688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poor is hated even by his neighbor,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ut those who love the rich are many. (Proverbs 14: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057400" y="533520"/>
            <a:ext cx="49388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criptive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590920"/>
            <a:ext cx="746280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verbs as a Creation Ordin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19-2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by wisdom founded the ear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understanding He established the heave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His knowledge the deeps were broken 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kies drip with dew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14800" y="3429000"/>
            <a:ext cx="91440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itle of the boo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22440" y="2995560"/>
            <a:ext cx="1752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verbs of Solomon the son of David, king of Israel (Proverbs 1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19080" y="5562720"/>
            <a:ext cx="129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lv;m'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6080" y="494820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6160" y="5707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h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21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let them not vanish from your sig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sound wisdom and discre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y will be life to your so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dornment to your nec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23-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you will walk in your way secur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foot will not stum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lie down, you will not be afrai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lie down, your sleep will be sw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25-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fraid of sudden f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of the onslaught of the wicked when it come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LORD will be your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ll keep your foot from being cau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8120" y="1828800"/>
            <a:ext cx="27432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91120" y="2666880"/>
            <a:ext cx="38088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743200" y="3276720"/>
            <a:ext cx="33148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ves of the He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1440" y="510840"/>
            <a:ext cx="563868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4:20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on, give attention to my word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ine your ear to my say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not let them depart from your sigh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em in the midst of your he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44792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228600"/>
            <a:ext cx="3429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ves of the He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440" y="510840"/>
            <a:ext cx="563868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4:22-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y are life to those who find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lth to all their bod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tch over your heart with all dilige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rom i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o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rings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44792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228600"/>
            <a:ext cx="3429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ves of the He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18148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know wisdom and instruc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scern the sayings of understand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ceive instruction in wise behavi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, justice and equ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prudence to the naiv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youth knowledge and discre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360" y="10666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wise man will hear and increase in learn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man of understanding will acquire wise couns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understand a proverb and a fig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of the wise and their ridd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3886200"/>
            <a:ext cx="15242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xodus 28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"And you shall make holy garments for Aaron your brother, for glory and for beau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"And you shall speak to all the skillful persons whom I have endowed with the spirit of wisdom, that they make Aaron's garments to consecrate him, that he may minister as priest to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ar of the LORD is the beginning of knowledg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ls despise wisdom and in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350532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3040" y="4032360"/>
            <a:ext cx="53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ear that Drives A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2680" y="4768920"/>
            <a:ext cx="58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ear that brings Wo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6-02-11T09:30:45Z</dcterms:modified>
  <cp:revision>293</cp:revision>
  <dc:subject/>
  <dc:title>Poetic Books</dc:title>
</cp:coreProperties>
</file>